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D8C-43CE-4718-9B27-7F3A6C0109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BAC-4456-4416-9289-CC4A9C8E85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FC75-622B-40B0-AE32-C5CF2CA81E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B1ED-FD37-4FDE-9F63-C1260F46BB2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B34-35E3-4082-9B3E-52A79C14F00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EE3-A687-429A-BEA6-5F3F098B9F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CF2-DA9F-4C19-B189-20ED264B2A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60F-3748-43F9-810A-A86678DFDEE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DAE7-E991-4B07-83B5-A4AE9E2650D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77E-64FA-4563-9D2D-17220159E2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CBE-774C-4651-A4B2-8FC64BBBE33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898-008A-4E2F-9806-52AF72981F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2F79-FF63-49D4-94EE-573241B803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CFB6-4A86-44C2-9579-A5D8AFBE0AD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466-1B72-4924-9D36-849998FF80F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1803-49FA-4F17-B953-25579EE66D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698-0AF3-4BCD-AE36-839BE161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33F-CFA6-4A81-94B7-5F0B3F7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AFACE-9E06-45EB-8836-C093D4B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980B9-F53B-4B67-A884-E8EC159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AF362-5237-457B-8B8B-90C3243A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FB4E8-157B-41AF-90A3-0D608B9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6B522-38DA-423C-A895-77DDBFD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5874-D1F6-480E-8A1F-785394C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6FB7-1076-4183-8A1F-D824E76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B83A-5718-4CE7-B963-CE681180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71731-9D75-4657-9489-76DD612A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A410-EC60-4338-93A6-540E0D89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130-F5CF-4391-B4CD-BE34555A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1C37-CD53-4499-9F8D-E2C56C0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BFD54-639C-45A2-9C4A-228A4BF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678B-90DB-40C6-ADA6-5F91F2EF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028C-BC73-4385-AF86-734B0F4E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F2574-7CEC-4980-8840-1701BEB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9915-CA52-4672-8DA7-E2DA5D1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7E995-9975-4181-BABA-7ACC867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C2F19-5798-4292-98F2-E6DA8BD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B2C1C-FE47-4621-8019-B36C17DF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C675B-BB06-4E83-9C23-8395DE77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641-8687-4B7A-A046-AA60E73E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A1E99-8540-41FE-A2A6-F3C946A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2ABA-8BFE-4D68-B717-1A1627EA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7307A-4F32-4E7B-9931-EADDC0E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874AA-F17C-446F-9D3E-9EE783B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A3258-D4D6-414B-B327-9C7F0940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53768-0653-4A41-A2C9-4F59ACC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C879-FB87-42F7-B871-AB27398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1E6F-FEE0-4C85-8CFF-E4E5C7C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820D-98F5-4BA1-A6B3-CD9677B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EFF16-C2B9-406F-AAFB-0FD72D4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DC91-F83A-4A5A-BBAA-0CD26AF4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84447-C10E-45CD-BA97-6CED041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5CCF5-0D8B-4F02-AC28-95532AB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5CB88-B2DE-4D35-BC2A-40E10136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AB799-FD77-4168-9D25-9075D77D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B9EF1-3F2F-47DC-937F-00B5E81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1A532-FB9C-4FEF-86CB-3FE3B5E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0995-9C2D-4814-A6AB-4ABDA3F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38BA9-4757-42C1-A7EF-5AA4168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85B45-12DE-437D-9A14-5349944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5AA9-A278-4F79-AA52-BA627EC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3F91-E653-488A-82A6-4DE5545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FB24-A99B-4B67-B81E-0014D60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9C51F-1135-468E-9C1D-0265C482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BEE5C-06E4-4BE5-9F6D-C6FA8B65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837C0-6E83-45D8-A54C-39E46D5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DF003-01FE-4820-9763-2B3CDB46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52CAD-A801-4918-A1AF-FC8B6A01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A13D1-BEA5-4D3B-ABBF-8BE577F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4E25D-38CC-4029-8BEC-02CF7BD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4D6F0-C11C-4BE4-8A32-B3ADDCE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71591-B98A-4BB6-B691-18EA0612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7C5-ACB7-459A-B86D-73FFC9AA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2A152-3BCF-4EBC-890B-54F7809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8AEAA-4925-47BC-ABEC-100F42B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A3A99-F5B4-478B-97F6-9B2406E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D4914-983A-42EB-BAFE-DFB158B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B1491-50E7-4DE8-9346-C7C803D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A4628-1C36-45E2-8EB5-DFC4404F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66890-FCC1-4BD9-BBC9-527FB8C1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E9EF-3074-42BE-9096-7BC0257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6FE-9C1E-4279-B66A-FCF3D68D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B521-61DC-4F74-B00A-04C1DE5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C948-DBFF-444C-9852-CAE0435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BDB-5F9D-4AF6-B13B-4E19294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27F-82A5-41C5-A7CB-4F65AEC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7C4-0CA7-4035-B605-6BA79005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53B4-AE86-4BB2-AD1C-799A91F7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B52-F394-4525-B5F9-993BD3F5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E57-6F51-4452-A2F1-38F4AA4D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3D59-B68A-49E1-9F59-A515BA0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210E-7087-4AF1-9017-8DA7AA08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81E6-C30C-4EE2-9FCF-EC9908C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5629-193E-40B2-B222-444B92F0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17FE-B33E-4895-A8A9-47A3BEA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CBD-1777-4466-B669-5D86486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A413-F705-4E8E-8C28-B8AC69B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7EEF-EA6A-4AB8-B7BF-00B80FC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74BE-DAB8-4EA8-8D3B-C6E7D30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76B6-033F-44CA-9362-1EFCED7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3018-4417-49C5-B1C8-731F0C4A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50C6-9E7F-443A-B86C-7412882B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44D5-E168-4309-AD4F-D467BC2D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9A69-D571-487D-B98F-3CD89EF5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77F5-B2EF-429A-A5B2-F062117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ABB0-D739-41AF-B1ED-2B17F0D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93E-0507-44FF-B6EF-C51A6EF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08BA-F75C-46B2-AEF4-F1BEDE8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7D7D-3C3C-4B79-9E1E-2056C41C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023F-B6A1-4531-941C-23A579F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5A2C-DD53-461D-BB88-77CB622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6C77-6B90-4A26-AA58-2815E47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F860-3D6B-43BA-AACF-F5E3E1E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935E-A371-42E4-9813-AA69C3C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5088-1E49-47E4-AE2C-A7826F07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B9E2-1779-45F3-B8B3-EBF00B9F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C85E-82B3-4762-BE62-90BEB30D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345-4541-423A-90FC-FBBA4F8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739E-0CA8-4719-AE77-21D6A5A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0BD4-9A69-4621-BF67-FEC8D58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E129-12B2-4EED-996C-5E2557AA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CB29-4BE8-4F96-BA39-3594370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DBB3-7398-4805-88C0-F75176D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AC82-6092-4CE9-9FE2-86ACB9A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9AB7-381D-4631-80A0-2D981C7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A7CC-8757-47E8-A764-CFEDA01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519C-8DEF-4977-B190-08E43AAF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720D-E783-489D-8570-C65FFC02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07A-A3F0-4B23-82D5-F53E40C7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F7ED-1D8D-4386-9374-30D8C882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30C8-1FB6-4BE4-BD86-EDD50F7C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DCA14-0E05-4AE7-9EB6-FB77580F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1EC8-0AA5-47C5-9445-BECA950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B36D-CCAA-4715-BBBD-2EA4FA7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D53D-7001-421B-971D-83038387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EC98-EEBB-45B5-A9FF-F5FA3E8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4CB1-C48A-46FA-8259-21A23D6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F83E-A617-4EDE-92AB-115DA1B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B72B-653D-4EF5-8885-3557A42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9BA-2D8F-47BF-9CD7-4E0D523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7E1B-5B27-4FB7-942E-66016A7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7571-37B8-43D1-940D-04FBE80A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C4B5E-66A2-4B53-AF1F-4A8EF03C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42BE-9705-400D-8886-D2CED51F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5B2F-C4C4-4295-995E-D8EE6B36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9B1E0-7CFB-4036-9B48-8C3A98A4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8B4F-0995-43D7-A107-E8A37AD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A758-3E03-4E34-BEF5-90D21BEA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1D07-39B4-4A7E-BCFA-038D8211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7FB16-B54F-49B2-942C-C8CA2F0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36D-C6BD-46B2-B3AA-0FC5257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AAF6-B8A5-4C25-9898-FAADE31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3FC6-7314-46D5-B8EE-4177036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DCDF4-BFF3-4F81-8D2E-E6F571A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B179-05EB-4770-8FCC-89DA41F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D2CB-0721-4B1A-838B-A69636B0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F649-E721-4F55-8BC9-6C6C4F57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D524-A954-4426-8447-7528E1C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36001-D6D1-499E-85DF-8EC5BFA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29DD-9A1C-4026-A94A-657C74E6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D9D6-30B2-4614-971B-BD2D73A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C3B-2144-4262-9CF5-E09D80C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2B2D-87FD-49E6-888E-15DAAD8E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4F07B-FB48-4CF4-9E86-E547834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9064-A2E1-4257-8F36-43C13D5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1066-C8F5-4D84-93EF-19BA73CB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3F7F-6FCA-46E8-813B-E5B7B13F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97507-F2F1-4200-A0E3-8016661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6D61-CA4B-488B-A9CA-EADDF791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D2804-A2A5-41AD-B49B-5D1BBEC9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F4ACC-CC1A-4D4C-8D96-79258AEF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0052-6420-4A2E-A4F4-D7538119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5DD6-D28D-44AB-B9A1-187410F4B64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AD8C-7402-4B79-86B7-7592C10C0B1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956-FFD2-4813-BA1D-CE6C445D3DF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2E4B-EDD5-48CE-9AAC-83EA10C4D1F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4CB-21B1-4DA0-994F-AFEC72F7BF1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452-B140-4CAD-BF73-D24CF62B0E8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2F85-5C94-4663-A4FC-8D531746668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6B6-7D3E-4987-8139-896F7257E8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988C-40D7-409A-84A9-6083F2260E5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6C4-D834-465B-A0E3-3E1A4D2290D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D44-5F28-4D53-9D26-206F6B28693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EF0-415E-4EDD-BED0-4E77A205028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74A3-F7DC-41B6-9E4C-D4F5CCDC36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b7"/>
                </a:solidFill>
                <a:latin typeface="Arial Black"/>
                <a:cs typeface="Nazanin"/>
              </a:rPr>
              <a:t>ب</a:t>
            </a:r>
            <a:r>
              <a:rPr b="0" lang="fa-IR" sz="7200" spc="-1" strike="noStrike">
                <a:solidFill>
                  <a:srgbClr val="ffffb7"/>
                </a:solidFill>
                <a:latin typeface="Arial Black"/>
                <a:cs typeface="Nazanin"/>
              </a:rPr>
              <a:t>ه </a:t>
            </a:r>
            <a:r>
              <a:rPr b="0" lang="ar-SA" sz="7200" spc="-1" strike="noStrike">
                <a:solidFill>
                  <a:srgbClr val="ffffb7"/>
                </a:solidFill>
                <a:latin typeface="Arial Black"/>
                <a:cs typeface="Nazanin"/>
              </a:rPr>
              <a:t>نام</a:t>
            </a:r>
            <a:r>
              <a:rPr b="0" lang="en-US" sz="7200" spc="-1" strike="noStrike">
                <a:solidFill>
                  <a:srgbClr val="ffffb7"/>
                </a:solidFill>
                <a:latin typeface="Arial Black"/>
                <a:ea typeface="Nazanin"/>
              </a:rPr>
              <a:t> </a:t>
            </a:r>
            <a:r>
              <a:rPr b="0" lang="fa-IR" sz="7200" spc="-1" strike="noStrike">
                <a:solidFill>
                  <a:srgbClr val="ffffb7"/>
                </a:solidFill>
                <a:latin typeface="Arial Black"/>
                <a:cs typeface="Nazanin"/>
              </a:rPr>
              <a:t>خداوند</a:t>
            </a:r>
            <a:r>
              <a:rPr b="0" lang="ar-SA" sz="7200" spc="-1" strike="noStrike">
                <a:solidFill>
                  <a:srgbClr val="ffffb7"/>
                </a:solidFill>
                <a:latin typeface="Arial Black"/>
                <a:ea typeface="Nazanin"/>
              </a:rPr>
              <a:t> هستي بخش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 Black"/>
                <a:cs typeface="B Titr"/>
              </a:rPr>
              <a:t>جدول شماره 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B Titr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B Titr"/>
              </a:rPr>
              <a:t> : واكنش, فاصله تزريق وميزان بروز واكنشها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0" y="1500120"/>
            <a:ext cx="9143640" cy="4586760"/>
            <a:chOff x="0" y="1500120"/>
            <a:chExt cx="9143640" cy="4586760"/>
          </a:xfrm>
        </p:grpSpPr>
        <p:grpSp>
          <p:nvGrpSpPr>
            <p:cNvPr id="606" name="Group 4"/>
            <p:cNvGrpSpPr/>
            <p:nvPr/>
          </p:nvGrpSpPr>
          <p:grpSpPr>
            <a:xfrm>
              <a:off x="9360" y="1530720"/>
              <a:ext cx="9123120" cy="4556160"/>
              <a:chOff x="9360" y="1530720"/>
              <a:chExt cx="9123120" cy="4556160"/>
            </a:xfrm>
          </p:grpSpPr>
          <p:grpSp>
            <p:nvGrpSpPr>
              <p:cNvPr id="607" name="Group 5"/>
              <p:cNvGrpSpPr/>
              <p:nvPr/>
            </p:nvGrpSpPr>
            <p:grpSpPr>
              <a:xfrm>
                <a:off x="9360" y="1530720"/>
                <a:ext cx="1918800" cy="1356480"/>
                <a:chOff x="9360" y="1530720"/>
                <a:chExt cx="1918800" cy="1356480"/>
              </a:xfrm>
            </p:grpSpPr>
            <p:sp>
              <p:nvSpPr>
                <p:cNvPr id="608" name="Rectangle 6"/>
                <p:cNvSpPr/>
                <p:nvPr/>
              </p:nvSpPr>
              <p:spPr>
                <a:xfrm>
                  <a:off x="111240" y="1530720"/>
                  <a:ext cx="1715040" cy="13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واكنش در يك ميليون دوز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7"/>
                <p:cNvSpPr/>
                <p:nvPr/>
              </p:nvSpPr>
              <p:spPr>
                <a:xfrm>
                  <a:off x="9360" y="1530720"/>
                  <a:ext cx="1918800" cy="135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8"/>
              <p:cNvGrpSpPr/>
              <p:nvPr/>
            </p:nvGrpSpPr>
            <p:grpSpPr>
              <a:xfrm>
                <a:off x="1928520" y="1530720"/>
                <a:ext cx="1684440" cy="1356480"/>
                <a:chOff x="1928520" y="1530720"/>
                <a:chExt cx="1684440" cy="1356480"/>
              </a:xfrm>
            </p:grpSpPr>
            <p:sp>
              <p:nvSpPr>
                <p:cNvPr id="611" name="Rectangle 9"/>
                <p:cNvSpPr/>
                <p:nvPr/>
              </p:nvSpPr>
              <p:spPr>
                <a:xfrm>
                  <a:off x="2030400" y="1530720"/>
                  <a:ext cx="1480680" cy="13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فاصله تزريق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"/>
                <p:cNvSpPr/>
                <p:nvPr/>
              </p:nvSpPr>
              <p:spPr>
                <a:xfrm>
                  <a:off x="1928520" y="1530720"/>
                  <a:ext cx="1684440" cy="13564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11"/>
              <p:cNvGrpSpPr/>
              <p:nvPr/>
            </p:nvGrpSpPr>
            <p:grpSpPr>
              <a:xfrm>
                <a:off x="3613680" y="1530720"/>
                <a:ext cx="3566160" cy="1356480"/>
                <a:chOff x="3613680" y="1530720"/>
                <a:chExt cx="3566160" cy="1356480"/>
              </a:xfrm>
            </p:grpSpPr>
            <p:sp>
              <p:nvSpPr>
                <p:cNvPr id="614" name="Rectangle 12"/>
                <p:cNvSpPr/>
                <p:nvPr/>
              </p:nvSpPr>
              <p:spPr>
                <a:xfrm>
                  <a:off x="3715560" y="1530720"/>
                  <a:ext cx="3362400" cy="13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واكنش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13"/>
                <p:cNvSpPr/>
                <p:nvPr/>
              </p:nvSpPr>
              <p:spPr>
                <a:xfrm>
                  <a:off x="3613680" y="1530720"/>
                  <a:ext cx="3566160" cy="13564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Group 14"/>
              <p:cNvGrpSpPr/>
              <p:nvPr/>
            </p:nvGrpSpPr>
            <p:grpSpPr>
              <a:xfrm>
                <a:off x="7180200" y="1530720"/>
                <a:ext cx="1952280" cy="1356480"/>
                <a:chOff x="7180200" y="1530720"/>
                <a:chExt cx="1952280" cy="1356480"/>
              </a:xfrm>
            </p:grpSpPr>
            <p:sp>
              <p:nvSpPr>
                <p:cNvPr id="617" name="Rectangle 15"/>
                <p:cNvSpPr/>
                <p:nvPr/>
              </p:nvSpPr>
              <p:spPr>
                <a:xfrm>
                  <a:off x="7282080" y="1530720"/>
                  <a:ext cx="1748520" cy="13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واكسن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16"/>
                <p:cNvSpPr/>
                <p:nvPr/>
              </p:nvSpPr>
              <p:spPr>
                <a:xfrm>
                  <a:off x="7180200" y="1530720"/>
                  <a:ext cx="1952280" cy="13564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17"/>
              <p:cNvGrpSpPr/>
              <p:nvPr/>
            </p:nvGrpSpPr>
            <p:grpSpPr>
              <a:xfrm>
                <a:off x="9360" y="2887560"/>
                <a:ext cx="1918800" cy="799200"/>
                <a:chOff x="9360" y="2887560"/>
                <a:chExt cx="1918800" cy="799200"/>
              </a:xfrm>
            </p:grpSpPr>
            <p:sp>
              <p:nvSpPr>
                <p:cNvPr id="620" name="Rectangle 18"/>
                <p:cNvSpPr/>
                <p:nvPr/>
              </p:nvSpPr>
              <p:spPr>
                <a:xfrm>
                  <a:off x="111240" y="2887560"/>
                  <a:ext cx="171504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000-100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19"/>
                <p:cNvSpPr/>
                <p:nvPr/>
              </p:nvSpPr>
              <p:spPr>
                <a:xfrm>
                  <a:off x="9360" y="2887560"/>
                  <a:ext cx="191880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20"/>
              <p:cNvGrpSpPr/>
              <p:nvPr/>
            </p:nvGrpSpPr>
            <p:grpSpPr>
              <a:xfrm>
                <a:off x="1928520" y="2887560"/>
                <a:ext cx="1684440" cy="799200"/>
                <a:chOff x="1928520" y="2887560"/>
                <a:chExt cx="1684440" cy="799200"/>
              </a:xfrm>
            </p:grpSpPr>
            <p:sp>
              <p:nvSpPr>
                <p:cNvPr id="623" name="Rectangle 21"/>
                <p:cNvSpPr/>
                <p:nvPr/>
              </p:nvSpPr>
              <p:spPr>
                <a:xfrm>
                  <a:off x="2030400" y="2887560"/>
                  <a:ext cx="148068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6-2</a:t>
                  </a:r>
                  <a:r>
                    <a:rPr b="1" lang="en-US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ماه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22"/>
                <p:cNvSpPr/>
                <p:nvPr/>
              </p:nvSpPr>
              <p:spPr>
                <a:xfrm>
                  <a:off x="1928520" y="2887560"/>
                  <a:ext cx="168444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23"/>
              <p:cNvGrpSpPr/>
              <p:nvPr/>
            </p:nvGrpSpPr>
            <p:grpSpPr>
              <a:xfrm>
                <a:off x="3613680" y="2887560"/>
                <a:ext cx="3566160" cy="799200"/>
                <a:chOff x="3613680" y="2887560"/>
                <a:chExt cx="3566160" cy="799200"/>
              </a:xfrm>
            </p:grpSpPr>
            <p:sp>
              <p:nvSpPr>
                <p:cNvPr id="626" name="Rectangle 24"/>
                <p:cNvSpPr/>
                <p:nvPr/>
              </p:nvSpPr>
              <p:spPr>
                <a:xfrm>
                  <a:off x="3715560" y="2887560"/>
                  <a:ext cx="336240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لنفادنيت چركي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25"/>
                <p:cNvSpPr/>
                <p:nvPr/>
              </p:nvSpPr>
              <p:spPr>
                <a:xfrm>
                  <a:off x="3613680" y="2887560"/>
                  <a:ext cx="356616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Group 26"/>
              <p:cNvGrpSpPr/>
              <p:nvPr/>
            </p:nvGrpSpPr>
            <p:grpSpPr>
              <a:xfrm>
                <a:off x="7180200" y="2887560"/>
                <a:ext cx="1952280" cy="2399400"/>
                <a:chOff x="7180200" y="2887560"/>
                <a:chExt cx="1952280" cy="2399400"/>
              </a:xfrm>
            </p:grpSpPr>
            <p:sp>
              <p:nvSpPr>
                <p:cNvPr id="629" name="Rectangle 27"/>
                <p:cNvSpPr/>
                <p:nvPr/>
              </p:nvSpPr>
              <p:spPr>
                <a:xfrm>
                  <a:off x="7282080" y="2887560"/>
                  <a:ext cx="1748520" cy="239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B.C.G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28"/>
                <p:cNvSpPr/>
                <p:nvPr/>
              </p:nvSpPr>
              <p:spPr>
                <a:xfrm>
                  <a:off x="7180200" y="2887560"/>
                  <a:ext cx="1952280" cy="23994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29"/>
              <p:cNvGrpSpPr/>
              <p:nvPr/>
            </p:nvGrpSpPr>
            <p:grpSpPr>
              <a:xfrm>
                <a:off x="9360" y="3687480"/>
                <a:ext cx="1918800" cy="799200"/>
                <a:chOff x="9360" y="3687480"/>
                <a:chExt cx="1918800" cy="799200"/>
              </a:xfrm>
            </p:grpSpPr>
            <p:sp>
              <p:nvSpPr>
                <p:cNvPr id="632" name="Rectangle 30"/>
                <p:cNvSpPr/>
                <p:nvPr/>
              </p:nvSpPr>
              <p:spPr>
                <a:xfrm>
                  <a:off x="111240" y="3687480"/>
                  <a:ext cx="171504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1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300-01/0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31"/>
                <p:cNvSpPr/>
                <p:nvPr/>
              </p:nvSpPr>
              <p:spPr>
                <a:xfrm>
                  <a:off x="9360" y="3687480"/>
                  <a:ext cx="1918800" cy="79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32"/>
              <p:cNvGrpSpPr/>
              <p:nvPr/>
            </p:nvGrpSpPr>
            <p:grpSpPr>
              <a:xfrm>
                <a:off x="1928520" y="3687480"/>
                <a:ext cx="1684440" cy="799200"/>
                <a:chOff x="1928520" y="3687480"/>
                <a:chExt cx="1684440" cy="799200"/>
              </a:xfrm>
            </p:grpSpPr>
            <p:sp>
              <p:nvSpPr>
                <p:cNvPr id="635" name="Rectangle 33"/>
                <p:cNvSpPr/>
                <p:nvPr/>
              </p:nvSpPr>
              <p:spPr>
                <a:xfrm>
                  <a:off x="2030400" y="3687480"/>
                  <a:ext cx="148068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8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2-1</a:t>
                  </a:r>
                  <a:r>
                    <a:rPr b="1" lang="en-US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ماه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34"/>
                <p:cNvSpPr/>
                <p:nvPr/>
              </p:nvSpPr>
              <p:spPr>
                <a:xfrm>
                  <a:off x="1928520" y="3687480"/>
                  <a:ext cx="168444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35"/>
              <p:cNvGrpSpPr/>
              <p:nvPr/>
            </p:nvGrpSpPr>
            <p:grpSpPr>
              <a:xfrm>
                <a:off x="3613680" y="3687480"/>
                <a:ext cx="3566160" cy="799200"/>
                <a:chOff x="3613680" y="3687480"/>
                <a:chExt cx="3566160" cy="799200"/>
              </a:xfrm>
            </p:grpSpPr>
            <p:sp>
              <p:nvSpPr>
                <p:cNvPr id="638" name="Rectangle 36"/>
                <p:cNvSpPr/>
                <p:nvPr/>
              </p:nvSpPr>
              <p:spPr>
                <a:xfrm>
                  <a:off x="3715560" y="3687480"/>
                  <a:ext cx="336240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7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التهاب استخواني ب ث ژ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37"/>
                <p:cNvSpPr/>
                <p:nvPr/>
              </p:nvSpPr>
              <p:spPr>
                <a:xfrm>
                  <a:off x="3613680" y="3687480"/>
                  <a:ext cx="356616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38"/>
              <p:cNvGrpSpPr/>
              <p:nvPr/>
            </p:nvGrpSpPr>
            <p:grpSpPr>
              <a:xfrm>
                <a:off x="9360" y="4487400"/>
                <a:ext cx="1918800" cy="799560"/>
                <a:chOff x="9360" y="4487400"/>
                <a:chExt cx="1918800" cy="799560"/>
              </a:xfrm>
            </p:grpSpPr>
            <p:sp>
              <p:nvSpPr>
                <p:cNvPr id="641" name="Rectangle 39"/>
                <p:cNvSpPr/>
                <p:nvPr/>
              </p:nvSpPr>
              <p:spPr>
                <a:xfrm>
                  <a:off x="111240" y="4487400"/>
                  <a:ext cx="1715040" cy="79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56/1</a:t>
                  </a: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en-US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–</a:t>
                  </a: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9/0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40"/>
                <p:cNvSpPr/>
                <p:nvPr/>
              </p:nvSpPr>
              <p:spPr>
                <a:xfrm>
                  <a:off x="9360" y="4487400"/>
                  <a:ext cx="1918800" cy="7995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41"/>
              <p:cNvGrpSpPr/>
              <p:nvPr/>
            </p:nvGrpSpPr>
            <p:grpSpPr>
              <a:xfrm>
                <a:off x="1928520" y="4487400"/>
                <a:ext cx="1684440" cy="799560"/>
                <a:chOff x="1928520" y="4487400"/>
                <a:chExt cx="1684440" cy="799560"/>
              </a:xfrm>
            </p:grpSpPr>
            <p:sp>
              <p:nvSpPr>
                <p:cNvPr id="644" name="Rectangle 42"/>
                <p:cNvSpPr/>
                <p:nvPr/>
              </p:nvSpPr>
              <p:spPr>
                <a:xfrm>
                  <a:off x="2030400" y="4487400"/>
                  <a:ext cx="1480680" cy="79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8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2-1</a:t>
                  </a:r>
                  <a:r>
                    <a:rPr b="1" lang="en-US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ماه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43"/>
                <p:cNvSpPr/>
                <p:nvPr/>
              </p:nvSpPr>
              <p:spPr>
                <a:xfrm>
                  <a:off x="1928520" y="4487400"/>
                  <a:ext cx="1684440" cy="7995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44"/>
              <p:cNvGrpSpPr/>
              <p:nvPr/>
            </p:nvGrpSpPr>
            <p:grpSpPr>
              <a:xfrm>
                <a:off x="3613680" y="4487400"/>
                <a:ext cx="3566160" cy="799560"/>
                <a:chOff x="3613680" y="4487400"/>
                <a:chExt cx="3566160" cy="799560"/>
              </a:xfrm>
            </p:grpSpPr>
            <p:sp>
              <p:nvSpPr>
                <p:cNvPr id="647" name="Rectangle 45"/>
                <p:cNvSpPr/>
                <p:nvPr/>
              </p:nvSpPr>
              <p:spPr>
                <a:xfrm>
                  <a:off x="3642120" y="4487400"/>
                  <a:ext cx="3435840" cy="79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9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عفونت منتشر ب ث ژ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46"/>
                <p:cNvSpPr/>
                <p:nvPr/>
              </p:nvSpPr>
              <p:spPr>
                <a:xfrm>
                  <a:off x="3613680" y="4487400"/>
                  <a:ext cx="3566160" cy="7995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47"/>
              <p:cNvGrpSpPr/>
              <p:nvPr/>
            </p:nvGrpSpPr>
            <p:grpSpPr>
              <a:xfrm>
                <a:off x="9360" y="5287680"/>
                <a:ext cx="1918800" cy="799200"/>
                <a:chOff x="9360" y="5287680"/>
                <a:chExt cx="1918800" cy="799200"/>
              </a:xfrm>
            </p:grpSpPr>
            <p:sp>
              <p:nvSpPr>
                <p:cNvPr id="650" name="Rectangle 48"/>
                <p:cNvSpPr/>
                <p:nvPr/>
              </p:nvSpPr>
              <p:spPr>
                <a:xfrm>
                  <a:off x="111240" y="5287680"/>
                  <a:ext cx="1715040" cy="7992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-1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49"/>
                <p:cNvSpPr/>
                <p:nvPr/>
              </p:nvSpPr>
              <p:spPr>
                <a:xfrm>
                  <a:off x="9360" y="5287680"/>
                  <a:ext cx="1918800" cy="79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50"/>
              <p:cNvGrpSpPr/>
              <p:nvPr/>
            </p:nvGrpSpPr>
            <p:grpSpPr>
              <a:xfrm>
                <a:off x="1928520" y="5287680"/>
                <a:ext cx="1684440" cy="799200"/>
                <a:chOff x="1928520" y="5287680"/>
                <a:chExt cx="1684440" cy="799200"/>
              </a:xfrm>
            </p:grpSpPr>
            <p:sp>
              <p:nvSpPr>
                <p:cNvPr id="653" name="Rectangle 51"/>
                <p:cNvSpPr/>
                <p:nvPr/>
              </p:nvSpPr>
              <p:spPr>
                <a:xfrm>
                  <a:off x="2030400" y="5287680"/>
                  <a:ext cx="148068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9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-0</a:t>
                  </a:r>
                  <a:r>
                    <a:rPr b="1" lang="en-US" sz="2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2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اعت</a:t>
                  </a:r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Rectangle 52"/>
                <p:cNvSpPr/>
                <p:nvPr/>
              </p:nvSpPr>
              <p:spPr>
                <a:xfrm>
                  <a:off x="1928520" y="5287680"/>
                  <a:ext cx="168444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53"/>
              <p:cNvGrpSpPr/>
              <p:nvPr/>
            </p:nvGrpSpPr>
            <p:grpSpPr>
              <a:xfrm>
                <a:off x="3613680" y="5287680"/>
                <a:ext cx="3566160" cy="799200"/>
                <a:chOff x="3613680" y="5287680"/>
                <a:chExt cx="3566160" cy="799200"/>
              </a:xfrm>
            </p:grpSpPr>
            <p:sp>
              <p:nvSpPr>
                <p:cNvPr id="656" name="Rectangle 54"/>
                <p:cNvSpPr/>
                <p:nvPr/>
              </p:nvSpPr>
              <p:spPr>
                <a:xfrm>
                  <a:off x="3715560" y="5287680"/>
                  <a:ext cx="336240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آنافيلاكسي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Rectangle 55"/>
                <p:cNvSpPr/>
                <p:nvPr/>
              </p:nvSpPr>
              <p:spPr>
                <a:xfrm>
                  <a:off x="3613680" y="5287680"/>
                  <a:ext cx="356616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56"/>
              <p:cNvGrpSpPr/>
              <p:nvPr/>
            </p:nvGrpSpPr>
            <p:grpSpPr>
              <a:xfrm>
                <a:off x="7180200" y="5287680"/>
                <a:ext cx="1952280" cy="799200"/>
                <a:chOff x="7180200" y="5287680"/>
                <a:chExt cx="1952280" cy="799200"/>
              </a:xfrm>
            </p:grpSpPr>
            <p:sp>
              <p:nvSpPr>
                <p:cNvPr id="659" name="Rectangle 57"/>
                <p:cNvSpPr/>
                <p:nvPr/>
              </p:nvSpPr>
              <p:spPr>
                <a:xfrm>
                  <a:off x="7282080" y="5287680"/>
                  <a:ext cx="1748520" cy="79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0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هپاتيت ب</a:t>
                  </a: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58"/>
                <p:cNvSpPr/>
                <p:nvPr/>
              </p:nvSpPr>
              <p:spPr>
                <a:xfrm>
                  <a:off x="7180200" y="5287680"/>
                  <a:ext cx="1952280" cy="7992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Rectangle 59"/>
            <p:cNvSpPr/>
            <p:nvPr/>
          </p:nvSpPr>
          <p:spPr>
            <a:xfrm>
              <a:off x="0" y="1500120"/>
              <a:ext cx="9143640" cy="4571280"/>
            </a:xfrm>
            <a:prstGeom prst="rect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"/>
          <p:cNvGrpSpPr/>
          <p:nvPr/>
        </p:nvGrpSpPr>
        <p:grpSpPr>
          <a:xfrm>
            <a:off x="0" y="380880"/>
            <a:ext cx="9143640" cy="6476760"/>
            <a:chOff x="0" y="380880"/>
            <a:chExt cx="9143640" cy="6476760"/>
          </a:xfrm>
        </p:grpSpPr>
        <p:grpSp>
          <p:nvGrpSpPr>
            <p:cNvPr id="663" name="Group 3"/>
            <p:cNvGrpSpPr/>
            <p:nvPr/>
          </p:nvGrpSpPr>
          <p:grpSpPr>
            <a:xfrm>
              <a:off x="9360" y="392760"/>
              <a:ext cx="9123120" cy="6463800"/>
              <a:chOff x="9360" y="392760"/>
              <a:chExt cx="9123120" cy="6463800"/>
            </a:xfrm>
          </p:grpSpPr>
          <p:grpSp>
            <p:nvGrpSpPr>
              <p:cNvPr id="664" name="Group 4"/>
              <p:cNvGrpSpPr/>
              <p:nvPr/>
            </p:nvGrpSpPr>
            <p:grpSpPr>
              <a:xfrm>
                <a:off x="9360" y="392760"/>
                <a:ext cx="1918800" cy="1289880"/>
                <a:chOff x="9360" y="392760"/>
                <a:chExt cx="1918800" cy="1289880"/>
              </a:xfrm>
            </p:grpSpPr>
            <p:sp>
              <p:nvSpPr>
                <p:cNvPr id="665" name="Rectangle 5"/>
                <p:cNvSpPr/>
                <p:nvPr/>
              </p:nvSpPr>
              <p:spPr>
                <a:xfrm>
                  <a:off x="111240" y="392760"/>
                  <a:ext cx="171504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330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Rectangle 6"/>
                <p:cNvSpPr/>
                <p:nvPr/>
              </p:nvSpPr>
              <p:spPr>
                <a:xfrm>
                  <a:off x="9360" y="392760"/>
                  <a:ext cx="1918800" cy="128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7"/>
              <p:cNvGrpSpPr/>
              <p:nvPr/>
            </p:nvGrpSpPr>
            <p:grpSpPr>
              <a:xfrm>
                <a:off x="1928520" y="392760"/>
                <a:ext cx="1684440" cy="1289880"/>
                <a:chOff x="1928520" y="392760"/>
                <a:chExt cx="1684440" cy="1289880"/>
              </a:xfrm>
            </p:grpSpPr>
            <p:sp>
              <p:nvSpPr>
                <p:cNvPr id="668" name="Rectangle 8"/>
                <p:cNvSpPr/>
                <p:nvPr/>
              </p:nvSpPr>
              <p:spPr>
                <a:xfrm>
                  <a:off x="2030400" y="392760"/>
                  <a:ext cx="148068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12-6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  روز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9"/>
                <p:cNvSpPr/>
                <p:nvPr/>
              </p:nvSpPr>
              <p:spPr>
                <a:xfrm>
                  <a:off x="1928520" y="392760"/>
                  <a:ext cx="168444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10"/>
              <p:cNvGrpSpPr/>
              <p:nvPr/>
            </p:nvGrpSpPr>
            <p:grpSpPr>
              <a:xfrm>
                <a:off x="3613680" y="392760"/>
                <a:ext cx="3566160" cy="1289880"/>
                <a:chOff x="3613680" y="392760"/>
                <a:chExt cx="3566160" cy="1289880"/>
              </a:xfrm>
            </p:grpSpPr>
            <p:sp>
              <p:nvSpPr>
                <p:cNvPr id="671" name="Rectangle 11"/>
                <p:cNvSpPr/>
                <p:nvPr/>
              </p:nvSpPr>
              <p:spPr>
                <a:xfrm>
                  <a:off x="3715560" y="392760"/>
                  <a:ext cx="33624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Times New Roman"/>
                      <a:cs typeface="B Kamran"/>
                    </a:rPr>
                    <a:t>تشنج ناشي از تب</a:t>
                  </a:r>
                  <a:r>
                    <a:rPr b="1" lang="en-US" sz="4000" spc="-1" strike="noStrike">
                      <a:solidFill>
                        <a:srgbClr val="ffff00"/>
                      </a:solidFill>
                      <a:latin typeface="Times New Roman"/>
                      <a:ea typeface="B Kamr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Rectangle 12"/>
                <p:cNvSpPr/>
                <p:nvPr/>
              </p:nvSpPr>
              <p:spPr>
                <a:xfrm>
                  <a:off x="3613680" y="392760"/>
                  <a:ext cx="356616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13"/>
              <p:cNvGrpSpPr/>
              <p:nvPr/>
            </p:nvGrpSpPr>
            <p:grpSpPr>
              <a:xfrm>
                <a:off x="7180200" y="392760"/>
                <a:ext cx="1952280" cy="6452280"/>
                <a:chOff x="7180200" y="392760"/>
                <a:chExt cx="1952280" cy="6452280"/>
              </a:xfrm>
            </p:grpSpPr>
            <p:sp>
              <p:nvSpPr>
                <p:cNvPr id="674" name="Rectangle 14"/>
                <p:cNvSpPr/>
                <p:nvPr/>
              </p:nvSpPr>
              <p:spPr>
                <a:xfrm>
                  <a:off x="7282080" y="392760"/>
                  <a:ext cx="1748520" cy="64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سرخك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 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MMR/MR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Rectangle 15"/>
                <p:cNvSpPr/>
                <p:nvPr/>
              </p:nvSpPr>
              <p:spPr>
                <a:xfrm>
                  <a:off x="7180200" y="392760"/>
                  <a:ext cx="1952280" cy="64522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16"/>
              <p:cNvGrpSpPr/>
              <p:nvPr/>
            </p:nvGrpSpPr>
            <p:grpSpPr>
              <a:xfrm>
                <a:off x="9360" y="1683000"/>
                <a:ext cx="1918800" cy="1289880"/>
                <a:chOff x="9360" y="1683000"/>
                <a:chExt cx="1918800" cy="1289880"/>
              </a:xfrm>
            </p:grpSpPr>
            <p:sp>
              <p:nvSpPr>
                <p:cNvPr id="677" name="Rectangle 17"/>
                <p:cNvSpPr/>
                <p:nvPr/>
              </p:nvSpPr>
              <p:spPr>
                <a:xfrm>
                  <a:off x="111240" y="1683000"/>
                  <a:ext cx="171504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30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18"/>
                <p:cNvSpPr/>
                <p:nvPr/>
              </p:nvSpPr>
              <p:spPr>
                <a:xfrm>
                  <a:off x="9360" y="1683000"/>
                  <a:ext cx="191880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19"/>
              <p:cNvGrpSpPr/>
              <p:nvPr/>
            </p:nvGrpSpPr>
            <p:grpSpPr>
              <a:xfrm>
                <a:off x="1928520" y="1683000"/>
                <a:ext cx="1684440" cy="1289880"/>
                <a:chOff x="1928520" y="1683000"/>
                <a:chExt cx="1684440" cy="1289880"/>
              </a:xfrm>
            </p:grpSpPr>
            <p:sp>
              <p:nvSpPr>
                <p:cNvPr id="680" name="Rectangle 20"/>
                <p:cNvSpPr/>
                <p:nvPr/>
              </p:nvSpPr>
              <p:spPr>
                <a:xfrm>
                  <a:off x="2030400" y="1683000"/>
                  <a:ext cx="148068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35-15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 </a:t>
                  </a: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روز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21"/>
                <p:cNvSpPr/>
                <p:nvPr/>
              </p:nvSpPr>
              <p:spPr>
                <a:xfrm>
                  <a:off x="1928520" y="1683000"/>
                  <a:ext cx="168444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2"/>
              <p:cNvGrpSpPr/>
              <p:nvPr/>
            </p:nvGrpSpPr>
            <p:grpSpPr>
              <a:xfrm>
                <a:off x="3613680" y="1683000"/>
                <a:ext cx="3566160" cy="1289880"/>
                <a:chOff x="3613680" y="1683000"/>
                <a:chExt cx="3566160" cy="1289880"/>
              </a:xfrm>
            </p:grpSpPr>
            <p:sp>
              <p:nvSpPr>
                <p:cNvPr id="683" name="Rectangle 23"/>
                <p:cNvSpPr/>
                <p:nvPr/>
              </p:nvSpPr>
              <p:spPr>
                <a:xfrm>
                  <a:off x="3715560" y="1683000"/>
                  <a:ext cx="33624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Times New Roman"/>
                      <a:cs typeface="B Kamran"/>
                    </a:rPr>
                    <a:t>ترومبوسيتوپني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24"/>
                <p:cNvSpPr/>
                <p:nvPr/>
              </p:nvSpPr>
              <p:spPr>
                <a:xfrm>
                  <a:off x="3613680" y="1683000"/>
                  <a:ext cx="356616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25"/>
              <p:cNvGrpSpPr/>
              <p:nvPr/>
            </p:nvGrpSpPr>
            <p:grpSpPr>
              <a:xfrm>
                <a:off x="9360" y="2973600"/>
                <a:ext cx="1918800" cy="1289880"/>
                <a:chOff x="9360" y="2973600"/>
                <a:chExt cx="1918800" cy="1289880"/>
              </a:xfrm>
            </p:grpSpPr>
            <p:sp>
              <p:nvSpPr>
                <p:cNvPr id="686" name="Rectangle 26"/>
                <p:cNvSpPr/>
                <p:nvPr/>
              </p:nvSpPr>
              <p:spPr>
                <a:xfrm>
                  <a:off x="111240" y="2973600"/>
                  <a:ext cx="171504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حدود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10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27"/>
                <p:cNvSpPr/>
                <p:nvPr/>
              </p:nvSpPr>
              <p:spPr>
                <a:xfrm>
                  <a:off x="9360" y="2973600"/>
                  <a:ext cx="191880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28"/>
              <p:cNvGrpSpPr/>
              <p:nvPr/>
            </p:nvGrpSpPr>
            <p:grpSpPr>
              <a:xfrm>
                <a:off x="1928520" y="2973600"/>
                <a:ext cx="1684440" cy="1289880"/>
                <a:chOff x="1928520" y="2973600"/>
                <a:chExt cx="1684440" cy="1289880"/>
              </a:xfrm>
            </p:grpSpPr>
            <p:sp>
              <p:nvSpPr>
                <p:cNvPr id="689" name="Rectangle 29"/>
                <p:cNvSpPr/>
                <p:nvPr/>
              </p:nvSpPr>
              <p:spPr>
                <a:xfrm>
                  <a:off x="2030400" y="2973600"/>
                  <a:ext cx="148068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2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-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 </a:t>
                  </a:r>
                  <a:r>
                    <a:rPr b="1" lang="ar-SA" sz="18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ساعت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Rectangle 30"/>
                <p:cNvSpPr/>
                <p:nvPr/>
              </p:nvSpPr>
              <p:spPr>
                <a:xfrm>
                  <a:off x="1928520" y="2973600"/>
                  <a:ext cx="168444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31"/>
              <p:cNvGrpSpPr/>
              <p:nvPr/>
            </p:nvGrpSpPr>
            <p:grpSpPr>
              <a:xfrm>
                <a:off x="3613680" y="2973600"/>
                <a:ext cx="3566160" cy="1289880"/>
                <a:chOff x="3613680" y="2973600"/>
                <a:chExt cx="3566160" cy="1289880"/>
              </a:xfrm>
            </p:grpSpPr>
            <p:sp>
              <p:nvSpPr>
                <p:cNvPr id="692" name="Rectangle 32"/>
                <p:cNvSpPr/>
                <p:nvPr/>
              </p:nvSpPr>
              <p:spPr>
                <a:xfrm>
                  <a:off x="3715560" y="2973600"/>
                  <a:ext cx="33624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Times New Roman"/>
                      <a:cs typeface="B Kamran"/>
                    </a:rPr>
                    <a:t>واكنش آنافيلاكتيك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33"/>
                <p:cNvSpPr/>
                <p:nvPr/>
              </p:nvSpPr>
              <p:spPr>
                <a:xfrm>
                  <a:off x="3613680" y="2973600"/>
                  <a:ext cx="356616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34"/>
              <p:cNvGrpSpPr/>
              <p:nvPr/>
            </p:nvGrpSpPr>
            <p:grpSpPr>
              <a:xfrm>
                <a:off x="9360" y="4264200"/>
                <a:ext cx="1918800" cy="1289880"/>
                <a:chOff x="9360" y="4264200"/>
                <a:chExt cx="1918800" cy="1289880"/>
              </a:xfrm>
            </p:grpSpPr>
            <p:sp>
              <p:nvSpPr>
                <p:cNvPr id="695" name="Rectangle 35"/>
                <p:cNvSpPr/>
                <p:nvPr/>
              </p:nvSpPr>
              <p:spPr>
                <a:xfrm>
                  <a:off x="111240" y="4264200"/>
                  <a:ext cx="171504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حدود يك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36"/>
                <p:cNvSpPr/>
                <p:nvPr/>
              </p:nvSpPr>
              <p:spPr>
                <a:xfrm>
                  <a:off x="9360" y="4264200"/>
                  <a:ext cx="191880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37"/>
              <p:cNvGrpSpPr/>
              <p:nvPr/>
            </p:nvGrpSpPr>
            <p:grpSpPr>
              <a:xfrm>
                <a:off x="1928520" y="4264200"/>
                <a:ext cx="1684440" cy="1289880"/>
                <a:chOff x="1928520" y="4264200"/>
                <a:chExt cx="1684440" cy="1289880"/>
              </a:xfrm>
            </p:grpSpPr>
            <p:sp>
              <p:nvSpPr>
                <p:cNvPr id="698" name="Rectangle 38"/>
                <p:cNvSpPr/>
                <p:nvPr/>
              </p:nvSpPr>
              <p:spPr>
                <a:xfrm>
                  <a:off x="2030400" y="4264200"/>
                  <a:ext cx="148068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1-0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ساعت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39"/>
                <p:cNvSpPr/>
                <p:nvPr/>
              </p:nvSpPr>
              <p:spPr>
                <a:xfrm>
                  <a:off x="1928520" y="4264200"/>
                  <a:ext cx="168444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40"/>
              <p:cNvGrpSpPr/>
              <p:nvPr/>
            </p:nvGrpSpPr>
            <p:grpSpPr>
              <a:xfrm>
                <a:off x="3613680" y="4264200"/>
                <a:ext cx="3566160" cy="1289880"/>
                <a:chOff x="3613680" y="4264200"/>
                <a:chExt cx="3566160" cy="1289880"/>
              </a:xfrm>
            </p:grpSpPr>
            <p:sp>
              <p:nvSpPr>
                <p:cNvPr id="701" name="Rectangle 41"/>
                <p:cNvSpPr/>
                <p:nvPr/>
              </p:nvSpPr>
              <p:spPr>
                <a:xfrm>
                  <a:off x="3715560" y="4264200"/>
                  <a:ext cx="33624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Times New Roman"/>
                      <a:cs typeface="B Kamran"/>
                    </a:rPr>
                    <a:t>آنافيلاكسي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42"/>
                <p:cNvSpPr/>
                <p:nvPr/>
              </p:nvSpPr>
              <p:spPr>
                <a:xfrm>
                  <a:off x="3613680" y="4264200"/>
                  <a:ext cx="356616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43"/>
              <p:cNvGrpSpPr/>
              <p:nvPr/>
            </p:nvGrpSpPr>
            <p:grpSpPr>
              <a:xfrm>
                <a:off x="9360" y="5554800"/>
                <a:ext cx="1918800" cy="1289880"/>
                <a:chOff x="9360" y="5554800"/>
                <a:chExt cx="1918800" cy="1289880"/>
              </a:xfrm>
            </p:grpSpPr>
            <p:sp>
              <p:nvSpPr>
                <p:cNvPr id="704" name="Rectangle 44"/>
                <p:cNvSpPr/>
                <p:nvPr/>
              </p:nvSpPr>
              <p:spPr>
                <a:xfrm>
                  <a:off x="111240" y="5554800"/>
                  <a:ext cx="171504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كمتر از يك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Rectangle 45"/>
                <p:cNvSpPr/>
                <p:nvPr/>
              </p:nvSpPr>
              <p:spPr>
                <a:xfrm>
                  <a:off x="9360" y="5554800"/>
                  <a:ext cx="191880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Group 46"/>
              <p:cNvGrpSpPr/>
              <p:nvPr/>
            </p:nvGrpSpPr>
            <p:grpSpPr>
              <a:xfrm>
                <a:off x="1928520" y="5566680"/>
                <a:ext cx="1684440" cy="1289880"/>
                <a:chOff x="1928520" y="5566680"/>
                <a:chExt cx="1684440" cy="1289880"/>
              </a:xfrm>
            </p:grpSpPr>
            <p:sp>
              <p:nvSpPr>
                <p:cNvPr id="707" name="Rectangle 47"/>
                <p:cNvSpPr/>
                <p:nvPr/>
              </p:nvSpPr>
              <p:spPr>
                <a:xfrm>
                  <a:off x="2071080" y="5566680"/>
                  <a:ext cx="148068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12-6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 </a:t>
                  </a: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روز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Rectangle 48"/>
                <p:cNvSpPr/>
                <p:nvPr/>
              </p:nvSpPr>
              <p:spPr>
                <a:xfrm>
                  <a:off x="1928520" y="5566680"/>
                  <a:ext cx="168444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49"/>
              <p:cNvGrpSpPr/>
              <p:nvPr/>
            </p:nvGrpSpPr>
            <p:grpSpPr>
              <a:xfrm>
                <a:off x="3613680" y="5554800"/>
                <a:ext cx="3566160" cy="1289880"/>
                <a:chOff x="3613680" y="5554800"/>
                <a:chExt cx="3566160" cy="1289880"/>
              </a:xfrm>
            </p:grpSpPr>
            <p:sp>
              <p:nvSpPr>
                <p:cNvPr id="710" name="Rectangle 50"/>
                <p:cNvSpPr/>
                <p:nvPr/>
              </p:nvSpPr>
              <p:spPr>
                <a:xfrm>
                  <a:off x="3715560" y="5554800"/>
                  <a:ext cx="33624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Times New Roman"/>
                      <a:cs typeface="B Kamran"/>
                    </a:rPr>
                    <a:t>آنسفالوپاتي</a:t>
                  </a:r>
                  <a:r>
                    <a:rPr b="1" lang="en-US" sz="4000" spc="-1" strike="noStrike">
                      <a:solidFill>
                        <a:srgbClr val="ffff00"/>
                      </a:solidFill>
                      <a:latin typeface="Times New Roman"/>
                      <a:ea typeface="B Kamr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Rectangle 51"/>
                <p:cNvSpPr/>
                <p:nvPr/>
              </p:nvSpPr>
              <p:spPr>
                <a:xfrm>
                  <a:off x="3613680" y="5554800"/>
                  <a:ext cx="3566160" cy="1289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Rectangle 52"/>
            <p:cNvSpPr/>
            <p:nvPr/>
          </p:nvSpPr>
          <p:spPr>
            <a:xfrm>
              <a:off x="0" y="380880"/>
              <a:ext cx="9143640" cy="6476760"/>
            </a:xfrm>
            <a:prstGeom prst="rect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365040" y="0"/>
            <a:ext cx="8778600" cy="5944320"/>
            <a:chOff x="365040" y="0"/>
            <a:chExt cx="8778600" cy="5944320"/>
          </a:xfrm>
        </p:grpSpPr>
        <p:grpSp>
          <p:nvGrpSpPr>
            <p:cNvPr id="714" name="Group 3"/>
            <p:cNvGrpSpPr/>
            <p:nvPr/>
          </p:nvGrpSpPr>
          <p:grpSpPr>
            <a:xfrm>
              <a:off x="374040" y="13320"/>
              <a:ext cx="8759160" cy="5915520"/>
              <a:chOff x="374040" y="13320"/>
              <a:chExt cx="8759160" cy="5915520"/>
            </a:xfrm>
          </p:grpSpPr>
          <p:grpSp>
            <p:nvGrpSpPr>
              <p:cNvPr id="715" name="Group 4"/>
              <p:cNvGrpSpPr/>
              <p:nvPr/>
            </p:nvGrpSpPr>
            <p:grpSpPr>
              <a:xfrm>
                <a:off x="374040" y="13320"/>
                <a:ext cx="1842480" cy="1478160"/>
                <a:chOff x="374040" y="13320"/>
                <a:chExt cx="1842480" cy="1478160"/>
              </a:xfrm>
            </p:grpSpPr>
            <p:sp>
              <p:nvSpPr>
                <p:cNvPr id="716" name="Rectangle 5"/>
                <p:cNvSpPr/>
                <p:nvPr/>
              </p:nvSpPr>
              <p:spPr>
                <a:xfrm>
                  <a:off x="471960" y="13320"/>
                  <a:ext cx="164664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حدود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4/0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6"/>
                <p:cNvSpPr/>
                <p:nvPr/>
              </p:nvSpPr>
              <p:spPr>
                <a:xfrm>
                  <a:off x="374040" y="13320"/>
                  <a:ext cx="1842480" cy="14781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7"/>
              <p:cNvGrpSpPr/>
              <p:nvPr/>
            </p:nvGrpSpPr>
            <p:grpSpPr>
              <a:xfrm>
                <a:off x="2216880" y="13320"/>
                <a:ext cx="1617120" cy="1478160"/>
                <a:chOff x="2216880" y="13320"/>
                <a:chExt cx="1617120" cy="1478160"/>
              </a:xfrm>
            </p:grpSpPr>
            <p:sp>
              <p:nvSpPr>
                <p:cNvPr id="719" name="Rectangle 8"/>
                <p:cNvSpPr/>
                <p:nvPr/>
              </p:nvSpPr>
              <p:spPr>
                <a:xfrm>
                  <a:off x="2314800" y="13320"/>
                  <a:ext cx="142128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30-4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روز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9"/>
                <p:cNvSpPr/>
                <p:nvPr/>
              </p:nvSpPr>
              <p:spPr>
                <a:xfrm>
                  <a:off x="2216880" y="13320"/>
                  <a:ext cx="161712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10"/>
              <p:cNvGrpSpPr/>
              <p:nvPr/>
            </p:nvGrpSpPr>
            <p:grpSpPr>
              <a:xfrm>
                <a:off x="3834360" y="13320"/>
                <a:ext cx="3423960" cy="1478160"/>
                <a:chOff x="3834360" y="13320"/>
                <a:chExt cx="3423960" cy="1478160"/>
              </a:xfrm>
            </p:grpSpPr>
            <p:sp>
              <p:nvSpPr>
                <p:cNvPr id="722" name="Rectangle 11"/>
                <p:cNvSpPr/>
                <p:nvPr/>
              </p:nvSpPr>
              <p:spPr>
                <a:xfrm>
                  <a:off x="3932280" y="13320"/>
                  <a:ext cx="322812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فلج ناشي از ويروس واكسن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Rectangle 12"/>
                <p:cNvSpPr/>
                <p:nvPr/>
              </p:nvSpPr>
              <p:spPr>
                <a:xfrm>
                  <a:off x="3834360" y="13320"/>
                  <a:ext cx="342396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13"/>
              <p:cNvGrpSpPr/>
              <p:nvPr/>
            </p:nvGrpSpPr>
            <p:grpSpPr>
              <a:xfrm>
                <a:off x="7258680" y="13320"/>
                <a:ext cx="1874520" cy="1478160"/>
                <a:chOff x="7258680" y="13320"/>
                <a:chExt cx="1874520" cy="1478160"/>
              </a:xfrm>
            </p:grpSpPr>
            <p:sp>
              <p:nvSpPr>
                <p:cNvPr id="725" name="Rectangle 14"/>
                <p:cNvSpPr/>
                <p:nvPr/>
              </p:nvSpPr>
              <p:spPr>
                <a:xfrm>
                  <a:off x="7356600" y="13320"/>
                  <a:ext cx="167868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OPV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Rectangle 15"/>
                <p:cNvSpPr/>
                <p:nvPr/>
              </p:nvSpPr>
              <p:spPr>
                <a:xfrm>
                  <a:off x="7258680" y="13320"/>
                  <a:ext cx="187452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16"/>
              <p:cNvGrpSpPr/>
              <p:nvPr/>
            </p:nvGrpSpPr>
            <p:grpSpPr>
              <a:xfrm>
                <a:off x="374040" y="1492200"/>
                <a:ext cx="1842480" cy="1478160"/>
                <a:chOff x="374040" y="1492200"/>
                <a:chExt cx="1842480" cy="1478160"/>
              </a:xfrm>
            </p:grpSpPr>
            <p:sp>
              <p:nvSpPr>
                <p:cNvPr id="728" name="Rectangle 17"/>
                <p:cNvSpPr/>
                <p:nvPr/>
              </p:nvSpPr>
              <p:spPr>
                <a:xfrm>
                  <a:off x="471960" y="1492200"/>
                  <a:ext cx="164664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0-5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Rectangle 18"/>
                <p:cNvSpPr/>
                <p:nvPr/>
              </p:nvSpPr>
              <p:spPr>
                <a:xfrm>
                  <a:off x="374040" y="1492200"/>
                  <a:ext cx="1842480" cy="14781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9"/>
              <p:cNvGrpSpPr/>
              <p:nvPr/>
            </p:nvGrpSpPr>
            <p:grpSpPr>
              <a:xfrm>
                <a:off x="2216880" y="1492200"/>
                <a:ext cx="1617120" cy="1478160"/>
                <a:chOff x="2216880" y="1492200"/>
                <a:chExt cx="1617120" cy="1478160"/>
              </a:xfrm>
            </p:grpSpPr>
            <p:sp>
              <p:nvSpPr>
                <p:cNvPr id="731" name="Rectangle 20"/>
                <p:cNvSpPr/>
                <p:nvPr/>
              </p:nvSpPr>
              <p:spPr>
                <a:xfrm>
                  <a:off x="2314800" y="1492200"/>
                  <a:ext cx="142128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8-2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روز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Rectangle 21"/>
                <p:cNvSpPr/>
                <p:nvPr/>
              </p:nvSpPr>
              <p:spPr>
                <a:xfrm>
                  <a:off x="2216880" y="1492200"/>
                  <a:ext cx="161712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22"/>
              <p:cNvGrpSpPr/>
              <p:nvPr/>
            </p:nvGrpSpPr>
            <p:grpSpPr>
              <a:xfrm>
                <a:off x="3834360" y="1492200"/>
                <a:ext cx="3423960" cy="1478160"/>
                <a:chOff x="3834360" y="1492200"/>
                <a:chExt cx="3423960" cy="1478160"/>
              </a:xfrm>
            </p:grpSpPr>
            <p:sp>
              <p:nvSpPr>
                <p:cNvPr id="734" name="Rectangle 23"/>
                <p:cNvSpPr/>
                <p:nvPr/>
              </p:nvSpPr>
              <p:spPr>
                <a:xfrm>
                  <a:off x="3932280" y="1492200"/>
                  <a:ext cx="322812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التهاب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شبكه عصبي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Rectangle 24"/>
                <p:cNvSpPr/>
                <p:nvPr/>
              </p:nvSpPr>
              <p:spPr>
                <a:xfrm>
                  <a:off x="3834360" y="1492200"/>
                  <a:ext cx="342396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Group 25"/>
              <p:cNvGrpSpPr/>
              <p:nvPr/>
            </p:nvGrpSpPr>
            <p:grpSpPr>
              <a:xfrm>
                <a:off x="7258680" y="1492200"/>
                <a:ext cx="1874520" cy="4436640"/>
                <a:chOff x="7258680" y="1492200"/>
                <a:chExt cx="1874520" cy="4436640"/>
              </a:xfrm>
            </p:grpSpPr>
            <p:sp>
              <p:nvSpPr>
                <p:cNvPr id="737" name="Rectangle 26"/>
                <p:cNvSpPr/>
                <p:nvPr/>
              </p:nvSpPr>
              <p:spPr>
                <a:xfrm>
                  <a:off x="7356600" y="1492200"/>
                  <a:ext cx="1678680" cy="443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كزاز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27"/>
                <p:cNvSpPr/>
                <p:nvPr/>
              </p:nvSpPr>
              <p:spPr>
                <a:xfrm>
                  <a:off x="7258680" y="1492200"/>
                  <a:ext cx="1874520" cy="443664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28"/>
              <p:cNvGrpSpPr/>
              <p:nvPr/>
            </p:nvGrpSpPr>
            <p:grpSpPr>
              <a:xfrm>
                <a:off x="374040" y="2971440"/>
                <a:ext cx="1842480" cy="1478160"/>
                <a:chOff x="374040" y="2971440"/>
                <a:chExt cx="1842480" cy="1478160"/>
              </a:xfrm>
            </p:grpSpPr>
            <p:sp>
              <p:nvSpPr>
                <p:cNvPr id="740" name="Rectangle 29"/>
                <p:cNvSpPr/>
                <p:nvPr/>
              </p:nvSpPr>
              <p:spPr>
                <a:xfrm>
                  <a:off x="471960" y="2971440"/>
                  <a:ext cx="164664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0-6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Rectangle 30"/>
                <p:cNvSpPr/>
                <p:nvPr/>
              </p:nvSpPr>
              <p:spPr>
                <a:xfrm>
                  <a:off x="374040" y="2971440"/>
                  <a:ext cx="184248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oup 31"/>
              <p:cNvGrpSpPr/>
              <p:nvPr/>
            </p:nvGrpSpPr>
            <p:grpSpPr>
              <a:xfrm>
                <a:off x="2216880" y="2971440"/>
                <a:ext cx="1617120" cy="1478160"/>
                <a:chOff x="2216880" y="2971440"/>
                <a:chExt cx="1617120" cy="1478160"/>
              </a:xfrm>
            </p:grpSpPr>
            <p:sp>
              <p:nvSpPr>
                <p:cNvPr id="743" name="Rectangle 32"/>
                <p:cNvSpPr/>
                <p:nvPr/>
              </p:nvSpPr>
              <p:spPr>
                <a:xfrm>
                  <a:off x="2314800" y="2971440"/>
                  <a:ext cx="142128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6-1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هفته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Rectangle 33"/>
                <p:cNvSpPr/>
                <p:nvPr/>
              </p:nvSpPr>
              <p:spPr>
                <a:xfrm>
                  <a:off x="2216880" y="2971440"/>
                  <a:ext cx="161712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34"/>
              <p:cNvGrpSpPr/>
              <p:nvPr/>
            </p:nvGrpSpPr>
            <p:grpSpPr>
              <a:xfrm>
                <a:off x="3834360" y="2971440"/>
                <a:ext cx="3423960" cy="1478160"/>
                <a:chOff x="3834360" y="2971440"/>
                <a:chExt cx="3423960" cy="1478160"/>
              </a:xfrm>
            </p:grpSpPr>
            <p:sp>
              <p:nvSpPr>
                <p:cNvPr id="746" name="Rectangle 35"/>
                <p:cNvSpPr/>
                <p:nvPr/>
              </p:nvSpPr>
              <p:spPr>
                <a:xfrm>
                  <a:off x="3932280" y="2971440"/>
                  <a:ext cx="322812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آبسه استريل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36"/>
                <p:cNvSpPr/>
                <p:nvPr/>
              </p:nvSpPr>
              <p:spPr>
                <a:xfrm>
                  <a:off x="3834360" y="2971440"/>
                  <a:ext cx="342396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37"/>
              <p:cNvGrpSpPr/>
              <p:nvPr/>
            </p:nvGrpSpPr>
            <p:grpSpPr>
              <a:xfrm>
                <a:off x="374040" y="4450680"/>
                <a:ext cx="1842480" cy="1478160"/>
                <a:chOff x="374040" y="4450680"/>
                <a:chExt cx="1842480" cy="1478160"/>
              </a:xfrm>
            </p:grpSpPr>
            <p:sp>
              <p:nvSpPr>
                <p:cNvPr id="749" name="Rectangle 38"/>
                <p:cNvSpPr/>
                <p:nvPr/>
              </p:nvSpPr>
              <p:spPr>
                <a:xfrm>
                  <a:off x="471960" y="4450680"/>
                  <a:ext cx="164664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0-4/0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Rectangle 39"/>
                <p:cNvSpPr/>
                <p:nvPr/>
              </p:nvSpPr>
              <p:spPr>
                <a:xfrm>
                  <a:off x="374040" y="4450680"/>
                  <a:ext cx="184248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0"/>
              <p:cNvGrpSpPr/>
              <p:nvPr/>
            </p:nvGrpSpPr>
            <p:grpSpPr>
              <a:xfrm>
                <a:off x="2216880" y="4450680"/>
                <a:ext cx="1617120" cy="1478160"/>
                <a:chOff x="2216880" y="4450680"/>
                <a:chExt cx="1617120" cy="1478160"/>
              </a:xfrm>
            </p:grpSpPr>
            <p:sp>
              <p:nvSpPr>
                <p:cNvPr id="752" name="Rectangle 41"/>
                <p:cNvSpPr/>
                <p:nvPr/>
              </p:nvSpPr>
              <p:spPr>
                <a:xfrm>
                  <a:off x="2314800" y="4450680"/>
                  <a:ext cx="142128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-0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اعت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42"/>
                <p:cNvSpPr/>
                <p:nvPr/>
              </p:nvSpPr>
              <p:spPr>
                <a:xfrm>
                  <a:off x="2216880" y="4450680"/>
                  <a:ext cx="161712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43"/>
              <p:cNvGrpSpPr/>
              <p:nvPr/>
            </p:nvGrpSpPr>
            <p:grpSpPr>
              <a:xfrm>
                <a:off x="3834360" y="4450680"/>
                <a:ext cx="3423960" cy="1478160"/>
                <a:chOff x="3834360" y="4450680"/>
                <a:chExt cx="3423960" cy="1478160"/>
              </a:xfrm>
            </p:grpSpPr>
            <p:sp>
              <p:nvSpPr>
                <p:cNvPr id="755" name="Rectangle 44"/>
                <p:cNvSpPr/>
                <p:nvPr/>
              </p:nvSpPr>
              <p:spPr>
                <a:xfrm>
                  <a:off x="3932280" y="4450680"/>
                  <a:ext cx="3228120" cy="14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آنافيلاكسي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45"/>
                <p:cNvSpPr/>
                <p:nvPr/>
              </p:nvSpPr>
              <p:spPr>
                <a:xfrm>
                  <a:off x="3834360" y="4450680"/>
                  <a:ext cx="3423960" cy="14781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7" name="Rectangle 46"/>
            <p:cNvSpPr/>
            <p:nvPr/>
          </p:nvSpPr>
          <p:spPr>
            <a:xfrm>
              <a:off x="365040" y="0"/>
              <a:ext cx="8778600" cy="5944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"/>
          <p:cNvGrpSpPr/>
          <p:nvPr/>
        </p:nvGrpSpPr>
        <p:grpSpPr>
          <a:xfrm>
            <a:off x="0" y="457200"/>
            <a:ext cx="9143640" cy="6019560"/>
            <a:chOff x="0" y="457200"/>
            <a:chExt cx="9143640" cy="6019560"/>
          </a:xfrm>
        </p:grpSpPr>
        <p:grpSp>
          <p:nvGrpSpPr>
            <p:cNvPr id="759" name="Group 3"/>
            <p:cNvGrpSpPr/>
            <p:nvPr/>
          </p:nvGrpSpPr>
          <p:grpSpPr>
            <a:xfrm>
              <a:off x="9360" y="466920"/>
              <a:ext cx="9123120" cy="5999760"/>
              <a:chOff x="9360" y="466920"/>
              <a:chExt cx="9123120" cy="5999760"/>
            </a:xfrm>
          </p:grpSpPr>
          <p:grpSp>
            <p:nvGrpSpPr>
              <p:cNvPr id="760" name="Group 4"/>
              <p:cNvGrpSpPr/>
              <p:nvPr/>
            </p:nvGrpSpPr>
            <p:grpSpPr>
              <a:xfrm>
                <a:off x="9360" y="466920"/>
                <a:ext cx="1918800" cy="1419480"/>
                <a:chOff x="9360" y="466920"/>
                <a:chExt cx="1918800" cy="1419480"/>
              </a:xfrm>
            </p:grpSpPr>
            <p:sp>
              <p:nvSpPr>
                <p:cNvPr id="761" name="Rectangle 5"/>
                <p:cNvSpPr/>
                <p:nvPr/>
              </p:nvSpPr>
              <p:spPr>
                <a:xfrm>
                  <a:off x="111240" y="466920"/>
                  <a:ext cx="171504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000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تا </a:t>
                  </a:r>
                  <a:r>
                    <a:rPr b="1" lang="ar-SA" sz="24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000/6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6"/>
                <p:cNvSpPr/>
                <p:nvPr/>
              </p:nvSpPr>
              <p:spPr>
                <a:xfrm>
                  <a:off x="9360" y="466920"/>
                  <a:ext cx="191880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7"/>
              <p:cNvGrpSpPr/>
              <p:nvPr/>
            </p:nvGrpSpPr>
            <p:grpSpPr>
              <a:xfrm>
                <a:off x="1928520" y="466920"/>
                <a:ext cx="1684440" cy="1419480"/>
                <a:chOff x="1928520" y="466920"/>
                <a:chExt cx="1684440" cy="1419480"/>
              </a:xfrm>
            </p:grpSpPr>
            <p:sp>
              <p:nvSpPr>
                <p:cNvPr id="764" name="Rectangle 8"/>
                <p:cNvSpPr/>
                <p:nvPr/>
              </p:nvSpPr>
              <p:spPr>
                <a:xfrm>
                  <a:off x="2030400" y="466920"/>
                  <a:ext cx="148068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4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اعت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9"/>
                <p:cNvSpPr/>
                <p:nvPr/>
              </p:nvSpPr>
              <p:spPr>
                <a:xfrm>
                  <a:off x="1928520" y="466920"/>
                  <a:ext cx="168444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10"/>
              <p:cNvGrpSpPr/>
              <p:nvPr/>
            </p:nvGrpSpPr>
            <p:grpSpPr>
              <a:xfrm>
                <a:off x="3613680" y="466920"/>
                <a:ext cx="3566160" cy="1419480"/>
                <a:chOff x="3613680" y="466920"/>
                <a:chExt cx="3566160" cy="1419480"/>
              </a:xfrm>
            </p:grpSpPr>
            <p:sp>
              <p:nvSpPr>
                <p:cNvPr id="767" name="Rectangle 11"/>
                <p:cNvSpPr/>
                <p:nvPr/>
              </p:nvSpPr>
              <p:spPr>
                <a:xfrm>
                  <a:off x="3715560" y="466920"/>
                  <a:ext cx="336240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0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جيغ زدن مداوم بيش از سه ساعت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Rectangle 12"/>
                <p:cNvSpPr/>
                <p:nvPr/>
              </p:nvSpPr>
              <p:spPr>
                <a:xfrm>
                  <a:off x="3613680" y="466920"/>
                  <a:ext cx="356616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13"/>
              <p:cNvGrpSpPr/>
              <p:nvPr/>
            </p:nvGrpSpPr>
            <p:grpSpPr>
              <a:xfrm>
                <a:off x="7180200" y="466920"/>
                <a:ext cx="1952280" cy="5999760"/>
                <a:chOff x="7180200" y="466920"/>
                <a:chExt cx="1952280" cy="5999760"/>
              </a:xfrm>
            </p:grpSpPr>
            <p:sp>
              <p:nvSpPr>
                <p:cNvPr id="770" name="Rectangle 14"/>
                <p:cNvSpPr/>
                <p:nvPr/>
              </p:nvSpPr>
              <p:spPr>
                <a:xfrm>
                  <a:off x="7282080" y="466920"/>
                  <a:ext cx="1748520" cy="599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ياه سرفه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(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DTP-whole Cell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)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15"/>
                <p:cNvSpPr/>
                <p:nvPr/>
              </p:nvSpPr>
              <p:spPr>
                <a:xfrm>
                  <a:off x="7180200" y="466920"/>
                  <a:ext cx="1952280" cy="599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16"/>
              <p:cNvGrpSpPr/>
              <p:nvPr/>
            </p:nvGrpSpPr>
            <p:grpSpPr>
              <a:xfrm>
                <a:off x="9360" y="1886760"/>
                <a:ext cx="1918800" cy="1052640"/>
                <a:chOff x="9360" y="1886760"/>
                <a:chExt cx="1918800" cy="1052640"/>
              </a:xfrm>
            </p:grpSpPr>
            <p:sp>
              <p:nvSpPr>
                <p:cNvPr id="773" name="Rectangle 17"/>
                <p:cNvSpPr/>
                <p:nvPr/>
              </p:nvSpPr>
              <p:spPr>
                <a:xfrm>
                  <a:off x="111240" y="1886760"/>
                  <a:ext cx="171504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70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تا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80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18"/>
                <p:cNvSpPr/>
                <p:nvPr/>
              </p:nvSpPr>
              <p:spPr>
                <a:xfrm>
                  <a:off x="9360" y="1886760"/>
                  <a:ext cx="191880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Group 19"/>
              <p:cNvGrpSpPr/>
              <p:nvPr/>
            </p:nvGrpSpPr>
            <p:grpSpPr>
              <a:xfrm>
                <a:off x="1928520" y="1886760"/>
                <a:ext cx="1684440" cy="1052640"/>
                <a:chOff x="1928520" y="1886760"/>
                <a:chExt cx="1684440" cy="1052640"/>
              </a:xfrm>
            </p:grpSpPr>
            <p:sp>
              <p:nvSpPr>
                <p:cNvPr id="776" name="Rectangle 20"/>
                <p:cNvSpPr/>
                <p:nvPr/>
              </p:nvSpPr>
              <p:spPr>
                <a:xfrm>
                  <a:off x="2030400" y="1886760"/>
                  <a:ext cx="148068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-0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روز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21"/>
                <p:cNvSpPr/>
                <p:nvPr/>
              </p:nvSpPr>
              <p:spPr>
                <a:xfrm>
                  <a:off x="1928520" y="1886760"/>
                  <a:ext cx="168444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Group 22"/>
              <p:cNvGrpSpPr/>
              <p:nvPr/>
            </p:nvGrpSpPr>
            <p:grpSpPr>
              <a:xfrm>
                <a:off x="3613680" y="1886760"/>
                <a:ext cx="3566160" cy="1052640"/>
                <a:chOff x="3613680" y="1886760"/>
                <a:chExt cx="3566160" cy="1052640"/>
              </a:xfrm>
            </p:grpSpPr>
            <p:sp>
              <p:nvSpPr>
                <p:cNvPr id="779" name="Rectangle 23"/>
                <p:cNvSpPr/>
                <p:nvPr/>
              </p:nvSpPr>
              <p:spPr>
                <a:xfrm>
                  <a:off x="3715560" y="1886760"/>
                  <a:ext cx="336240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تشنج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4"/>
                <p:cNvSpPr/>
                <p:nvPr/>
              </p:nvSpPr>
              <p:spPr>
                <a:xfrm>
                  <a:off x="3613680" y="1886760"/>
                  <a:ext cx="356616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oup 25"/>
              <p:cNvGrpSpPr/>
              <p:nvPr/>
            </p:nvGrpSpPr>
            <p:grpSpPr>
              <a:xfrm>
                <a:off x="9360" y="2940120"/>
                <a:ext cx="1918800" cy="1419480"/>
                <a:chOff x="9360" y="2940120"/>
                <a:chExt cx="1918800" cy="1419480"/>
              </a:xfrm>
            </p:grpSpPr>
            <p:sp>
              <p:nvSpPr>
                <p:cNvPr id="782" name="Rectangle 26"/>
                <p:cNvSpPr/>
                <p:nvPr/>
              </p:nvSpPr>
              <p:spPr>
                <a:xfrm>
                  <a:off x="111240" y="2940120"/>
                  <a:ext cx="171504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990-30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27"/>
                <p:cNvSpPr/>
                <p:nvPr/>
              </p:nvSpPr>
              <p:spPr>
                <a:xfrm>
                  <a:off x="9360" y="2940120"/>
                  <a:ext cx="191880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Group 28"/>
              <p:cNvGrpSpPr/>
              <p:nvPr/>
            </p:nvGrpSpPr>
            <p:grpSpPr>
              <a:xfrm>
                <a:off x="1928520" y="2940120"/>
                <a:ext cx="1684440" cy="1419480"/>
                <a:chOff x="1928520" y="2940120"/>
                <a:chExt cx="1684440" cy="1419480"/>
              </a:xfrm>
            </p:grpSpPr>
            <p:sp>
              <p:nvSpPr>
                <p:cNvPr id="785" name="Rectangle 29"/>
                <p:cNvSpPr/>
                <p:nvPr/>
              </p:nvSpPr>
              <p:spPr>
                <a:xfrm>
                  <a:off x="2030400" y="2940120"/>
                  <a:ext cx="148068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4-0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اعت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30"/>
                <p:cNvSpPr/>
                <p:nvPr/>
              </p:nvSpPr>
              <p:spPr>
                <a:xfrm>
                  <a:off x="1928520" y="2940120"/>
                  <a:ext cx="168444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31"/>
              <p:cNvGrpSpPr/>
              <p:nvPr/>
            </p:nvGrpSpPr>
            <p:grpSpPr>
              <a:xfrm>
                <a:off x="3613680" y="2940120"/>
                <a:ext cx="3566160" cy="1419480"/>
                <a:chOff x="3613680" y="2940120"/>
                <a:chExt cx="3566160" cy="1419480"/>
              </a:xfrm>
            </p:grpSpPr>
            <p:sp>
              <p:nvSpPr>
                <p:cNvPr id="788" name="Rectangle 32"/>
                <p:cNvSpPr/>
                <p:nvPr/>
              </p:nvSpPr>
              <p:spPr>
                <a:xfrm>
                  <a:off x="3715560" y="2940120"/>
                  <a:ext cx="3362400" cy="14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0000"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كم شدن عكس العمل عضلاني و شل شدن آن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33"/>
                <p:cNvSpPr/>
                <p:nvPr/>
              </p:nvSpPr>
              <p:spPr>
                <a:xfrm>
                  <a:off x="3613680" y="2940120"/>
                  <a:ext cx="3566160" cy="14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34"/>
              <p:cNvGrpSpPr/>
              <p:nvPr/>
            </p:nvGrpSpPr>
            <p:grpSpPr>
              <a:xfrm>
                <a:off x="9360" y="4359960"/>
                <a:ext cx="1918800" cy="1053360"/>
                <a:chOff x="9360" y="4359960"/>
                <a:chExt cx="1918800" cy="1053360"/>
              </a:xfrm>
            </p:grpSpPr>
            <p:sp>
              <p:nvSpPr>
                <p:cNvPr id="791" name="Rectangle 35"/>
                <p:cNvSpPr/>
                <p:nvPr/>
              </p:nvSpPr>
              <p:spPr>
                <a:xfrm>
                  <a:off x="111240" y="4359960"/>
                  <a:ext cx="1715040" cy="10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0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Rectangle 36"/>
                <p:cNvSpPr/>
                <p:nvPr/>
              </p:nvSpPr>
              <p:spPr>
                <a:xfrm>
                  <a:off x="9360" y="4359960"/>
                  <a:ext cx="1918800" cy="105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3" name="Group 37"/>
              <p:cNvGrpSpPr/>
              <p:nvPr/>
            </p:nvGrpSpPr>
            <p:grpSpPr>
              <a:xfrm>
                <a:off x="1928520" y="4359960"/>
                <a:ext cx="1684440" cy="1053360"/>
                <a:chOff x="1928520" y="4359960"/>
                <a:chExt cx="1684440" cy="1053360"/>
              </a:xfrm>
            </p:grpSpPr>
            <p:sp>
              <p:nvSpPr>
                <p:cNvPr id="794" name="Rectangle 38"/>
                <p:cNvSpPr/>
                <p:nvPr/>
              </p:nvSpPr>
              <p:spPr>
                <a:xfrm>
                  <a:off x="2030400" y="4359960"/>
                  <a:ext cx="1480680" cy="10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-0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ساعت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39"/>
                <p:cNvSpPr/>
                <p:nvPr/>
              </p:nvSpPr>
              <p:spPr>
                <a:xfrm>
                  <a:off x="1928520" y="4359960"/>
                  <a:ext cx="1684440" cy="105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40"/>
              <p:cNvGrpSpPr/>
              <p:nvPr/>
            </p:nvGrpSpPr>
            <p:grpSpPr>
              <a:xfrm>
                <a:off x="3613680" y="4359960"/>
                <a:ext cx="3566160" cy="1053360"/>
                <a:chOff x="3613680" y="4359960"/>
                <a:chExt cx="3566160" cy="1053360"/>
              </a:xfrm>
            </p:grpSpPr>
            <p:sp>
              <p:nvSpPr>
                <p:cNvPr id="797" name="Rectangle 41"/>
                <p:cNvSpPr/>
                <p:nvPr/>
              </p:nvSpPr>
              <p:spPr>
                <a:xfrm>
                  <a:off x="3715560" y="4359960"/>
                  <a:ext cx="3362400" cy="105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آنافيلاكسي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42"/>
                <p:cNvSpPr/>
                <p:nvPr/>
              </p:nvSpPr>
              <p:spPr>
                <a:xfrm>
                  <a:off x="3613680" y="4359960"/>
                  <a:ext cx="3566160" cy="105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43"/>
              <p:cNvGrpSpPr/>
              <p:nvPr/>
            </p:nvGrpSpPr>
            <p:grpSpPr>
              <a:xfrm>
                <a:off x="9360" y="5413680"/>
                <a:ext cx="1918800" cy="1052640"/>
                <a:chOff x="9360" y="5413680"/>
                <a:chExt cx="1918800" cy="1052640"/>
              </a:xfrm>
            </p:grpSpPr>
            <p:sp>
              <p:nvSpPr>
                <p:cNvPr id="800" name="Rectangle 44"/>
                <p:cNvSpPr/>
                <p:nvPr/>
              </p:nvSpPr>
              <p:spPr>
                <a:xfrm>
                  <a:off x="111240" y="5413680"/>
                  <a:ext cx="171504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1-0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45"/>
                <p:cNvSpPr/>
                <p:nvPr/>
              </p:nvSpPr>
              <p:spPr>
                <a:xfrm>
                  <a:off x="9360" y="5413680"/>
                  <a:ext cx="191880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46"/>
              <p:cNvGrpSpPr/>
              <p:nvPr/>
            </p:nvGrpSpPr>
            <p:grpSpPr>
              <a:xfrm>
                <a:off x="1928520" y="5413680"/>
                <a:ext cx="1684440" cy="1052640"/>
                <a:chOff x="1928520" y="5413680"/>
                <a:chExt cx="1684440" cy="1052640"/>
              </a:xfrm>
            </p:grpSpPr>
            <p:sp>
              <p:nvSpPr>
                <p:cNvPr id="803" name="Rectangle 47"/>
                <p:cNvSpPr/>
                <p:nvPr/>
              </p:nvSpPr>
              <p:spPr>
                <a:xfrm>
                  <a:off x="2030400" y="5413680"/>
                  <a:ext cx="148068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8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2-0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روز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48"/>
                <p:cNvSpPr/>
                <p:nvPr/>
              </p:nvSpPr>
              <p:spPr>
                <a:xfrm>
                  <a:off x="1928520" y="5413680"/>
                  <a:ext cx="168444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Group 49"/>
              <p:cNvGrpSpPr/>
              <p:nvPr/>
            </p:nvGrpSpPr>
            <p:grpSpPr>
              <a:xfrm>
                <a:off x="3613680" y="5413680"/>
                <a:ext cx="3566160" cy="1052640"/>
                <a:chOff x="3613680" y="5413680"/>
                <a:chExt cx="3566160" cy="1052640"/>
              </a:xfrm>
            </p:grpSpPr>
            <p:sp>
              <p:nvSpPr>
                <p:cNvPr id="806" name="Rectangle 50"/>
                <p:cNvSpPr/>
                <p:nvPr/>
              </p:nvSpPr>
              <p:spPr>
                <a:xfrm>
                  <a:off x="3715560" y="5413680"/>
                  <a:ext cx="3362400" cy="10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Nazanin"/>
                    </a:rPr>
                    <a:t>آنسفاليت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51"/>
                <p:cNvSpPr/>
                <p:nvPr/>
              </p:nvSpPr>
              <p:spPr>
                <a:xfrm>
                  <a:off x="3613680" y="5413680"/>
                  <a:ext cx="3566160" cy="10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8" name="Rectangle 52"/>
            <p:cNvSpPr/>
            <p:nvPr/>
          </p:nvSpPr>
          <p:spPr>
            <a:xfrm>
              <a:off x="0" y="457200"/>
              <a:ext cx="9143640" cy="60195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b7"/>
                </a:solidFill>
                <a:latin typeface="Arial Black"/>
                <a:ea typeface="Mitra"/>
              </a:rPr>
              <a:t>2</a:t>
            </a:r>
            <a:r>
              <a:rPr b="0" lang="ar-SA" sz="4400" spc="-1" strike="noStrike">
                <a:solidFill>
                  <a:srgbClr val="ffffb7"/>
                </a:solidFill>
                <a:latin typeface="Arial Black"/>
                <a:ea typeface="Mitra"/>
              </a:rPr>
              <a:t>-</a:t>
            </a:r>
            <a:r>
              <a:rPr b="0" lang="ar-SA" sz="4400" spc="-1" strike="noStrike">
                <a:solidFill>
                  <a:srgbClr val="ffffb7"/>
                </a:solidFill>
                <a:latin typeface="Arial"/>
              </a:rPr>
              <a:t>  </a:t>
            </a:r>
            <a:r>
              <a:rPr b="0" lang="ar-SA" sz="4400" spc="-1" strike="noStrike">
                <a:solidFill>
                  <a:srgbClr val="ffffb7"/>
                </a:solidFill>
                <a:latin typeface="Arial Black"/>
                <a:cs typeface="Mitra"/>
              </a:rPr>
              <a:t>خطاي برنامه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Mitra"/>
              </a:rPr>
              <a:t>Programme Error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خطاي برنامه ناشي از اشتباهات و حوادث در هنگام تهيه  حمل و نقل و يا تجويز واك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  اكثر آنها قابل پيشگيري هست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B Kamran"/>
              </a:rPr>
              <a:t>  خطاي برنامه بصورت خوشه اي :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  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Kamran"/>
              </a:rPr>
              <a:t>افراد تزريق كنند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  دريك مرك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   تنها يك ويال  آلود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 تعدادي از ويالها مثلا يخ زد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Kamran"/>
              </a:rPr>
              <a:t>شايع ترين خطاهاي برنامه عفونتها هستند كه بوسيله تزريق غير استريل ايجاد مي شو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1920" y="571320"/>
            <a:ext cx="845820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 Black"/>
                <a:cs typeface="Mitra"/>
              </a:rPr>
              <a:t>خطاهاي برنامه كه منجربه عوارض نامطلوب بعد از ايمنسازي مي شود</a:t>
            </a:r>
            <a:r>
              <a:rPr b="0" lang="ar-SA" sz="4400" spc="-1" strike="noStrike">
                <a:solidFill>
                  <a:srgbClr val="ffff00"/>
                </a:solidFill>
                <a:latin typeface="Arial Black"/>
                <a:ea typeface="Mitra"/>
              </a:rPr>
              <a:t>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812" name="Group 3"/>
          <p:cNvGrpSpPr/>
          <p:nvPr/>
        </p:nvGrpSpPr>
        <p:grpSpPr>
          <a:xfrm>
            <a:off x="0" y="1295280"/>
            <a:ext cx="9143640" cy="5562360"/>
            <a:chOff x="0" y="1295280"/>
            <a:chExt cx="9143640" cy="5562360"/>
          </a:xfrm>
        </p:grpSpPr>
        <p:grpSp>
          <p:nvGrpSpPr>
            <p:cNvPr id="813" name="Group 4"/>
            <p:cNvGrpSpPr/>
            <p:nvPr/>
          </p:nvGrpSpPr>
          <p:grpSpPr>
            <a:xfrm>
              <a:off x="10080" y="1307880"/>
              <a:ext cx="9122760" cy="5535360"/>
              <a:chOff x="10080" y="1307880"/>
              <a:chExt cx="9122760" cy="5535360"/>
            </a:xfrm>
          </p:grpSpPr>
          <p:grpSp>
            <p:nvGrpSpPr>
              <p:cNvPr id="814" name="Group 5"/>
              <p:cNvGrpSpPr/>
              <p:nvPr/>
            </p:nvGrpSpPr>
            <p:grpSpPr>
              <a:xfrm>
                <a:off x="10080" y="1307880"/>
                <a:ext cx="4560840" cy="1445400"/>
                <a:chOff x="10080" y="1307880"/>
                <a:chExt cx="4560840" cy="1445400"/>
              </a:xfrm>
            </p:grpSpPr>
            <p:sp>
              <p:nvSpPr>
                <p:cNvPr id="815" name="Rectangle 6"/>
                <p:cNvSpPr/>
                <p:nvPr/>
              </p:nvSpPr>
              <p:spPr>
                <a:xfrm>
                  <a:off x="119520" y="1307880"/>
                  <a:ext cx="4341960" cy="14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عارضه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7"/>
                <p:cNvSpPr/>
                <p:nvPr/>
              </p:nvSpPr>
              <p:spPr>
                <a:xfrm>
                  <a:off x="10080" y="1307880"/>
                  <a:ext cx="4560840" cy="14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8"/>
              <p:cNvGrpSpPr/>
              <p:nvPr/>
            </p:nvGrpSpPr>
            <p:grpSpPr>
              <a:xfrm>
                <a:off x="4571280" y="1307880"/>
                <a:ext cx="4561560" cy="1445400"/>
                <a:chOff x="4571280" y="1307880"/>
                <a:chExt cx="4561560" cy="1445400"/>
              </a:xfrm>
            </p:grpSpPr>
            <p:sp>
              <p:nvSpPr>
                <p:cNvPr id="818" name="Rectangle 9"/>
                <p:cNvSpPr/>
                <p:nvPr/>
              </p:nvSpPr>
              <p:spPr>
                <a:xfrm>
                  <a:off x="4680720" y="1307880"/>
                  <a:ext cx="4341960" cy="14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خطاي برنامه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10"/>
                <p:cNvSpPr/>
                <p:nvPr/>
              </p:nvSpPr>
              <p:spPr>
                <a:xfrm>
                  <a:off x="4571280" y="1307880"/>
                  <a:ext cx="4561560" cy="144540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11"/>
              <p:cNvGrpSpPr/>
              <p:nvPr/>
            </p:nvGrpSpPr>
            <p:grpSpPr>
              <a:xfrm>
                <a:off x="10080" y="2070360"/>
                <a:ext cx="4560840" cy="4772880"/>
                <a:chOff x="10080" y="2070360"/>
                <a:chExt cx="4560840" cy="4772880"/>
              </a:xfrm>
            </p:grpSpPr>
            <p:sp>
              <p:nvSpPr>
                <p:cNvPr id="821" name="Rectangle 12"/>
                <p:cNvSpPr/>
                <p:nvPr/>
              </p:nvSpPr>
              <p:spPr>
                <a:xfrm>
                  <a:off x="119520" y="2753640"/>
                  <a:ext cx="4341960" cy="40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2000"/>
                </a:bodyPr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</a:t>
                  </a: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  عفونت مثل ترشحات چركي محل تزريق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آبسه 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سلوليت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 عفونت هاي عمومي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Sepsis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 سندرم شوك توكسيك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08800" indent="-208800"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 بيماريهاي منتقله از راه خون مثل هپاتيت و 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HIV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13"/>
                <p:cNvSpPr/>
                <p:nvPr/>
              </p:nvSpPr>
              <p:spPr>
                <a:xfrm>
                  <a:off x="10080" y="2070360"/>
                  <a:ext cx="4560840" cy="477288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14"/>
              <p:cNvGrpSpPr/>
              <p:nvPr/>
            </p:nvGrpSpPr>
            <p:grpSpPr>
              <a:xfrm>
                <a:off x="4571280" y="2070360"/>
                <a:ext cx="4561560" cy="4772880"/>
                <a:chOff x="4571280" y="2070360"/>
                <a:chExt cx="4561560" cy="4772880"/>
              </a:xfrm>
            </p:grpSpPr>
            <p:sp>
              <p:nvSpPr>
                <p:cNvPr id="824" name="Rectangle 15"/>
                <p:cNvSpPr/>
                <p:nvPr/>
              </p:nvSpPr>
              <p:spPr>
                <a:xfrm>
                  <a:off x="4571280" y="2070360"/>
                  <a:ext cx="4451760" cy="4772880"/>
                </a:xfrm>
                <a:prstGeom prst="rect">
                  <a:avLst/>
                </a:prstGeom>
                <a:noFill/>
                <a:ln w="936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  <a:ea typeface="Nazanin"/>
                    </a:rPr>
                    <a:t>    </a:t>
                  </a:r>
                  <a:r>
                    <a:rPr b="1" lang="ar-SA" sz="32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ت</a:t>
                  </a:r>
                  <a:r>
                    <a:rPr b="1" lang="fa-IR" sz="32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زر</a:t>
                  </a:r>
                  <a:r>
                    <a:rPr b="1" lang="ar-SA" sz="32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يقات غيراستريل</a:t>
                  </a: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  <a:ea typeface="Nazanin"/>
                    </a:rPr>
                    <a:t> :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- </a:t>
                  </a: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cs typeface="B Kamran"/>
                    </a:rPr>
                    <a:t>استفاده مجدد سرنگ يا سرسوزن يكبار مصرف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استريل كردن ناكافي سرنگ و سرسوزن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آلودگي واكسن يا حلال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  استفاده مجدد از واكسن بازسازي شده در جلسات بعدي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16"/>
                <p:cNvSpPr/>
                <p:nvPr/>
              </p:nvSpPr>
              <p:spPr>
                <a:xfrm>
                  <a:off x="4571280" y="2070360"/>
                  <a:ext cx="4561560" cy="477288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6" name="Rectangle 17"/>
            <p:cNvSpPr/>
            <p:nvPr/>
          </p:nvSpPr>
          <p:spPr>
            <a:xfrm>
              <a:off x="0" y="1295280"/>
              <a:ext cx="9143640" cy="5562360"/>
            </a:xfrm>
            <a:prstGeom prst="rect">
              <a:avLst/>
            </a:prstGeom>
            <a:noFill/>
            <a:ln w="144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2"/>
          <p:cNvGrpSpPr/>
          <p:nvPr/>
        </p:nvGrpSpPr>
        <p:grpSpPr>
          <a:xfrm>
            <a:off x="76320" y="563400"/>
            <a:ext cx="8829000" cy="5292720"/>
            <a:chOff x="76320" y="563400"/>
            <a:chExt cx="8829000" cy="5292720"/>
          </a:xfrm>
        </p:grpSpPr>
        <p:grpSp>
          <p:nvGrpSpPr>
            <p:cNvPr id="828" name="Group 3"/>
            <p:cNvGrpSpPr/>
            <p:nvPr/>
          </p:nvGrpSpPr>
          <p:grpSpPr>
            <a:xfrm>
              <a:off x="76320" y="563400"/>
              <a:ext cx="4413960" cy="5270400"/>
              <a:chOff x="76320" y="563400"/>
              <a:chExt cx="4413960" cy="5270400"/>
            </a:xfrm>
          </p:grpSpPr>
          <p:sp>
            <p:nvSpPr>
              <p:cNvPr id="829" name="Rectangle 4"/>
              <p:cNvSpPr/>
              <p:nvPr/>
            </p:nvSpPr>
            <p:spPr>
              <a:xfrm>
                <a:off x="182520" y="563400"/>
                <a:ext cx="4201920" cy="5270400"/>
              </a:xfrm>
              <a:prstGeom prst="rect">
                <a:avLst/>
              </a:pr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ffff"/>
                    </a:solidFill>
                    <a:latin typeface="Times New Roman"/>
                    <a:cs typeface="B Kamran"/>
                  </a:rPr>
                  <a:t>واكنش موضعي يا آبسه ناشي از تكان دادن ناكافي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ffff"/>
                    </a:solidFill>
                    <a:latin typeface="Times New Roman"/>
                    <a:cs typeface="B Kamran"/>
                  </a:rPr>
                  <a:t>اثرات دارو مثل داروهاي شل كننده عضلاني و تزريق انسولين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5"/>
              <p:cNvSpPr/>
              <p:nvPr/>
            </p:nvSpPr>
            <p:spPr>
              <a:xfrm>
                <a:off x="76320" y="563400"/>
                <a:ext cx="4413960" cy="5270400"/>
              </a:xfrm>
              <a:prstGeom prst="rect">
                <a:avLst/>
              </a:prstGeom>
              <a:noFill/>
              <a:ln w="0">
                <a:solidFill>
                  <a:srgbClr val="f2f2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" name="Group 6"/>
            <p:cNvGrpSpPr/>
            <p:nvPr/>
          </p:nvGrpSpPr>
          <p:grpSpPr>
            <a:xfrm>
              <a:off x="4500720" y="563400"/>
              <a:ext cx="4404600" cy="5292720"/>
              <a:chOff x="4500720" y="563400"/>
              <a:chExt cx="4404600" cy="5292720"/>
            </a:xfrm>
          </p:grpSpPr>
          <p:sp>
            <p:nvSpPr>
              <p:cNvPr id="832" name="Rectangle 7"/>
              <p:cNvSpPr/>
              <p:nvPr/>
            </p:nvSpPr>
            <p:spPr>
              <a:xfrm>
                <a:off x="4500720" y="570240"/>
                <a:ext cx="4345200" cy="5285880"/>
              </a:xfrm>
              <a:prstGeom prst="rect">
                <a:avLst/>
              </a:pr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 rtl="1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ffff"/>
                    </a:solidFill>
                    <a:latin typeface="Times New Roman"/>
                    <a:ea typeface="Mitra"/>
                  </a:rPr>
                  <a:t> </a:t>
                </a:r>
                <a:r>
                  <a:rPr b="1" lang="ar-SA" sz="3200" spc="-1" strike="noStrike">
                    <a:solidFill>
                      <a:srgbClr val="ffff00"/>
                    </a:solidFill>
                    <a:latin typeface="Times New Roman"/>
                    <a:cs typeface="Mitra"/>
                  </a:rPr>
                  <a:t>عدم تهيه صحيح واكسن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  <a:ea typeface="Mitr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Mitra"/>
                  </a:rPr>
                  <a:t>: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ffff"/>
                    </a:solidFill>
                    <a:latin typeface="Times New Roman"/>
                    <a:ea typeface="B Kamran"/>
                  </a:rPr>
                  <a:t> </a:t>
                </a:r>
                <a:r>
                  <a:rPr b="1" lang="ar-SA" sz="3200" spc="-1" strike="noStrike">
                    <a:solidFill>
                      <a:srgbClr val="ffffff"/>
                    </a:solidFill>
                    <a:latin typeface="Times New Roman"/>
                    <a:cs typeface="B Kamran"/>
                  </a:rPr>
                  <a:t>عدم بازسازي صحيح واكسن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 rtl="1">
                  <a:lnSpc>
                    <a:spcPct val="100000"/>
                  </a:lnSpc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ffff"/>
                    </a:solidFill>
                    <a:latin typeface="Times New Roman"/>
                    <a:cs typeface="B Kamran"/>
                  </a:rPr>
                  <a:t>استفاده از دارو به جاي واكسن يا حلال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8"/>
              <p:cNvSpPr/>
              <p:nvPr/>
            </p:nvSpPr>
            <p:spPr>
              <a:xfrm>
                <a:off x="4500720" y="563400"/>
                <a:ext cx="4404600" cy="5270400"/>
              </a:xfrm>
              <a:prstGeom prst="rect">
                <a:avLst/>
              </a:prstGeom>
              <a:noFill/>
              <a:ln w="0">
                <a:solidFill>
                  <a:srgbClr val="f2f2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142920" y="1143000"/>
            <a:ext cx="8772120" cy="5256720"/>
            <a:chOff x="142920" y="1143000"/>
            <a:chExt cx="8772120" cy="5256720"/>
          </a:xfrm>
        </p:grpSpPr>
        <p:grpSp>
          <p:nvGrpSpPr>
            <p:cNvPr id="835" name="Group 3"/>
            <p:cNvGrpSpPr/>
            <p:nvPr/>
          </p:nvGrpSpPr>
          <p:grpSpPr>
            <a:xfrm>
              <a:off x="258120" y="1143000"/>
              <a:ext cx="8646120" cy="5233320"/>
              <a:chOff x="258120" y="1143000"/>
              <a:chExt cx="8646120" cy="5233320"/>
            </a:xfrm>
          </p:grpSpPr>
          <p:grpSp>
            <p:nvGrpSpPr>
              <p:cNvPr id="836" name="Group 4"/>
              <p:cNvGrpSpPr/>
              <p:nvPr/>
            </p:nvGrpSpPr>
            <p:grpSpPr>
              <a:xfrm>
                <a:off x="258120" y="1143000"/>
                <a:ext cx="4402080" cy="5233320"/>
                <a:chOff x="258120" y="1143000"/>
                <a:chExt cx="4402080" cy="5233320"/>
              </a:xfrm>
            </p:grpSpPr>
            <p:sp>
              <p:nvSpPr>
                <p:cNvPr id="837" name="Rectangle 5"/>
                <p:cNvSpPr/>
                <p:nvPr/>
              </p:nvSpPr>
              <p:spPr>
                <a:xfrm>
                  <a:off x="258120" y="1164960"/>
                  <a:ext cx="4165200" cy="52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B Kamran"/>
                    </a:rPr>
                    <a:t>واكنش موضعي يا آبسه محل تزريق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B Kamran"/>
                    </a:rPr>
                    <a:t>صدمه به عصب سياتيك و غير موثر بودن بعضي از واكسنها مثل هپاتيت ب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 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6"/>
                <p:cNvSpPr/>
                <p:nvPr/>
              </p:nvSpPr>
              <p:spPr>
                <a:xfrm>
                  <a:off x="284400" y="1143000"/>
                  <a:ext cx="4375800" cy="52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7"/>
              <p:cNvGrpSpPr/>
              <p:nvPr/>
            </p:nvGrpSpPr>
            <p:grpSpPr>
              <a:xfrm>
                <a:off x="4633920" y="1164960"/>
                <a:ext cx="4270320" cy="5211360"/>
                <a:chOff x="4633920" y="1164960"/>
                <a:chExt cx="4270320" cy="5211360"/>
              </a:xfrm>
            </p:grpSpPr>
            <p:sp>
              <p:nvSpPr>
                <p:cNvPr id="840" name="Rectangle 8"/>
                <p:cNvSpPr/>
                <p:nvPr/>
              </p:nvSpPr>
              <p:spPr>
                <a:xfrm>
                  <a:off x="4633920" y="1164960"/>
                  <a:ext cx="4165200" cy="52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5000"/>
                </a:bodyPr>
                <a:p>
                  <a:pPr marL="215640" indent="-215640" algn="just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00"/>
                      </a:solidFill>
                      <a:latin typeface="Times New Roman"/>
                      <a:cs typeface="Nazanin"/>
                    </a:rPr>
                    <a:t>تزريق در محل نادرست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Nazanin"/>
                    </a:rPr>
                    <a:t> :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15640" indent="-215640" algn="just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15640" indent="-215640" algn="just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تزريق زيرجلدي بجاي داخل جلدي براي واكسن ب ث ژ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15640" indent="-215640" algn="just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-تزريق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 </a:t>
                  </a: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B Kamran"/>
                    </a:rPr>
                    <a:t>سطحي واكسنهاي ثلاث و توأم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15640" indent="-215640" algn="just" rtl="1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ea typeface="B Kamran"/>
                    </a:rPr>
                    <a:t>  تزريق در باسن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marL="215640" indent="-215640" algn="just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Rectangle 9"/>
                <p:cNvSpPr/>
                <p:nvPr/>
              </p:nvSpPr>
              <p:spPr>
                <a:xfrm>
                  <a:off x="4643640" y="1164960"/>
                  <a:ext cx="4260600" cy="5211360"/>
                </a:xfrm>
                <a:prstGeom prst="rect">
                  <a:avLst/>
                </a:prstGeom>
                <a:noFill/>
                <a:ln w="0">
                  <a:solidFill>
                    <a:srgbClr val="f2f2f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Rectangle 10"/>
            <p:cNvSpPr/>
            <p:nvPr/>
          </p:nvSpPr>
          <p:spPr>
            <a:xfrm>
              <a:off x="142920" y="1143000"/>
              <a:ext cx="8772120" cy="5256720"/>
            </a:xfrm>
            <a:prstGeom prst="rect">
              <a:avLst/>
            </a:prstGeom>
            <a:noFill/>
            <a:ln w="144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 Black"/>
                <a:cs typeface="Mitra"/>
              </a:rPr>
              <a:t>جهت جلوگيري از خطاي برنامه 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</a:rPr>
              <a:t>:</a:t>
            </a:r>
            <a:r>
              <a:rPr b="1" lang="ar-SA" sz="4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643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 واكسن بايد فقط توسط حلال هر كارخانه بازسازي شو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واكسنهاي باز سازي شده بايد درپايان هرجلسه ايمنسازي دور و هرگز دوباره استفاده نشو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هيچگونه دارو يا ماده اي در يخچال نگهداري واكسن نگهداري نشو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 كاركنان ايمنسازي بايد آموزش كافي ببين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 براي اطمينان از مراحل صحيح واكسيناسيون دائماً مورد نظارت قرار گير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 براي جمع آوري علت و تصحيح برنامه ، بررسي هاي دقيق اپيدميولوژي هر عارضه پس از ايمنسازي صورت گيرد .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itr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 Black"/>
                <a:ea typeface="Mitra"/>
              </a:rPr>
              <a:t>3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  <a:ea typeface="Mitra"/>
              </a:rPr>
              <a:t>-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  <a:ea typeface="Mitra"/>
              </a:rPr>
              <a:t> 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  <a:cs typeface="Mitra"/>
              </a:rPr>
              <a:t>اتفاقات همزمان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indenta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يك عارضه ممكن است همزمان با ايمنسازي اتفاق بيفتد كه به ايمنسازي ارتباط داده مي شو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اين نوع حوادث وابسته به شانس اس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اين موضوع بخصوص در بسيج واكسيناسيون بيشتر مشهود اس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براي مثال سندرم مرگ ناگهاني كودكان كه ممكن است همزمان با واكسيناسيون در دوران كودك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پيش بيني عوارض همزمان با توجه به تعداد جمعيتي كه واكسينه مي شو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28760" y="114300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 rtl="1"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Arial"/>
                <a:ea typeface="Mitra"/>
              </a:rPr>
              <a:t>AEFI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Mitra"/>
              </a:rPr>
              <a:t>A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itra"/>
              </a:rPr>
              <a:t>dver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Mitra"/>
              </a:rPr>
              <a:t>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itra"/>
              </a:rPr>
              <a:t>ven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Mitra"/>
              </a:rPr>
              <a:t>f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itra"/>
              </a:rPr>
              <a:t>ollowi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Mitra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itra"/>
              </a:rPr>
              <a:t>mmu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Mitra"/>
                <a:cs typeface="Nazanin"/>
              </a:rPr>
              <a:t>مراقبت پي آمدهاي نامطلوب ايمنساز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b7"/>
                </a:solidFill>
                <a:latin typeface="Arial Black"/>
                <a:cs typeface="Mitra"/>
              </a:rPr>
              <a:t>واكنش تزريق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Mitra"/>
              </a:rPr>
              <a:t>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Injection Reac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85480" y="1000080"/>
            <a:ext cx="862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هيچ ارتباطي با واكسن ندارد و ناشي از استرس بخصوص در بچه هاي بالاي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سال كه با كم كردن مدت انتظار، محيط مناسب و تهيه واكسن دور از ديد كودك مي توان آنرا كاهش دا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Kamran"/>
              </a:rPr>
              <a:t>افزايش تنف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  گيجي ، احساس سوزش در دور دهان و دست 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      استفرا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 كاهش هوشيا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  جيغ زدن براي فرار از واكسيناسيو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 واكنش هيجاني مثل تشن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-     ترس از سوز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B Kamran"/>
              </a:rPr>
              <a:t>حملات هيستريك در محل تجمعات مثل مدرس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b7"/>
                </a:solidFill>
                <a:latin typeface="Arial Black"/>
                <a:cs typeface="Mitra"/>
              </a:rPr>
              <a:t>واكنش تزريق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Mitra"/>
              </a:rPr>
              <a:t>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Injection Reac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14200" y="928800"/>
            <a:ext cx="8623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هيچ ارتباطي با واكسن ندارد و ناشي از استرس بخصوص در بچه هاي بالاي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 سال كه با كم كردن مدت انتظار، محيط مناسب و تهيه واكسن دور از ديد كودك مي توان آنرا كاهش دا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 افزايش ت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 گيجي ، احساس سوزش در دور دهان و دست 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      استفرا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كاهش هوشيار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 جيغ زدن براي فرار از واكسيناس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واكنش هيجاني مثل تشن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B Kamran"/>
              </a:rPr>
              <a:t>-     ترس از سوز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B Kamran"/>
              </a:rPr>
              <a:t>حملات هيستريك در محل تجمعات مثل مدرس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Water lil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38512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 Black"/>
                <a:cs typeface="Mitra"/>
              </a:rPr>
              <a:t>تعريف </a:t>
            </a:r>
            <a:r>
              <a:rPr b="0" lang="en-US" sz="6000" spc="-1" strike="noStrike">
                <a:solidFill>
                  <a:srgbClr val="ffff00"/>
                </a:solidFill>
                <a:latin typeface="Arial Black"/>
                <a:ea typeface="Mitra"/>
              </a:rPr>
              <a:t>AEFI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Mitra"/>
              </a:rPr>
              <a:t>هر پي آمد نامطلوب متعاقب ايمنسازي كه عقيد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Mitra"/>
              </a:rPr>
              <a:t>بر آن است كه علت آن توسط ايمنسازي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Mitra"/>
              </a:rPr>
              <a:t>ايجاد شده است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 Black"/>
                <a:cs typeface="Mitra"/>
              </a:rPr>
              <a:t>طبقه بندي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  <a:ea typeface="Mitr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  <a:ea typeface="Mitra"/>
              </a:rPr>
              <a:t>AEFI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  <a:ea typeface="Mitra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285840" y="1214280"/>
            <a:ext cx="8417160" cy="5119920"/>
            <a:chOff x="285840" y="1214280"/>
            <a:chExt cx="8417160" cy="5119920"/>
          </a:xfrm>
        </p:grpSpPr>
        <p:grpSp>
          <p:nvGrpSpPr>
            <p:cNvPr id="562" name="Group 4"/>
            <p:cNvGrpSpPr/>
            <p:nvPr/>
          </p:nvGrpSpPr>
          <p:grpSpPr>
            <a:xfrm>
              <a:off x="285840" y="1220400"/>
              <a:ext cx="8417160" cy="5106600"/>
              <a:chOff x="285840" y="1220400"/>
              <a:chExt cx="8417160" cy="5106600"/>
            </a:xfrm>
          </p:grpSpPr>
          <p:grpSp>
            <p:nvGrpSpPr>
              <p:cNvPr id="563" name="Group 5"/>
              <p:cNvGrpSpPr/>
              <p:nvPr/>
            </p:nvGrpSpPr>
            <p:grpSpPr>
              <a:xfrm>
                <a:off x="295200" y="1220400"/>
                <a:ext cx="4168440" cy="1165320"/>
                <a:chOff x="295200" y="1220400"/>
                <a:chExt cx="4168440" cy="1165320"/>
              </a:xfrm>
            </p:grpSpPr>
            <p:sp>
              <p:nvSpPr>
                <p:cNvPr id="564" name="Rectangle 6"/>
                <p:cNvSpPr/>
                <p:nvPr/>
              </p:nvSpPr>
              <p:spPr>
                <a:xfrm>
                  <a:off x="395280" y="1220400"/>
                  <a:ext cx="3968280" cy="116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وقتي كه واكسن بطور صحيح هم داده مي شود مواردي اتفاق مي افتد كه مربوط به جزء لاينفك خود واكسن مي باشد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7"/>
                <p:cNvSpPr/>
                <p:nvPr/>
              </p:nvSpPr>
              <p:spPr>
                <a:xfrm>
                  <a:off x="295200" y="1220400"/>
                  <a:ext cx="4168440" cy="116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8"/>
              <p:cNvGrpSpPr/>
              <p:nvPr/>
            </p:nvGrpSpPr>
            <p:grpSpPr>
              <a:xfrm>
                <a:off x="4429440" y="1220400"/>
                <a:ext cx="4204080" cy="1165320"/>
                <a:chOff x="4429440" y="1220400"/>
                <a:chExt cx="4204080" cy="1165320"/>
              </a:xfrm>
            </p:grpSpPr>
            <p:sp>
              <p:nvSpPr>
                <p:cNvPr id="567" name="Rectangle 9"/>
                <p:cNvSpPr/>
                <p:nvPr/>
              </p:nvSpPr>
              <p:spPr>
                <a:xfrm>
                  <a:off x="4429440" y="1220400"/>
                  <a:ext cx="4103640" cy="1165320"/>
                </a:xfrm>
                <a:prstGeom prst="rect">
                  <a:avLst/>
                </a:prstGeom>
                <a:noFill/>
                <a:ln w="936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fffff"/>
                      </a:solidFill>
                      <a:latin typeface="Times New Roman"/>
                      <a:cs typeface="Mitra"/>
                    </a:rPr>
                    <a:t>واكنش واكسن  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Mitra"/>
                    </a:rPr>
                    <a:t>Vaccine reaction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10"/>
                <p:cNvSpPr/>
                <p:nvPr/>
              </p:nvSpPr>
              <p:spPr>
                <a:xfrm>
                  <a:off x="4429440" y="1220400"/>
                  <a:ext cx="4204080" cy="116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11"/>
              <p:cNvGrpSpPr/>
              <p:nvPr/>
            </p:nvGrpSpPr>
            <p:grpSpPr>
              <a:xfrm>
                <a:off x="285840" y="2385720"/>
                <a:ext cx="4178160" cy="985320"/>
                <a:chOff x="285840" y="2385720"/>
                <a:chExt cx="4178160" cy="985320"/>
              </a:xfrm>
            </p:grpSpPr>
            <p:sp>
              <p:nvSpPr>
                <p:cNvPr id="570" name="Rectangle 12"/>
                <p:cNvSpPr/>
                <p:nvPr/>
              </p:nvSpPr>
              <p:spPr>
                <a:xfrm>
                  <a:off x="285840" y="2385720"/>
                  <a:ext cx="4143240" cy="9853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مربوط به آماده كردن ، حمل و نقل و</a:t>
                  </a:r>
                  <a:r>
                    <a:rPr b="0" lang="en-US" sz="22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 …</a:t>
                  </a: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. واكسنها ست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3"/>
                <p:cNvSpPr/>
                <p:nvPr/>
              </p:nvSpPr>
              <p:spPr>
                <a:xfrm>
                  <a:off x="295200" y="2385720"/>
                  <a:ext cx="4168800" cy="98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14"/>
              <p:cNvGrpSpPr/>
              <p:nvPr/>
            </p:nvGrpSpPr>
            <p:grpSpPr>
              <a:xfrm>
                <a:off x="4429440" y="2385720"/>
                <a:ext cx="4204080" cy="985320"/>
                <a:chOff x="4429440" y="2385720"/>
                <a:chExt cx="4204080" cy="985320"/>
              </a:xfrm>
            </p:grpSpPr>
            <p:sp>
              <p:nvSpPr>
                <p:cNvPr id="573" name="Rectangle 15"/>
                <p:cNvSpPr/>
                <p:nvPr/>
              </p:nvSpPr>
              <p:spPr>
                <a:xfrm>
                  <a:off x="4564440" y="2385720"/>
                  <a:ext cx="396864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2f2f2"/>
                      </a:solidFill>
                      <a:latin typeface="Times New Roman"/>
                      <a:cs typeface="Roya"/>
                    </a:rPr>
                    <a:t>اشتباه در برنامه</a:t>
                  </a:r>
                  <a:r>
                    <a:rPr b="1" lang="en-US" sz="3200" spc="-1" strike="noStrike">
                      <a:solidFill>
                        <a:srgbClr val="f2f2f2"/>
                      </a:solidFill>
                      <a:latin typeface="Times New Roman"/>
                      <a:ea typeface="Roya"/>
                    </a:rPr>
                    <a:t> 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2f2f2"/>
                      </a:solidFill>
                      <a:latin typeface="Times New Roman"/>
                      <a:ea typeface="Roya"/>
                    </a:rPr>
                    <a:t>Programme error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16"/>
                <p:cNvSpPr/>
                <p:nvPr/>
              </p:nvSpPr>
              <p:spPr>
                <a:xfrm>
                  <a:off x="4429440" y="2385720"/>
                  <a:ext cx="4204080" cy="985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7"/>
              <p:cNvGrpSpPr/>
              <p:nvPr/>
            </p:nvGrpSpPr>
            <p:grpSpPr>
              <a:xfrm>
                <a:off x="285840" y="3371040"/>
                <a:ext cx="4143240" cy="985320"/>
                <a:chOff x="285840" y="3371040"/>
                <a:chExt cx="4143240" cy="985320"/>
              </a:xfrm>
            </p:grpSpPr>
            <p:sp>
              <p:nvSpPr>
                <p:cNvPr id="576" name="Rectangle 18"/>
                <p:cNvSpPr/>
                <p:nvPr/>
              </p:nvSpPr>
              <p:spPr>
                <a:xfrm>
                  <a:off x="285840" y="3371040"/>
                  <a:ext cx="4143240" cy="9853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حوادثي كه بعد از ايمنسازي اتفاق مي افتد اما ارتباطي به واكسن و واكسيناسيون ندارد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19"/>
                <p:cNvSpPr/>
                <p:nvPr/>
              </p:nvSpPr>
              <p:spPr>
                <a:xfrm>
                  <a:off x="295200" y="3371040"/>
                  <a:ext cx="4133880" cy="985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Group 20"/>
              <p:cNvGrpSpPr/>
              <p:nvPr/>
            </p:nvGrpSpPr>
            <p:grpSpPr>
              <a:xfrm>
                <a:off x="4429440" y="3357000"/>
                <a:ext cx="4273560" cy="999000"/>
                <a:chOff x="4429440" y="3357000"/>
                <a:chExt cx="4273560" cy="999000"/>
              </a:xfrm>
            </p:grpSpPr>
            <p:sp>
              <p:nvSpPr>
                <p:cNvPr id="579" name="Rectangle 21"/>
                <p:cNvSpPr/>
                <p:nvPr/>
              </p:nvSpPr>
              <p:spPr>
                <a:xfrm>
                  <a:off x="4429440" y="3371040"/>
                  <a:ext cx="4103640" cy="98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همزماني</a:t>
                  </a:r>
                  <a:r>
                    <a:rPr b="1" lang="en-US" sz="32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 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Coincidental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22"/>
                <p:cNvSpPr/>
                <p:nvPr/>
              </p:nvSpPr>
              <p:spPr>
                <a:xfrm>
                  <a:off x="4499640" y="3357000"/>
                  <a:ext cx="4203360" cy="9849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23"/>
              <p:cNvGrpSpPr/>
              <p:nvPr/>
            </p:nvGrpSpPr>
            <p:grpSpPr>
              <a:xfrm>
                <a:off x="295200" y="4356720"/>
                <a:ext cx="4168440" cy="985320"/>
                <a:chOff x="295200" y="4356720"/>
                <a:chExt cx="4168440" cy="985320"/>
              </a:xfrm>
            </p:grpSpPr>
            <p:sp>
              <p:nvSpPr>
                <p:cNvPr id="582" name="Rectangle 24"/>
                <p:cNvSpPr/>
                <p:nvPr/>
              </p:nvSpPr>
              <p:spPr>
                <a:xfrm>
                  <a:off x="395280" y="4356720"/>
                  <a:ext cx="396828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ناشي از دلشوره يا درد ناشي از واكسن است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25"/>
                <p:cNvSpPr/>
                <p:nvPr/>
              </p:nvSpPr>
              <p:spPr>
                <a:xfrm>
                  <a:off x="295200" y="4356720"/>
                  <a:ext cx="4168440" cy="985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Group 26"/>
              <p:cNvGrpSpPr/>
              <p:nvPr/>
            </p:nvGrpSpPr>
            <p:grpSpPr>
              <a:xfrm>
                <a:off x="4464360" y="4356720"/>
                <a:ext cx="4169160" cy="985320"/>
                <a:chOff x="4464360" y="4356720"/>
                <a:chExt cx="4169160" cy="985320"/>
              </a:xfrm>
            </p:grpSpPr>
            <p:sp>
              <p:nvSpPr>
                <p:cNvPr id="585" name="Rectangle 27"/>
                <p:cNvSpPr/>
                <p:nvPr/>
              </p:nvSpPr>
              <p:spPr>
                <a:xfrm>
                  <a:off x="4564440" y="4356720"/>
                  <a:ext cx="396864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واكنش تزريقات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Injection React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28"/>
                <p:cNvSpPr/>
                <p:nvPr/>
              </p:nvSpPr>
              <p:spPr>
                <a:xfrm>
                  <a:off x="4464360" y="4356720"/>
                  <a:ext cx="4169160" cy="985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9"/>
              <p:cNvGrpSpPr/>
              <p:nvPr/>
            </p:nvGrpSpPr>
            <p:grpSpPr>
              <a:xfrm>
                <a:off x="295200" y="5342040"/>
                <a:ext cx="4168440" cy="984960"/>
                <a:chOff x="295200" y="5342040"/>
                <a:chExt cx="4168440" cy="984960"/>
              </a:xfrm>
            </p:grpSpPr>
            <p:sp>
              <p:nvSpPr>
                <p:cNvPr id="588" name="Rectangle 30"/>
                <p:cNvSpPr/>
                <p:nvPr/>
              </p:nvSpPr>
              <p:spPr>
                <a:xfrm>
                  <a:off x="395280" y="5342040"/>
                  <a:ext cx="3968280" cy="98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مواردي كه ناشناخته باقي مي ماند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31"/>
                <p:cNvSpPr/>
                <p:nvPr/>
              </p:nvSpPr>
              <p:spPr>
                <a:xfrm>
                  <a:off x="295200" y="5342040"/>
                  <a:ext cx="4168440" cy="9849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32"/>
              <p:cNvGrpSpPr/>
              <p:nvPr/>
            </p:nvGrpSpPr>
            <p:grpSpPr>
              <a:xfrm>
                <a:off x="4464360" y="5342040"/>
                <a:ext cx="4169160" cy="984960"/>
                <a:chOff x="4464360" y="5342040"/>
                <a:chExt cx="4169160" cy="984960"/>
              </a:xfrm>
            </p:grpSpPr>
            <p:sp>
              <p:nvSpPr>
                <p:cNvPr id="591" name="Rectangle 33"/>
                <p:cNvSpPr/>
                <p:nvPr/>
              </p:nvSpPr>
              <p:spPr>
                <a:xfrm>
                  <a:off x="4564440" y="5342040"/>
                  <a:ext cx="3968640" cy="98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f2f2f2"/>
                      </a:solidFill>
                      <a:latin typeface="Times New Roman"/>
                      <a:cs typeface="Mitra"/>
                    </a:rPr>
                    <a:t>ناشناخته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2f2f2"/>
                      </a:solidFill>
                      <a:latin typeface="Times New Roman"/>
                      <a:ea typeface="Mitra"/>
                    </a:rPr>
                    <a:t>Unknown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34"/>
                <p:cNvSpPr/>
                <p:nvPr/>
              </p:nvSpPr>
              <p:spPr>
                <a:xfrm>
                  <a:off x="4464360" y="5342040"/>
                  <a:ext cx="4169160" cy="9849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3" name="Rectangle 35"/>
            <p:cNvSpPr/>
            <p:nvPr/>
          </p:nvSpPr>
          <p:spPr>
            <a:xfrm>
              <a:off x="285840" y="1214280"/>
              <a:ext cx="8357400" cy="5119920"/>
            </a:xfrm>
            <a:prstGeom prst="rect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Mitra"/>
              </a:rPr>
              <a:t>  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  <a:ea typeface="Mitr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  <a:ea typeface="Mitra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  <a:cs typeface="Mitra"/>
              </a:rPr>
              <a:t>واكنش مربوط به واكسن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        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Mitra"/>
              </a:rPr>
              <a:t>Vaccine Reac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-360" y="19288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B Kamran"/>
              </a:rPr>
              <a:t> 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B Kamran"/>
              </a:rPr>
              <a:t>واكنش هاي عادي ، خفيف, نادر و خيلي شدي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B Kamr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Kamran"/>
              </a:rPr>
              <a:t> بيشتر خفيف هستند و خودبخود بهبود پيدا ميكنند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 واكنشهاي خيلي شديد نادر هستند و موجب مشكلات طولاني مدت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B Kamr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B Kamran"/>
              </a:rPr>
              <a:t>نمي شوند.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 Black"/>
                <a:ea typeface="Mitra"/>
              </a:rPr>
              <a:t>1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  <a:ea typeface="Mitra"/>
              </a:rPr>
              <a:t>-1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  <a:ea typeface="Mitra"/>
              </a:rPr>
              <a:t>-</a:t>
            </a:r>
            <a:r>
              <a:rPr b="0" lang="ar-SA" sz="4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ar-SA" sz="4800" spc="-1" strike="noStrike">
                <a:solidFill>
                  <a:srgbClr val="ffff00"/>
                </a:solidFill>
                <a:latin typeface="Arial Black"/>
                <a:cs typeface="Mitra"/>
              </a:rPr>
              <a:t>واكنشهاي عادي ، خفيف واكسن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Kamran"/>
              </a:rPr>
              <a:t> تب و علائم عمومي يكي از پاسخ هاي ايمني است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B Kamr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Kamran"/>
              </a:rPr>
              <a:t> آدجوانت ، نگهدارنده و … باعث ايجاد اين واكنش ها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B Kamran"/>
              </a:rPr>
              <a:t>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Kamran"/>
              </a:rPr>
              <a:t> مي شون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B Kamr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Kamran"/>
              </a:rPr>
              <a:t> واكسني كه عوارض را كاهش و پاسخ ايمني خوبي ايجاد كنند واكسن خوب و موفقي است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B Kamr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B Kamran"/>
              </a:rPr>
              <a:t>شامل واكنشها ي موضعي و واكنشهاي عمو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b7"/>
                </a:solidFill>
                <a:latin typeface="Arial Black"/>
                <a:cs typeface="Mitra"/>
              </a:rPr>
              <a:t>واكنشهاي موضعي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Mitra"/>
              </a:rPr>
              <a:t>Local Reactio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2920" y="150012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just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 درد . تورم و يا قرمزي محل تزريق كه در حدود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% مورد انتظار اس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0" algn="just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 algn="just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B Kamran"/>
              </a:rPr>
              <a:t>واكسن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B Kamran"/>
              </a:rPr>
              <a:t>D.T.P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. و يادآور كزاز تا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50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 در صد ممكن است برس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0" algn="just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 algn="just" rtl="1">
              <a:lnSpc>
                <a:spcPct val="15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B Kamran"/>
              </a:rPr>
              <a:t>واكنش موضعي ب ث ژ بصورت پاپول (غده ها) بعد از دو هفته مشاهده مي شود كه بصورت زخم در آمده و بعد از چند ماه بهبود پيدا نموده و بصورت اسكار باقي مي مان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9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Mitra"/>
              </a:rPr>
              <a:t> </a:t>
            </a:r>
            <a:r>
              <a:rPr b="0" lang="ar-SA" sz="4400" spc="-1" strike="noStrike">
                <a:solidFill>
                  <a:srgbClr val="ffffb7"/>
                </a:solidFill>
                <a:latin typeface="Arial Black"/>
                <a:cs typeface="Mitra"/>
              </a:rPr>
              <a:t>واكنشهاي عمومي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Mitr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Mitra"/>
              </a:rPr>
              <a:t>Systemic reaction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  <a:ea typeface="Mitra"/>
              </a:rPr>
              <a:t> 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814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تب در حدود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% ، واكسن ثلاث تا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5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 درص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بعد از واكسن ثلاث ، تحريك پذيري ، خستگي ، رنگ پريدگي , از دست دادن اش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سرخك،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itra"/>
              </a:rPr>
              <a:t>MMR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 و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itra"/>
              </a:rPr>
              <a:t>OPV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 واكنشهاي عمومي به علت عفونت ويروس واك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itra"/>
              </a:rPr>
              <a:t>در سرخك ، تب ، راش ، التهاب ملتحمه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1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itra"/>
              </a:rPr>
              <a:t>% در مقايسه با ويروس وحشي بسيار خفيف هست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 Black"/>
                <a:ea typeface="Mitra"/>
              </a:rPr>
              <a:t>2-1</a:t>
            </a:r>
            <a:r>
              <a:rPr b="0" lang="ar-SA" sz="5400" spc="-1" strike="noStrike">
                <a:solidFill>
                  <a:srgbClr val="ffffff"/>
                </a:solidFill>
                <a:latin typeface="Arial Black"/>
                <a:ea typeface="Mitra"/>
              </a:rPr>
              <a:t> واكنشهاي نادر و شديد واكسن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578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 rtl="1">
              <a:lnSpc>
                <a:spcPct val="15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   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 تشنج ، ترومبوسيتوپني ، جيغ كشيدن مدا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-    آنافيلاكس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B Kamran"/>
              </a:rPr>
              <a:t>-    آنسفالوپات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15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B Kamran"/>
              </a:rPr>
              <a:t>ساير عوارض شديد پس از ايمنسازي ممكن است يك حادثه همزمان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6:54:03Z</dcterms:created>
  <dc:creator>emad</dc:creator>
  <dc:description/>
  <dc:language>en-US</dc:language>
  <cp:lastModifiedBy>A.R.I</cp:lastModifiedBy>
  <dcterms:modified xsi:type="dcterms:W3CDTF">2023-07-20T05:10:22Z</dcterms:modified>
  <cp:revision>36</cp:revision>
  <dc:subject/>
  <dc:title>AEF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