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4B35-14DC-465C-A625-CF13E7609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3FC6-EE5D-48C5-9FD5-545A4510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2195-38CB-4A78-B687-76653A724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928E-A457-4936-812F-18DC486BF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81EA-5BE4-44EF-8B16-2718288D2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B5F4-28D8-4AE1-9461-7B77BC15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4DCB-7B5A-4E19-BA19-29DACEDC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F1DC-C2DF-4E37-AFFA-68446D0F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1F18-E3D9-4240-99D9-AE7AA3E2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09D0-4747-4CFA-B7D8-411CD0A5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4F02-3162-43C9-A6E9-1E7315B2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FED8-3BA4-4541-AFFF-97B2621D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0641-0FBD-4DEE-B608-FB4233FB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DCA8-1DCB-4F44-AE54-E88803C4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316F-9F91-4699-B67E-9083549C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912E-45C8-48F1-82C1-3AF4544F8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A4A5-30B9-46D4-85C9-707EC4A01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C96F-49E5-4DDB-9552-5FBC2020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7692-C61C-4562-A2C1-5F2E31ED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F536-4235-463E-9A92-872DFD68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8D11-67EF-416F-8129-663610FA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DF83-89C4-4EB6-8863-44776E1F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2F18-9D6E-4248-94E7-EB9DD68D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504E-7624-4668-B983-04D88F25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6E8B-0958-428C-A0B2-D0788DACD7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B234-97A1-45D2-9A70-A30DB62163EB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40B1-15B3-4628-909B-6EC0627551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AD7D-ED86-4F78-9459-EAFD1EC0FB7E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2637000"/>
            <a:ext cx="7777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fa-IR" sz="4400" spc="-1" strike="noStrike">
                <a:solidFill>
                  <a:srgbClr val="008000"/>
                </a:solidFill>
                <a:latin typeface="Arial"/>
                <a:cs typeface="B Mitra"/>
              </a:rPr>
              <a:t>اهمیت و اصول اخلاق حرفه اي </a:t>
            </a:r>
            <a:br>
              <a:rPr sz="4400"/>
            </a:br>
            <a:r>
              <a:rPr b="1" lang="fa-IR" sz="4400" spc="-1" strike="noStrike">
                <a:solidFill>
                  <a:srgbClr val="008000"/>
                </a:solidFill>
                <a:latin typeface="Arial"/>
                <a:cs typeface="B Mitra"/>
              </a:rPr>
              <a:t>در علوم سلامت</a:t>
            </a:r>
            <a:r>
              <a:rPr b="1" lang="fa-IR" sz="4400" spc="-1" strike="noStrike">
                <a:solidFill>
                  <a:srgbClr val="008000"/>
                </a:solidFill>
                <a:latin typeface="Arial"/>
                <a:ea typeface="B Mitr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412560"/>
            <a:ext cx="7101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B Mitra"/>
              </a:rPr>
              <a:t>اخلاق پزشک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58560" y="1844640"/>
            <a:ext cx="70866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 algn="r" rtl="1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B Mitra"/>
              </a:rPr>
              <a:t>شاخه ای کاربردی از اخلاق یا فلسفه اخلاق است که سعی دارد در سایه تحلیل های فلسفی </a:t>
            </a:r>
            <a:r>
              <a:rPr b="1" lang="ar-SA" sz="1800" spc="-1" strike="noStrike">
                <a:solidFill>
                  <a:srgbClr val="ff0000"/>
                </a:solidFill>
                <a:latin typeface="Arial"/>
                <a:cs typeface="B Mitra"/>
              </a:rPr>
              <a:t>درست و نادرست را در حیطه عملکرد در طب و مراقبت های بهداشتی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B Mitra"/>
              </a:rPr>
              <a:t> تبیین نمای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796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7960" indent="-417960" algn="r" rtl="1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B Mitra"/>
              </a:rPr>
              <a:t>فعالیتی تحلیلی که طی آن افکار، عقاید ، تعهدات، روش رفتار، احساسات، استدلالات و بحث های مختلف در حیطه </a:t>
            </a:r>
            <a:r>
              <a:rPr b="1" lang="ar-SA" sz="1800" spc="-1" strike="noStrike">
                <a:solidFill>
                  <a:srgbClr val="ff0000"/>
                </a:solidFill>
                <a:latin typeface="Arial"/>
                <a:cs typeface="B Mitra"/>
              </a:rPr>
              <a:t>تصمیم گیری های اخلاقی در پزشکی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B Mitra"/>
              </a:rPr>
              <a:t> به صورت دقیق و انتقادی بررسی شده و در صورت لزوم دستورالعمل هایی صادر می شو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796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7960" indent="-417960" algn="r" rtl="1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B Mitra"/>
              </a:rPr>
              <a:t> تصمیمات اخلاق پزشکی در حیطه عملکرد طبی، بدیهییات و ارزش ها، خوب یا بد، درست و نادرست و باید و نباید ها را مشخص می کن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796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7960" indent="-417960" algn="r" rtl="1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rial"/>
                <a:cs typeface="B Mitra"/>
              </a:rPr>
              <a:t>اخلاق در صحنه عمل پزشکی</a:t>
            </a:r>
            <a:r>
              <a:rPr b="1" lang="ar-SA" sz="1800" spc="-1" strike="noStrike">
                <a:solidFill>
                  <a:srgbClr val="669999"/>
                </a:solidFill>
                <a:latin typeface="Arial"/>
                <a:ea typeface="B Mitr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7960" indent="-417960" algn="r" rtl="1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B Mitra"/>
              </a:rPr>
              <a:t>اخلاق پزشکی عمدتاً با نوشته های بیوچامپ و چیلدرس گسترش یافت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7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00"/>
                </a:solidFill>
                <a:latin typeface="Arial"/>
                <a:cs typeface="B Mitra"/>
              </a:rPr>
              <a:t>اهمیت اخلاق در حرفه های مرتبط با علوم سلامت</a:t>
            </a:r>
            <a:r>
              <a:rPr b="1" lang="fa-IR" sz="2400" spc="-1" strike="noStrike">
                <a:solidFill>
                  <a:srgbClr val="ffff00"/>
                </a:solidFill>
                <a:latin typeface="Arial"/>
                <a:ea typeface="B Mitr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44640"/>
            <a:ext cx="7737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B Homa"/>
              </a:rPr>
              <a:t>مدد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Mitra"/>
              </a:rPr>
              <a:t>جويان/بیماران </a:t>
            </a:r>
            <a:r>
              <a:rPr b="1" lang="fa-IR" sz="2000" spc="-1" strike="noStrike">
                <a:solidFill>
                  <a:srgbClr val="ff0000"/>
                </a:solidFill>
                <a:latin typeface="Arial"/>
                <a:cs typeface="B Mitra"/>
              </a:rPr>
              <a:t>انسان هایی آسیب پذیر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Mitra"/>
              </a:rPr>
              <a:t> هستن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Mitra"/>
              </a:rPr>
              <a:t>آن ها 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  <a:cs typeface="B Mitra"/>
              </a:rPr>
              <a:t>ارتباط مستقی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B Mitra"/>
              </a:rPr>
              <a:t> و مداوم با 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  <a:cs typeface="B Mitra"/>
              </a:rPr>
              <a:t>زندگی و سلامتی انسان ها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Mitra"/>
              </a:rPr>
              <a:t> دارند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B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B Mitra"/>
              </a:rPr>
              <a:t> احتمال 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  <a:cs typeface="B Mitra"/>
              </a:rPr>
              <a:t>مواجهه شان با مشکلات اخلاقی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B Mitr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Mitra"/>
              </a:rPr>
              <a:t> در طی کار روزانه زیاد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B Mitra"/>
              </a:rPr>
              <a:t> است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B Mitra"/>
              </a:rPr>
              <a:t>در طی کار روزانه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Mitra"/>
              </a:rPr>
              <a:t>متناوباً نیاز به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B Mitra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  <a:cs typeface="B Mitra"/>
              </a:rPr>
              <a:t>تصمیم گیری های اخلاقی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B Mitr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Mitra"/>
              </a:rPr>
              <a:t>دارند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B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B Mitra"/>
              </a:rPr>
              <a:t> کسب توانمندی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Mitra"/>
              </a:rPr>
              <a:t>براي عملكرد اخلاقي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B Mitra"/>
              </a:rPr>
              <a:t>تنها در سایه یک 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  <a:cs typeface="B Mitra"/>
              </a:rPr>
              <a:t>آموزش اخلاقی متناسب با شرایط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B Mitra"/>
              </a:rPr>
              <a:t> امکان پذیر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52200" y="412560"/>
            <a:ext cx="7101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00"/>
                </a:solidFill>
                <a:latin typeface="Arial"/>
                <a:cs typeface="B Mitra"/>
              </a:rPr>
              <a:t>اصول اساسی </a:t>
            </a: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B Mitra"/>
              </a:rPr>
              <a:t>اخلاق پزشک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3640" y="2133360"/>
            <a:ext cx="747576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 algn="r" rtl="1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B Mitra"/>
              </a:rPr>
              <a:t>Autonomy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Mitra"/>
              </a:rPr>
              <a:t>                                اختیار (احترام به حق انتخاب و استقلا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0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 algn="r" rtl="1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B Mitra"/>
              </a:rPr>
              <a:t>Beneficence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Mitra"/>
              </a:rPr>
              <a:t>                            سود رسان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0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 algn="r" rtl="1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Mitr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B Mitra"/>
              </a:rPr>
              <a:t>Non-mal efficience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Mitra"/>
              </a:rPr>
              <a:t>                اجتناب از آسیب و صدمه (عدم اضرا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07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 algn="r" rtl="1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B Mitra"/>
              </a:rPr>
              <a:t>Justice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Mitra"/>
              </a:rPr>
              <a:t>                                      عدال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  <a:ea typeface="B Lotus"/>
              </a:rPr>
              <a:t>Autonomy</a:t>
            </a:r>
            <a:r>
              <a:rPr b="1" lang="ar-SA" sz="4200" spc="-1" strike="noStrike">
                <a:solidFill>
                  <a:srgbClr val="00ff00"/>
                </a:solidFill>
                <a:latin typeface="Arial"/>
                <a:ea typeface="B Lotus"/>
              </a:rPr>
              <a:t> (</a:t>
            </a:r>
            <a:r>
              <a:rPr b="1" lang="ar-SA" sz="4200" spc="-1" strike="noStrike">
                <a:solidFill>
                  <a:srgbClr val="00ff00"/>
                </a:solidFill>
                <a:latin typeface="Arial"/>
                <a:cs typeface="B Lotus"/>
              </a:rPr>
              <a:t>خودمختاري</a:t>
            </a:r>
            <a:r>
              <a:rPr b="0" lang="ar-SA" sz="4200" spc="-1" strike="noStrike">
                <a:solidFill>
                  <a:srgbClr val="00ff00"/>
                </a:solidFill>
                <a:latin typeface="Arial"/>
                <a:ea typeface="B Lotus"/>
              </a:rPr>
              <a:t>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 rtl="1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Mitra"/>
              </a:rPr>
              <a:t> يكي از اساسي ترين اصول اخلاق پزشكي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B Mitra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Mitra"/>
              </a:rPr>
              <a:t>احترام به حريم انساني و شخصيت مستقل بيماران و آزادي و خود مختاري آنان است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just" rtl="1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Mitra"/>
              </a:rPr>
              <a:t>-  مختار بودن بيمار در امر تصميم گيري و احترام به اين امر در حقيقت به معني آزادي در عمل و رفتار است كه مقام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Mitra"/>
              </a:rPr>
              <a:t>اول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Mitra"/>
              </a:rPr>
              <a:t>معيارهاي اخلاقي را شامل ميشو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just" rtl="1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Mitra"/>
              </a:rPr>
              <a:t>-  احترام به شخصيت و استقلال بيمار يك وظيفه اخلاقي اس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just" rtl="1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Mitra"/>
              </a:rPr>
              <a:t>-  آنچه براي خود مي پسندي براي ديگران نيز بپسند و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ff00"/>
                </a:solidFill>
                <a:latin typeface="Arial"/>
                <a:cs typeface="B Lotus"/>
              </a:rPr>
              <a:t>معيارهاي احترام به خود مختاري بيمار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480" y="1988640"/>
            <a:ext cx="79250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B Lotus"/>
              </a:rPr>
              <a:t>حفظ اسرار ( سر حرفه اي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B Lotus"/>
              </a:rPr>
              <a:t>وفاي به عهد و صداق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19324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ff00"/>
                </a:solidFill>
                <a:latin typeface="Arial"/>
                <a:cs typeface="B Lotus"/>
              </a:rPr>
              <a:t>ارائه اقدامات مفيد و جلوگيري از آسيب و صدم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09480" y="1483920"/>
            <a:ext cx="79250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Lotus"/>
              </a:rPr>
              <a:t>در حرفه پزشكي هدف اصلي كمك به بيمار است كه البته بطور اجتناب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Lotus"/>
              </a:rPr>
              <a:t>ناپذيري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Lotus"/>
              </a:rPr>
              <a:t>خطرها و آسيبهائي را به همراه دار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Lotus"/>
              </a:rPr>
              <a:t>هر اقدامي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 باید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Lotus"/>
              </a:rPr>
              <a:t> از حداقل آسيب برخوردار باش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Lotus"/>
              </a:rPr>
              <a:t>رعايت ملاحظات اخلاقي اجتناب ناپذير است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Lotus"/>
              </a:rPr>
              <a:t> اقد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Lotus"/>
              </a:rPr>
              <a:t>مات بايد به نفع بيمار باش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Lotus"/>
              </a:rPr>
              <a:t>جديت در كسب مهارت و تجربه لازم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 از طرف کادر درمان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Lotu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Lotus"/>
              </a:rPr>
              <a:t>نتايج سودمنداعمال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،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Lotus"/>
              </a:rPr>
              <a:t> نزديك به ذهن باش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ff00"/>
                </a:solidFill>
                <a:latin typeface="Arial"/>
                <a:cs typeface="B Lotus"/>
              </a:rPr>
              <a:t>عدالت 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B Lotus"/>
              </a:rPr>
              <a:t>Justice</a:t>
            </a:r>
            <a:r>
              <a:rPr b="1" lang="ar-SA" sz="4000" spc="-1" strike="noStrike">
                <a:solidFill>
                  <a:srgbClr val="00ff00"/>
                </a:solidFill>
                <a:latin typeface="Arial"/>
                <a:ea typeface="B Lotus"/>
              </a:rPr>
              <a:t>  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  <a:ea typeface="B Lotus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480" y="1557360"/>
            <a:ext cx="77788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 rtl="1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Mitra"/>
              </a:rPr>
              <a:t>توزيع مناسب منابع و امكانات محدود (عدالت اجتماعي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Mitr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 rtl="1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Mitra"/>
              </a:rPr>
              <a:t>رعايت اصل احترام به حقوق مردم (عدالت و حقو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 rtl="1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Mitra"/>
              </a:rPr>
              <a:t>حفظ اصل احترام ب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B Mitra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Mitra"/>
              </a:rPr>
              <a:t>قوانين كه از نظر اخلاقي قابل قبول است (عدالت قانوني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B Mitr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 rtl="1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Mitra"/>
              </a:rPr>
              <a:t>در انجام خدمات در حرفه پزشكي نبايد نظارت و عقايد شخصي را مد نظر گرف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 rtl="1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Mitra"/>
              </a:rPr>
              <a:t>بلكه آنچه ضرورت دارد بايد ارائه شو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B Mitr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20200" y="303120"/>
            <a:ext cx="760428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00"/>
                </a:solidFill>
                <a:latin typeface="Arial"/>
                <a:cs typeface="B Mitra"/>
              </a:rPr>
              <a:t>مفاهیم اخلاقی در مراقبت و درما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66360" y="1861920"/>
            <a:ext cx="7311960" cy="40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08600" indent="-408600" algn="r" rtl="1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Mitra"/>
              </a:rPr>
              <a:t>ارتباط                                                           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B Mitra"/>
              </a:rPr>
              <a:t>Communication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Mitr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860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8600" indent="-408600" algn="r" rtl="1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Mitra"/>
              </a:rPr>
              <a:t>حمایت                                                                   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B Mitra"/>
              </a:rPr>
              <a:t>Advocacy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Mitr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860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8600" indent="-408600" algn="r" rtl="1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Mitra"/>
              </a:rPr>
              <a:t>مراقبت                                                                        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B Mitra"/>
              </a:rPr>
              <a:t>Caring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Mitr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860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8600" indent="-408600" algn="r" rtl="1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Mitra"/>
              </a:rPr>
              <a:t>پاسخگویی/مسئولیت پذیری     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B Mitra"/>
              </a:rPr>
              <a:t>Responsibility/Accountability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Mitr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860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8600" indent="-408600" algn="r" rtl="1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Mitra"/>
              </a:rPr>
              <a:t>همکاری                                                              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B Mitra"/>
              </a:rPr>
              <a:t>Cooperation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Mitr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860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860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thical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Diagram 1" descr=""/>
          <p:cNvPicPr/>
          <p:nvPr/>
        </p:nvPicPr>
        <p:blipFill>
          <a:blip r:embed="rId1"/>
          <a:stretch/>
        </p:blipFill>
        <p:spPr>
          <a:xfrm>
            <a:off x="176040" y="1268280"/>
            <a:ext cx="8643960" cy="4894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8" descr="images 1"/>
          <p:cNvPicPr/>
          <p:nvPr/>
        </p:nvPicPr>
        <p:blipFill>
          <a:blip r:embed="rId2"/>
          <a:stretch/>
        </p:blipFill>
        <p:spPr>
          <a:xfrm>
            <a:off x="3635280" y="2781360"/>
            <a:ext cx="1871640" cy="18032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0"/>
          <p:cNvSpPr/>
          <p:nvPr/>
        </p:nvSpPr>
        <p:spPr>
          <a:xfrm>
            <a:off x="4224960" y="36450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ارتبا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 u="sng">
                <a:solidFill>
                  <a:srgbClr val="ff0000"/>
                </a:solidFill>
                <a:uFillTx/>
                <a:latin typeface="Arial"/>
                <a:cs typeface="B Mitra"/>
              </a:rPr>
              <a:t>ارتباط</a:t>
            </a:r>
            <a:r>
              <a:rPr b="1" lang="fa-IR" sz="2400" spc="-1" strike="noStrike">
                <a:solidFill>
                  <a:srgbClr val="ffffff"/>
                </a:solidFill>
                <a:latin typeface="Arial"/>
                <a:ea typeface="B Mitra"/>
              </a:rPr>
              <a:t> </a:t>
            </a:r>
            <a:r>
              <a:rPr b="1" lang="fa-IR" sz="2400" spc="-1" strike="noStrike">
                <a:solidFill>
                  <a:srgbClr val="ffff00"/>
                </a:solidFill>
                <a:latin typeface="Arial"/>
                <a:cs typeface="B Mitra"/>
              </a:rPr>
              <a:t>بسترارائه مراقبت اخلاق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916000" y="1628640"/>
            <a:ext cx="5616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Mitra"/>
              </a:rPr>
              <a:t>ارتباط عامل اساسی در تعاملات بشری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Mitra"/>
              </a:rPr>
              <a:t>ارائه دهندگان خدمات سلامت در طی فعالیت های روزانه خود با مددجو/بیمار، خانواده، همکاران و دیگر افراد تیم بهداشتی ارتباط برقرار می کنن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Mitra"/>
              </a:rPr>
              <a:t>بدون برقراری یک ارتباط مناسب ارائه مراقبت واقعی مقدور نی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Mitra"/>
              </a:rPr>
              <a:t>مراقبت، حمایت، پاسخگویی و همکاری همگی در بستر یک ارتباط انسانی اثربخش امکانپذیر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457200" y="1628640"/>
            <a:ext cx="245916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200" spc="-1" strike="noStrike">
                <a:solidFill>
                  <a:srgbClr val="ffffff"/>
                </a:solidFill>
                <a:latin typeface="Arial"/>
              </a:rPr>
              <a:t>اهداف آموزش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755640" y="1325520"/>
            <a:ext cx="734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  <a:cs typeface="B Yagut"/>
              </a:rPr>
              <a:t>انتظار می‌رود فراگیر پس از مطالعه این درس بتوان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  <a:ea typeface="B Yagut"/>
              </a:rPr>
              <a:t> تعریف اخلاق حرفه ای را  بیان نماین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  <a:cs typeface="B Yagut"/>
              </a:rPr>
              <a:t>ویژگی‌های مهم کارمندان در حوزه اخلاق حرفه ای را بیان نماین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  <a:ea typeface="B Yagut"/>
              </a:rPr>
              <a:t> مهمترین اصول و مفاهیم اخلاقی در بهداشت ودرمان را بیان نماین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  <a:cs typeface="B Yagut"/>
              </a:rPr>
              <a:t>حقوق مراجعین و بیماران را در حوزه اخلاق حرفه ای بیان نماین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  <a:cs typeface="B Yagut"/>
              </a:rPr>
              <a:t>نقش و تاثیر راز داری در حوزه  کاری خود را توضیح دهن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00100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00"/>
                </a:solidFill>
                <a:latin typeface="Arial"/>
                <a:cs typeface="B Mitra"/>
              </a:rPr>
              <a:t>حمایت از حقوق بیمار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B Mitra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B Mitra"/>
              </a:rPr>
              <a:t>patient advoca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784836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r" rtl="1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0000"/>
                </a:solidFill>
                <a:latin typeface="Arial"/>
                <a:cs typeface="B Mitra"/>
              </a:rPr>
              <a:t>حمایت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Mitra"/>
              </a:rPr>
              <a:t> برای توصیف ماهیت رابطه بيمار/مددجو و پرستار و پزشک بکار می رو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r" rtl="1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0000"/>
                </a:solidFill>
                <a:latin typeface="Arial"/>
                <a:cs typeface="B Mitra"/>
              </a:rPr>
              <a:t>حمايت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Mitra"/>
              </a:rPr>
              <a:t>عبارتست از </a:t>
            </a:r>
            <a:r>
              <a:rPr b="1" lang="fa-IR" sz="2000" spc="-1" strike="noStrike">
                <a:solidFill>
                  <a:srgbClr val="ff0000"/>
                </a:solidFill>
                <a:latin typeface="Arial"/>
                <a:cs typeface="B Mitra"/>
              </a:rPr>
              <a:t>دفاع از حقوق بیمار/مددجو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Mitra"/>
              </a:rPr>
              <a:t> در درون سیستم بهداشتی درمان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r" rtl="1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Mitra"/>
              </a:rPr>
              <a:t>کمک به بیمار/مددجو برای </a:t>
            </a:r>
            <a:r>
              <a:rPr b="1" lang="fa-IR" sz="2000" spc="-1" strike="noStrike">
                <a:solidFill>
                  <a:srgbClr val="ff0000"/>
                </a:solidFill>
                <a:latin typeface="Arial"/>
                <a:cs typeface="B Mitra"/>
              </a:rPr>
              <a:t>آگاه شدن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Mitra"/>
              </a:rPr>
              <a:t> و </a:t>
            </a:r>
            <a:r>
              <a:rPr b="1" lang="fa-IR" sz="2000" spc="-1" strike="noStrike">
                <a:solidFill>
                  <a:srgbClr val="ff0000"/>
                </a:solidFill>
                <a:latin typeface="Arial"/>
                <a:cs typeface="B Mitra"/>
              </a:rPr>
              <a:t>انتخاب های آگاهان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r" rtl="1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Mitra"/>
              </a:rPr>
              <a:t>حمایت از </a:t>
            </a:r>
            <a:r>
              <a:rPr b="1" lang="fa-IR" sz="2000" spc="-1" strike="noStrike">
                <a:solidFill>
                  <a:srgbClr val="ff0000"/>
                </a:solidFill>
                <a:latin typeface="Arial"/>
                <a:cs typeface="B Mitra"/>
              </a:rPr>
              <a:t>ارائه مراقبتی متناسب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Mitra"/>
              </a:rPr>
              <a:t> با ارزش ها و ویژگی های انسانی بیمار/مددجو براساس </a:t>
            </a:r>
            <a:r>
              <a:rPr b="1" lang="fa-IR" sz="2000" spc="-1" strike="noStrike">
                <a:solidFill>
                  <a:srgbClr val="ff0000"/>
                </a:solidFill>
                <a:latin typeface="Arial"/>
                <a:cs typeface="B Mitra"/>
              </a:rPr>
              <a:t>احترا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755640" y="3986280"/>
            <a:ext cx="2314440" cy="210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00100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B Mitra"/>
              </a:rPr>
              <a:t>Accountability</a:t>
            </a:r>
            <a:br>
              <a:rPr sz="2400"/>
            </a:br>
            <a:r>
              <a:rPr b="1" lang="fa-IR" sz="2400" spc="-1" strike="noStrike">
                <a:solidFill>
                  <a:srgbClr val="ffff00"/>
                </a:solidFill>
                <a:latin typeface="Arial"/>
                <a:ea typeface="B Mitra"/>
              </a:rPr>
              <a:t> پاسخگوی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083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r" rtl="1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0000"/>
                </a:solidFill>
                <a:latin typeface="Arial"/>
                <a:cs typeface="B Mitra"/>
              </a:rPr>
              <a:t>جوابگو بودن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Mitra"/>
              </a:rPr>
              <a:t> در مورد اعمال خو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r" rtl="1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0000"/>
                </a:solidFill>
                <a:latin typeface="Arial"/>
                <a:cs typeface="B Mitra"/>
              </a:rPr>
              <a:t>مسئولیت پذیری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Mitra"/>
              </a:rPr>
              <a:t> در مورد اقدامات انجام شده و عواقب آگاهانه یا نا آگاهان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r" rtl="1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0000"/>
                </a:solidFill>
                <a:latin typeface="Arial"/>
                <a:cs typeface="B Mitra"/>
              </a:rPr>
              <a:t>پاسخگویی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Mitra"/>
              </a:rPr>
              <a:t> قانونی و اخلاقی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B Mitra"/>
              </a:rPr>
              <a:t>legal &amp; ethical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Mitr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r" rtl="1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Mitra"/>
              </a:rPr>
              <a:t>پاسخگویی در کنار مفهوم حمایت چهارچوبی را برای </a:t>
            </a:r>
            <a:r>
              <a:rPr b="1" lang="fa-IR" sz="2000" spc="-1" strike="noStrike">
                <a:solidFill>
                  <a:srgbClr val="ff0000"/>
                </a:solidFill>
                <a:latin typeface="Arial"/>
                <a:cs typeface="B Mitra"/>
              </a:rPr>
              <a:t>ابعاد اخلاقی فعالیت های پزشکی، پرستاری و مامايي و ....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Mitra"/>
              </a:rPr>
              <a:t> ایجاد می کن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042920" y="4243320"/>
            <a:ext cx="6769080" cy="185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B Mitra"/>
              </a:rPr>
              <a:t>Cooperation </a:t>
            </a:r>
            <a:br>
              <a:rPr sz="2400"/>
            </a:br>
            <a:r>
              <a:rPr b="1" lang="fa-IR" sz="2400" spc="-1" strike="noStrike">
                <a:solidFill>
                  <a:srgbClr val="ffff00"/>
                </a:solidFill>
                <a:latin typeface="Arial"/>
                <a:cs typeface="B Mitra"/>
              </a:rPr>
              <a:t>همکار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84200" y="1557360"/>
            <a:ext cx="7848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r" rtl="1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0000"/>
                </a:solidFill>
                <a:latin typeface="Arial"/>
                <a:cs typeface="B Mitra"/>
              </a:rPr>
              <a:t>مشارکت فعال با دیگران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Mitra"/>
              </a:rPr>
              <a:t> برای ارائه مراقبت کیفی به بیمار/مددج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r" rtl="1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0000"/>
                </a:solidFill>
                <a:latin typeface="Arial"/>
                <a:cs typeface="B Mitra"/>
              </a:rPr>
              <a:t>تشریک مساعی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Mitra"/>
              </a:rPr>
              <a:t> در طراحی رویکردهای مراقبتی بیمار/مددج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r" rtl="1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0000"/>
                </a:solidFill>
                <a:latin typeface="Arial"/>
                <a:cs typeface="B Mitra"/>
              </a:rPr>
              <a:t>مورد ملاحظه قرار دادن ارزش ها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Mitra"/>
              </a:rPr>
              <a:t> و اهداف دیگرانی که برای مراقبت از بیمار/مددجو با آنان کار می کنی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r" rtl="1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0000"/>
                </a:solidFill>
                <a:latin typeface="Arial"/>
                <a:cs typeface="B Mitra"/>
              </a:rPr>
              <a:t>تعامل با دیگران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Mitra"/>
              </a:rPr>
              <a:t> در انجام فعالیت 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798480" y="3716280"/>
            <a:ext cx="3584520" cy="222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" descr=""/>
          <p:cNvPicPr/>
          <p:nvPr/>
        </p:nvPicPr>
        <p:blipFill>
          <a:blip r:embed="rId1"/>
          <a:stretch/>
        </p:blipFill>
        <p:spPr>
          <a:xfrm>
            <a:off x="762120" y="1424160"/>
            <a:ext cx="7410240" cy="46576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B Mitra"/>
              </a:rPr>
              <a:t>Caring</a:t>
            </a:r>
            <a:r>
              <a:rPr b="1" lang="fa-IR" sz="2400" spc="-1" strike="noStrike">
                <a:solidFill>
                  <a:srgbClr val="ffff00"/>
                </a:solidFill>
                <a:latin typeface="Arial"/>
                <a:cs typeface="B Mitra"/>
              </a:rPr>
              <a:t>مراقبت</a:t>
            </a:r>
            <a:r>
              <a:rPr b="1" lang="fa-IR" sz="3800" spc="-1" strike="noStrike">
                <a:solidFill>
                  <a:srgbClr val="ffff00"/>
                </a:solidFill>
                <a:latin typeface="Arial"/>
                <a:ea typeface="B Mitra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700280"/>
            <a:ext cx="776916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26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640" indent="-422640" algn="r" rtl="1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Mitra"/>
              </a:rPr>
              <a:t>مراقبت بسیار پیش از درمان صورت می گرفته اس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2640" indent="-422640" algn="r" rtl="1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Mitra"/>
              </a:rPr>
              <a:t>مراقبت شیوه وجودی انسان اس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2640" indent="-422640" algn="r" rtl="1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Mitra"/>
              </a:rPr>
              <a:t>مراقبت عنصر اساسی انسان بودن اس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2640" indent="-422640" algn="r" rtl="1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Mitra"/>
              </a:rPr>
              <a:t>مفهوم مراقبت در رابطه بهورز،مراقب سلامت، پرستار و ماما،پزشک بیمار/مددجو ارزش گذاری شده اس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26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2640" indent="-422640" algn="r" rtl="1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0000"/>
                </a:solidFill>
                <a:latin typeface="Arial"/>
                <a:cs typeface="B Mitra"/>
              </a:rPr>
              <a:t>رفتارهای مراقبتی برای ایفای نقش های مراقبتی بنیادی ان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26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26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00"/>
                </a:solidFill>
                <a:latin typeface="Arial"/>
                <a:cs typeface="B Mitra"/>
              </a:rPr>
              <a:t>ویژگی های مراقبت و درمان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B Mitra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B Mitr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B Mitra"/>
              </a:rPr>
              <a:t>C in Care &amp; C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65530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r" rtl="1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Mitra"/>
              </a:rPr>
              <a:t>شفقت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B Mitra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B Mitra"/>
              </a:rPr>
              <a:t>-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B Mitra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B Mitra"/>
              </a:rPr>
              <a:t>ompass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B Mitra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r" rtl="1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Mitra"/>
              </a:rPr>
              <a:t>شایستگ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B Mitr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B Mitra"/>
              </a:rPr>
              <a:t>-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B Mitra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B Mitra"/>
              </a:rPr>
              <a:t>ompete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B Mitra"/>
              </a:rPr>
              <a:t>                        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Mitr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r" rtl="1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Mitra"/>
              </a:rPr>
              <a:t>اطمینا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B Mitr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B Mitra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B Mitra"/>
              </a:rPr>
              <a:t>-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B Mitra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B Mitra"/>
              </a:rPr>
              <a:t>onfide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B Mitra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r" rtl="1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Mitra"/>
              </a:rPr>
              <a:t>وجدا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B Mitra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B Mitra"/>
              </a:rPr>
              <a:t>-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B Mitra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B Mitra"/>
              </a:rPr>
              <a:t>onscie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B Mitra"/>
              </a:rPr>
              <a:t>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r" rtl="1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Mitra"/>
              </a:rPr>
              <a:t>تعهد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B Homa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B Homa"/>
              </a:rPr>
              <a:t>-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B Homa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B Homa"/>
              </a:rPr>
              <a:t>ommit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B Homa"/>
              </a:rPr>
              <a:t>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001000" cy="88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00"/>
                </a:solidFill>
                <a:latin typeface="Arial"/>
                <a:cs typeface="B Mitra"/>
              </a:rPr>
              <a:t>حمایت از حقوق بیما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000" y="1846440"/>
            <a:ext cx="762948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ients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ient’s bill of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ient’s cha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ient’s advoc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ient’ rights advoc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" descr=""/>
          <p:cNvPicPr/>
          <p:nvPr/>
        </p:nvPicPr>
        <p:blipFill>
          <a:blip r:embed="rId1"/>
          <a:stretch/>
        </p:blipFill>
        <p:spPr>
          <a:xfrm>
            <a:off x="4859280" y="1846440"/>
            <a:ext cx="3454560" cy="38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000" spc="-1" strike="noStrike">
                <a:solidFill>
                  <a:srgbClr val="ffff00"/>
                </a:solidFill>
                <a:latin typeface="Arial"/>
                <a:cs typeface="B Nazanin"/>
              </a:rPr>
              <a:t>شفقت</a:t>
            </a:r>
            <a:r>
              <a:rPr b="0" lang="fa-IR" sz="3000" spc="-1" strike="noStrike">
                <a:solidFill>
                  <a:srgbClr val="ffff00"/>
                </a:solidFill>
                <a:latin typeface="Arial"/>
                <a:ea typeface="B Nazani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000" y="1182600"/>
            <a:ext cx="814716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 algn="just" rtl="1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2d050"/>
                </a:solidFill>
                <a:latin typeface="Arial"/>
                <a:cs typeface="B Mitra"/>
              </a:rPr>
              <a:t>شايد بتوان شفقت را راهي براي زيستن </a:t>
            </a:r>
            <a:r>
              <a:rPr b="1" lang="fa-IR" sz="2000" spc="-1" strike="noStrike">
                <a:solidFill>
                  <a:srgbClr val="92d050"/>
                </a:solidFill>
                <a:latin typeface="Arial"/>
                <a:cs typeface="B Mitra"/>
              </a:rPr>
              <a:t>آگاهانه</a:t>
            </a:r>
            <a:r>
              <a:rPr b="1" lang="ar-SA" sz="2000" spc="-1" strike="noStrike">
                <a:solidFill>
                  <a:srgbClr val="92d050"/>
                </a:solidFill>
                <a:latin typeface="Arial"/>
                <a:ea typeface="B Mitra"/>
              </a:rPr>
              <a:t> نسبت به رابطه فرد با كل موجودات زنده تعريف كرد (روچ </a:t>
            </a:r>
            <a:r>
              <a:rPr b="1" lang="ar-SA" sz="2000" spc="-1" strike="noStrike">
                <a:solidFill>
                  <a:srgbClr val="92d050"/>
                </a:solidFill>
                <a:latin typeface="Arial"/>
                <a:ea typeface="B Mitra"/>
              </a:rPr>
              <a:t>1992</a:t>
            </a:r>
            <a:r>
              <a:rPr b="1" lang="ar-SA" sz="2000" spc="-1" strike="noStrike">
                <a:solidFill>
                  <a:srgbClr val="92d050"/>
                </a:solidFill>
                <a:latin typeface="Arial"/>
                <a:ea typeface="B Mitra"/>
              </a:rPr>
              <a:t>).</a:t>
            </a:r>
            <a:r>
              <a:rPr b="1" lang="en-US" sz="2000" spc="-1" strike="noStrike">
                <a:solidFill>
                  <a:srgbClr val="92d050"/>
                </a:solidFill>
                <a:latin typeface="Arial"/>
                <a:ea typeface="B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2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B Mitra"/>
              </a:rPr>
              <a:t>«شفقت از ما مي‏خواهد به جايي برويم كه مي‏آزاردمان، به مكانهايي وارد شويم كه درد درآنها وجود دارد، از ما مي‏خواهد كه در آشفتگي، هراس، پريشاني و اضطراب 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B Mitra"/>
              </a:rPr>
              <a:t>ديگران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B Mitra"/>
              </a:rPr>
              <a:t>سهيم شويم. شفقت ما را به چالش مي‏خواند تا همراه با آنان كه در مصيبت هستند 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B Mitra"/>
              </a:rPr>
              <a:t>فر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B Mitra"/>
              </a:rPr>
              <a:t>ياد برآوريم، با آنان كه در تنهايي هستند مويه كنيم، با آنان كه مي‏گ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B Mitra"/>
              </a:rPr>
              <a:t>ر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B Mitra"/>
              </a:rPr>
              <a:t>يند بگ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B Mitra"/>
              </a:rPr>
              <a:t>ر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B Mitra"/>
              </a:rPr>
              <a:t>ييم. شفقت ما را ملزم مي‏كند كه با ضعيف، ضعيف باشيم، با آسيب‏پذير، آسيب‏پذير باشيم و با بي‏توان، بي‏توان. شفقت يعني غوطه‏وري كامل در وضعيت انسان بودن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Mitr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" descr=""/>
          <p:cNvPicPr/>
          <p:nvPr/>
        </p:nvPicPr>
        <p:blipFill>
          <a:blip r:embed="rId1"/>
          <a:stretch/>
        </p:blipFill>
        <p:spPr>
          <a:xfrm>
            <a:off x="230040" y="5013360"/>
            <a:ext cx="358488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5600" y="33300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00"/>
                </a:solidFill>
                <a:latin typeface="Arial"/>
                <a:cs typeface="B Nazanin"/>
              </a:rPr>
              <a:t>شایستگی/توانمند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5600" y="1700280"/>
            <a:ext cx="78865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 rtl="1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b050"/>
                </a:solidFill>
                <a:latin typeface="Arial"/>
                <a:cs typeface="B Mitra"/>
              </a:rPr>
              <a:t>شايستگي </a:t>
            </a:r>
            <a:r>
              <a:rPr b="1" lang="fa-IR" sz="2000" spc="-1" strike="noStrike">
                <a:solidFill>
                  <a:srgbClr val="00b050"/>
                </a:solidFill>
                <a:latin typeface="Arial"/>
                <a:cs typeface="B Mitra"/>
              </a:rPr>
              <a:t>عبارت است از </a:t>
            </a:r>
            <a:r>
              <a:rPr b="1" lang="ar-SA" sz="2000" spc="-1" strike="noStrike">
                <a:solidFill>
                  <a:srgbClr val="00b050"/>
                </a:solidFill>
                <a:latin typeface="Arial"/>
                <a:ea typeface="B Mitra"/>
              </a:rPr>
              <a:t> دارا بودن دانش، قضاوت، مهارت، انرژي، توانايي و انگيزه لازم براي نشان دادن واكنش مناسب و مقتضي نسبت به مطالبات مربوط به مسئوليت‌هاي حرفه‏اي فرد (روچ </a:t>
            </a:r>
            <a:r>
              <a:rPr b="1" lang="ar-SA" sz="2000" spc="-1" strike="noStrike">
                <a:solidFill>
                  <a:srgbClr val="00b050"/>
                </a:solidFill>
                <a:latin typeface="Arial"/>
                <a:ea typeface="B Mitra"/>
              </a:rPr>
              <a:t>1992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B Mitra"/>
              </a:rPr>
              <a:t> </a:t>
            </a:r>
            <a:r>
              <a:rPr b="1" lang="fa-IR" sz="2000" spc="-1" strike="noStrike">
                <a:solidFill>
                  <a:srgbClr val="00b050"/>
                </a:solidFill>
                <a:latin typeface="Arial"/>
                <a:ea typeface="B Mitr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  <a:cs typeface="B Mitra"/>
              </a:rPr>
              <a:t>شايستگي وجه تمايز فرد متخصص از مبتدي است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B Mitra"/>
              </a:rPr>
              <a:t>شايستگي چيزي است كه 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B Mitra"/>
              </a:rPr>
              <a:t>حرفه مندان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B Mitra"/>
              </a:rPr>
              <a:t> در طول دوره‏هاي تحصيل و آموزش پايه و تکميلی اشتياق رسيدن به آن را دارد و به سمت آن حركت مي‏كند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ffff00"/>
                </a:solidFill>
                <a:latin typeface="Arial"/>
                <a:cs typeface="B Nazanin"/>
              </a:rPr>
              <a:t>شایستگی/توانمند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Content Placeholder 6" descr=""/>
          <p:cNvPicPr/>
          <p:nvPr/>
        </p:nvPicPr>
        <p:blipFill>
          <a:blip r:embed="rId1"/>
          <a:stretch/>
        </p:blipFill>
        <p:spPr>
          <a:xfrm>
            <a:off x="1403280" y="1600200"/>
            <a:ext cx="619308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636588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  <a:cs typeface="B Nazanin"/>
              </a:rPr>
              <a:t>اطمينان</a:t>
            </a:r>
            <a:r>
              <a:rPr b="1" lang="ar-SA" sz="3000" spc="-1" strike="noStrike">
                <a:solidFill>
                  <a:srgbClr val="3333ff"/>
                </a:solidFill>
                <a:latin typeface="Arial"/>
                <a:ea typeface="B Nazani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92144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2d050"/>
                </a:solidFill>
                <a:latin typeface="Arial"/>
                <a:cs typeface="B Nazanin"/>
              </a:rPr>
              <a:t>اطمينان به مثابه كيفيتي تعريف مي‏شود كه روابط مبتني بر اعتماد را تسهيل مي‌کند (روچ </a:t>
            </a:r>
            <a:r>
              <a:rPr b="1" lang="ar-SA" sz="2000" spc="-1" strike="noStrike">
                <a:solidFill>
                  <a:srgbClr val="92d050"/>
                </a:solidFill>
                <a:latin typeface="Arial"/>
                <a:ea typeface="B Nazanin"/>
              </a:rPr>
              <a:t>1992</a:t>
            </a:r>
            <a:r>
              <a:rPr b="1" lang="fa-IR" sz="2000" spc="-1" strike="noStrike">
                <a:solidFill>
                  <a:srgbClr val="92d050"/>
                </a:solidFill>
                <a:latin typeface="Arial"/>
                <a:ea typeface="B Nazani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15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B Nazanin"/>
              </a:rPr>
              <a:t>بنيان مراقبت، براساس يك رابطه مبتني بر اعتماد بنا شده است. بدون چنين رابطه‏اي، ذات و روح مراقبت به فنا مي‏ر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15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B Nazanin"/>
              </a:rPr>
              <a:t> اطمينان امري متقابل است، هر دو طرف يك رابطه بايد به يكديگر اعتماد داشته باشند. هنگامي كه يكي از طرف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B Nazanin"/>
              </a:rPr>
              <a:t>ين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B Nazanin"/>
              </a:rPr>
              <a:t> رابطه در يك موقعيت حرفه‏اي قرار دارد، طرف ديگر بايد اطمينان داشته باشد كه 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B Nazanin"/>
              </a:rPr>
              <a:t>به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B Nazanin"/>
              </a:rPr>
              <a:t>اين 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cs typeface="B Nazanin"/>
              </a:rPr>
              <a:t>فرد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B Nazanin"/>
              </a:rPr>
              <a:t>حرفه</a:t>
            </a:r>
            <a:r>
              <a:rPr b="0" lang="fa-IR" sz="2000" spc="-1" strike="noStrike">
                <a:solidFill>
                  <a:srgbClr val="000000"/>
                </a:solidFill>
                <a:latin typeface="Arial"/>
                <a:ea typeface="B Nazanin"/>
              </a:rPr>
              <a:t> اي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B Nazanin"/>
              </a:rPr>
              <a:t> مي‏توان اعتماد كرد. اين امر بستگي شديدي به ميزان صداقت بين آنان دار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Eth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85200" indent="-385200" algn="r" rtl="1">
              <a:lnSpc>
                <a:spcPct val="15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B Mitra"/>
              </a:rPr>
              <a:t>اخلاق عبارت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Mitra"/>
              </a:rPr>
              <a:t>است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B Mitra"/>
              </a:rPr>
              <a:t>از 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  <a:cs typeface="B Mitra"/>
              </a:rPr>
              <a:t>خوی و ویژگی های درونی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B Mitra"/>
              </a:rPr>
              <a:t> انس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200" indent="0" algn="r" rtl="1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200" indent="-385200" algn="r" rtl="1">
              <a:lnSpc>
                <a:spcPct val="15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B Mitra"/>
              </a:rPr>
              <a:t>اخلاق 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  <a:cs typeface="B Mitra"/>
              </a:rPr>
              <a:t>ساختار وجودی انسان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B Mitra"/>
              </a:rPr>
              <a:t> است که گاهی به معنای عام و ب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Mitra"/>
              </a:rPr>
              <a:t>ه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B Mitra"/>
              </a:rPr>
              <a:t> منظور تمام ویژگی های درونی انسان، اعم از خوب یا بد به کار می رو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200" indent="0" algn="r" rtl="1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200" indent="-385200" algn="r" rtl="1">
              <a:lnSpc>
                <a:spcPct val="15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Mitra"/>
              </a:rPr>
              <a:t>معمولاً مترادف با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B Mitra"/>
              </a:rPr>
              <a:t>رفتار و خصوصیات روحی و معنوی مثبت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Mitra"/>
              </a:rPr>
              <a:t> است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B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200" indent="-385200" algn="r" rtl="1">
              <a:lnSpc>
                <a:spcPct val="15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B Mitra"/>
              </a:rPr>
              <a:t>Ethics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Mitra"/>
              </a:rPr>
              <a:t> بازتاب اصول وجودی و معنوی رفتار ما در زندگی روزانه اس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200" indent="-385200" algn="r" rtl="1">
              <a:lnSpc>
                <a:spcPct val="15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Mitra"/>
              </a:rPr>
              <a:t>بخش غیر کلامی آن چیزی است که با دیگران انجام انجام می دهی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5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0440" y="333360"/>
            <a:ext cx="582948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B Nazanin"/>
              </a:rPr>
              <a:t>وجد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98280" y="1991880"/>
            <a:ext cx="7102440" cy="34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B Nazanin"/>
              </a:rPr>
              <a:t>واژه «وجدان» را مي‏توان به عنوان حالتي از يك آگاهي معنوي تعريف كر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92d050"/>
                </a:solidFill>
                <a:latin typeface="Arial"/>
                <a:ea typeface="B Nazanin"/>
              </a:rPr>
              <a:t> محدوده اي که رفتارهاي فرد را متناسب با جنبه اخلاقي مسايل، جهت‏ مي‌دهد (روچ</a:t>
            </a:r>
            <a:r>
              <a:rPr b="1" lang="ar-SA" sz="1800" spc="-1" strike="noStrike">
                <a:solidFill>
                  <a:srgbClr val="92d050"/>
                </a:solidFill>
                <a:latin typeface="Arial"/>
                <a:ea typeface="B Nazanin"/>
              </a:rPr>
              <a:t>1992</a:t>
            </a:r>
            <a:r>
              <a:rPr b="1" lang="ar-SA" sz="1800" spc="-1" strike="noStrike">
                <a:solidFill>
                  <a:srgbClr val="92d050"/>
                </a:solidFill>
                <a:latin typeface="Arial"/>
                <a:ea typeface="B Nazani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B Nazanin"/>
              </a:rPr>
              <a:t>وجدان اساس يك رفتار اخلاقي را شکل مي‏ده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" descr=""/>
          <p:cNvPicPr/>
          <p:nvPr/>
        </p:nvPicPr>
        <p:blipFill>
          <a:blip r:embed="rId1"/>
          <a:stretch/>
        </p:blipFill>
        <p:spPr>
          <a:xfrm>
            <a:off x="684360" y="371484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00"/>
                </a:solidFill>
                <a:latin typeface="Arial"/>
                <a:cs typeface="B Nazanin"/>
              </a:rPr>
              <a:t>روچ می نویس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820908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وجدان يك واكنش ارادي، تعمدي، معنادار و عقلاني اس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وجدان هماهنگ شدن شخص مراقبت كننده با ذات اخلاقي پديده‏هاس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وجدان مراقبت را فرا مي‏خواند و خود را به عنوان مراقبت آشكار مي‏ساز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مراقبت حرفه‏اي در يك وجدان متکامل تجلي مي‏ياب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24000" y="1628640"/>
            <a:ext cx="77040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0000"/>
                </a:solidFill>
                <a:latin typeface="Arial"/>
                <a:cs typeface="B Mitra"/>
              </a:rPr>
              <a:t>به عنوان يك حرفه مند، شاید لازم باشد دوباره به نحوه انجام کارهایمان بیندیشی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971640" y="2225520"/>
            <a:ext cx="6912000" cy="36576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th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771516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 algn="r" rtl="1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B Mitra"/>
              </a:rPr>
              <a:t>Ethics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Mitra"/>
              </a:rPr>
              <a:t> معانی متفاوتی دارد که همگی مربوط به </a:t>
            </a:r>
            <a:r>
              <a:rPr b="1" lang="fa-IR" sz="2000" spc="-1" strike="noStrike">
                <a:solidFill>
                  <a:srgbClr val="ff0000"/>
                </a:solidFill>
                <a:latin typeface="Arial"/>
                <a:cs typeface="B Mitra"/>
              </a:rPr>
              <a:t>استانداردهای رفتاری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Mitra"/>
              </a:rPr>
              <a:t> ان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 algn="r" rtl="1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Mitra"/>
              </a:rPr>
              <a:t>به سیستمی از </a:t>
            </a:r>
            <a:r>
              <a:rPr b="1" lang="fa-IR" sz="2000" spc="-1" strike="noStrike">
                <a:solidFill>
                  <a:srgbClr val="ff0000"/>
                </a:solidFill>
                <a:latin typeface="Arial"/>
                <a:cs typeface="B Mitra"/>
              </a:rPr>
              <a:t>اصول راهنما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Mitra"/>
              </a:rPr>
              <a:t> و قوانینی اطلاق می شود که در باره مشخص کردن فعالیتهای مجاز، لازم و یا ممنوع صحبت می کن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 algn="r" rtl="1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Mitra"/>
              </a:rPr>
              <a:t>سیستم های اخلاقی ممکن است طبیعت مذهبی و یا غیر مذهبی داشته باشن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 algn="r" rtl="1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Mitra"/>
              </a:rPr>
              <a:t>ممکن است به شیوه ای </a:t>
            </a:r>
            <a:r>
              <a:rPr b="1" lang="fa-IR" sz="2000" spc="-1" strike="noStrike">
                <a:solidFill>
                  <a:srgbClr val="ff0000"/>
                </a:solidFill>
                <a:latin typeface="Arial"/>
                <a:cs typeface="B Mitra"/>
              </a:rPr>
              <a:t>فردی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Mitra"/>
              </a:rPr>
              <a:t> یا </a:t>
            </a:r>
            <a:r>
              <a:rPr b="1" lang="fa-IR" sz="2000" spc="-1" strike="noStrike">
                <a:solidFill>
                  <a:srgbClr val="ff0000"/>
                </a:solidFill>
                <a:latin typeface="Arial"/>
                <a:cs typeface="B Mitra"/>
              </a:rPr>
              <a:t>عمومی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Mitra"/>
              </a:rPr>
              <a:t> و از دیدگاهی کلی یا ویژه مورد استفاده قرار گیر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 algn="r" rtl="1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B Mitra"/>
              </a:rPr>
              <a:t>Ethics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Mitra"/>
              </a:rPr>
              <a:t> گاهی اشاره به آداب وهنجارهای یک گروه خاص دارد مثل اصول اخلاقی پزشکی، پرستاری، مهندسی و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thics The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Diagram 1" descr=""/>
          <p:cNvPicPr/>
          <p:nvPr/>
        </p:nvPicPr>
        <p:blipFill>
          <a:blip r:embed="rId1"/>
          <a:stretch/>
        </p:blipFill>
        <p:spPr>
          <a:xfrm>
            <a:off x="774720" y="1627200"/>
            <a:ext cx="6900840" cy="36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gnificance of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thics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inci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7490160" cy="43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r" rtl="1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Mitra"/>
              </a:rPr>
              <a:t>اصول اخلاقی </a:t>
            </a:r>
            <a:r>
              <a:rPr b="1" lang="fa-IR" sz="2000" spc="-1" strike="noStrike">
                <a:solidFill>
                  <a:srgbClr val="ff0000"/>
                </a:solidFill>
                <a:latin typeface="Arial"/>
                <a:cs typeface="B Mitra"/>
              </a:rPr>
              <a:t>راهنمایی برای تصمیم گیری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Mitra"/>
              </a:rPr>
              <a:t> ها و فعالیت های </a:t>
            </a:r>
            <a:r>
              <a:rPr b="1" lang="fa-IR" sz="2000" spc="-1" strike="noStrike">
                <a:solidFill>
                  <a:srgbClr val="ff0000"/>
                </a:solidFill>
                <a:latin typeface="Arial"/>
                <a:cs typeface="B Mitra"/>
              </a:rPr>
              <a:t>اخلاقی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Mitra"/>
              </a:rPr>
              <a:t> هستن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r" rtl="1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Mitra"/>
              </a:rPr>
              <a:t>اصول اخلاقی تحت تاثیر زمینه فرهنگی اقتصادی و اجتماعی قرار می گیر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r" rtl="1">
              <a:lnSpc>
                <a:spcPct val="15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Mitra"/>
              </a:rPr>
              <a:t> اصول </a:t>
            </a:r>
            <a:r>
              <a:rPr b="1" lang="fa-IR" sz="2000" spc="-1" strike="noStrike">
                <a:solidFill>
                  <a:srgbClr val="ff0000"/>
                </a:solidFill>
                <a:latin typeface="Arial"/>
                <a:cs typeface="B Mitra"/>
              </a:rPr>
              <a:t>اخلاقی فردی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Mitra"/>
              </a:rPr>
              <a:t> شامل ارزش های اخلاقی ست که هر فرد  برای زندگی خود و در ارتباطش با دیگران بر می گزین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888840" y="4292640"/>
            <a:ext cx="363564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333000"/>
            <a:ext cx="801540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ignificance of Ethics Princi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1646280"/>
            <a:ext cx="777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Mitra"/>
              </a:rPr>
              <a:t>اصول </a:t>
            </a:r>
            <a:r>
              <a:rPr b="1" lang="fa-IR" sz="2000" spc="-1" strike="noStrike">
                <a:solidFill>
                  <a:srgbClr val="ff0000"/>
                </a:solidFill>
                <a:latin typeface="Arial"/>
                <a:cs typeface="B Mitra"/>
              </a:rPr>
              <a:t>اخلاقی اجتماعی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Mitra"/>
              </a:rPr>
              <a:t> در ارتباط با هنجارهای هر جامعه معنا می شو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Mitra"/>
              </a:rPr>
              <a:t>با هر پس زمینه فرهنگی، امروزه اهمیت کاربرد اصول اخلاقی در مراقبت های بهداشتی بطور فزاینده ای شناخته شده اس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917640" y="3284640"/>
            <a:ext cx="3465360" cy="244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fessional eth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87640" y="1404720"/>
            <a:ext cx="367164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r" rtl="1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  <a:cs typeface="B Mitra"/>
              </a:rPr>
              <a:t>اخلاق حرفه ای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B Mitra"/>
              </a:rPr>
              <a:t>، اصول کلی تر اخلاقی را در فضای خاص حرفه ای مطرح می کن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B Mitra"/>
              </a:rPr>
              <a:t> اخلاق حرفه ای 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  <a:cs typeface="B Mitra"/>
              </a:rPr>
              <a:t>شاخه ای از علم اخلاق است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B Mitra"/>
              </a:rPr>
              <a:t> که با توجه به شرایط و فضای هر حرفه خاص تعریف می شو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749160" y="1538280"/>
            <a:ext cx="3813480" cy="43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fessional Eth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7280" y="1805040"/>
            <a:ext cx="705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r" rtl="1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0000"/>
                </a:solidFill>
                <a:latin typeface="Arial"/>
                <a:cs typeface="B Mitra"/>
              </a:rPr>
              <a:t>اصول اخلاقی حرفه ای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Mitra"/>
              </a:rPr>
              <a:t> به عنوان </a:t>
            </a:r>
            <a:r>
              <a:rPr b="1" lang="fa-IR" sz="2000" spc="-1" strike="noStrike">
                <a:solidFill>
                  <a:srgbClr val="ff0000"/>
                </a:solidFill>
                <a:latin typeface="Arial"/>
                <a:cs typeface="B Mitra"/>
              </a:rPr>
              <a:t>استانداردهای مورد توافق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Mitra"/>
              </a:rPr>
              <a:t> و رفتارهای مورد انتظار از اعضاء یک گروه حرفه ای خاص توصیف می شو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r" rtl="1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Mitra"/>
              </a:rPr>
              <a:t>این استانداردها معمولا در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B Mitra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B Mitra"/>
              </a:rPr>
              <a:t>professional code of ethics</a:t>
            </a:r>
            <a:r>
              <a:rPr b="1" lang="fa-IR" sz="2000" spc="-1" strike="noStrike">
                <a:solidFill>
                  <a:srgbClr val="ff3300"/>
                </a:solidFill>
                <a:latin typeface="Arial"/>
                <a:ea typeface="B Mitra"/>
              </a:rPr>
              <a:t>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Mitra"/>
              </a:rPr>
              <a:t>یا</a:t>
            </a:r>
            <a:r>
              <a:rPr b="1" lang="fa-IR" sz="2000" spc="-1" strike="noStrike">
                <a:solidFill>
                  <a:srgbClr val="ff3300"/>
                </a:solidFill>
                <a:latin typeface="Arial"/>
                <a:ea typeface="B Mit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B Mitra"/>
              </a:rPr>
              <a:t>       </a:t>
            </a:r>
            <a:r>
              <a:rPr b="1" lang="fa-IR" sz="2000" spc="-1" strike="noStrike">
                <a:solidFill>
                  <a:srgbClr val="003399"/>
                </a:solidFill>
                <a:latin typeface="Arial"/>
                <a:cs typeface="B Mitra"/>
              </a:rPr>
              <a:t>کدهای اخلاق حرفه ای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Mitra"/>
              </a:rPr>
              <a:t> بیان شده و ممکن است پشتیبانی قانونی هم داشته باش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900000" y="3860640"/>
            <a:ext cx="6985080" cy="2160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4T07:35:39Z</dcterms:created>
  <dc:creator>Soodabeh</dc:creator>
  <dc:description/>
  <dc:language>en-US</dc:language>
  <cp:lastModifiedBy>User</cp:lastModifiedBy>
  <dcterms:modified xsi:type="dcterms:W3CDTF">2023-08-15T04:49:25Z</dcterms:modified>
  <cp:revision>225</cp:revision>
  <dc:subject/>
  <dc:title>Patients’ rights حقوق بیماران</dc:title>
</cp:coreProperties>
</file>