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E9E-C549-4204-8491-9F8F70225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C72F-830C-4985-851E-63ABC88F61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D3F-E096-4146-9329-6017449F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3B8-98FF-4B3C-9D76-7FB93B6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EE2-8F12-4274-83A7-3FF0FF33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662-CEEA-4885-B531-AE0AA140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BED-C79C-47BE-8278-6C4CB3F5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2018-4B54-4BA7-A89D-BA08FF6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BD4-E9EA-4051-B5E4-9041F91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F08-7801-4750-A457-1A0B2DB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4B0-669D-4FAE-A3CE-77B3F25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2796-15ED-4616-86D0-27D4355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D69-EA82-48E0-B6BE-E5FC3848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B84-857D-4A4E-A04E-EE967BE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1B0-DE25-450C-930D-A62ADE4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081-9376-44DF-81AA-3B43647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63F-53B3-453D-B179-C607EFD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8E36-7E1D-41A2-A597-BFAB0837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A3D2-EC46-4C7C-B95D-E5FEDF9F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A2F0F-3898-4F68-A642-83DA536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81D2C-44FE-4786-987B-8CA63AC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70276-BDE0-4D9B-840D-EED25C9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233A3-56D3-4A4A-842C-7D28DE21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C6C20-87CA-45C2-B310-7A71E8D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C01-A7C3-4DD1-B826-48475166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ADDAF-754B-44C2-8F60-C74CC8BA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3CB54-E699-4DA7-9B09-C84A9A7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CA537-6A14-45D7-AFCA-832C1EF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02F5F-2965-4046-BA14-012216DA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FF43A-662B-4115-9CCE-BCAC253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8B8DC-384B-4598-984E-823BEA54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2C51C-A889-4E1E-8484-F49C69B8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43560-2ED8-4D9D-84B2-2C9AADE9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51F4E-FC68-40A1-A204-299E0DD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2E87B-3221-4753-9228-5CD3E5BB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D07-B95C-4BF7-834F-8F9671F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4B962-78EC-48C8-B72C-04063F67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67BC2-8C71-4DAE-9F42-4D3BAF1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352A1-B75F-4522-B77A-F06044D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D1593-2546-40B4-AAC8-CBD562D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9E8D2-5A14-4658-8004-48D152B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282D8-85B8-4F37-887A-CE78B88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CC375-2239-4446-8D9C-24DE30A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94305-1E1B-47D1-B25F-24BC3473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95D86-DC42-42B6-9682-0C6B1C50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3D742-3B60-4514-8FD6-2F060FBC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719-BE77-43A5-8A68-9344CFB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B0B64-E9D5-453E-8623-577661F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F98C7-B764-4720-8533-5D3778C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E2B37-FF77-4D39-886B-65EFBB9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C52D4-D685-4ADE-BEB5-E000F07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8BD79-7ED4-4E80-96A8-145410F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353AD-8C2E-4DE5-B15D-E068839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D0DCD-7732-4A9A-8360-EFCBE46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9B422-FFA6-4CE0-80CC-D631EA2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5C5C9-E5A0-4163-ACF2-BD303B2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30E52-1B65-4487-A664-39600C5D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225-1BE1-4BC5-A752-6EF6982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4E8FB-133B-4D75-9E47-3DAD5E10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CFE2-E0DB-403B-BCC2-19E168E1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8179-333D-4AEF-8240-159E29EE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C982E-406E-432A-985D-9CEB0BB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49294-ED5F-45CE-9E3D-EA61AB2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A214-109F-401C-8FDA-C9D1214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A170-BC8B-4AEE-8AFA-19F3FA5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4D53-96C8-4B85-B1FE-EFF550C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F872-C178-403D-9C3D-D57C0F9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FF50-DB17-4548-A14C-C5CD0D3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A34-998F-47BC-A69C-419459E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F7E7-925A-410D-A857-F8126E3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93C3-0FBB-45E0-B2AD-9100315F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1811-5C6C-4B42-BA49-DC464097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B272B-1D61-4A2B-8314-BD0BB8D7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45383-D5BE-446F-A951-8BBEBE8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F7681-9EBE-4C8C-BFA5-7071881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42859-8897-4A9E-9D12-CBE370D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AB541-0E96-49B7-8CB2-637CC043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FD10C-1081-47BD-8010-D0582C28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AECD4-01E0-49B3-9732-78FA71F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393-6D61-46E9-BCF9-52F3B88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37633-66B8-44F0-A29B-A7530E8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CD0B8-59B7-46C0-8E0F-13E856D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CC033-9164-41CE-981C-30F68D5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26749-DF9D-4EA9-9B72-8DF932FE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76E19-A85F-4CC7-93C6-D85AA690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E7AF-76FD-4791-9BBE-33DFD069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31B92-5192-4327-8695-1F9BFB1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A60A-CDC5-46EF-9CEA-97084A41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E7C4-A0E8-4650-ACE9-DABDD2D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D9FE1-714A-4639-8595-BAF35FE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687-8751-4316-ABA8-2706478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C8686-4F9A-49ED-A058-BF684F9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0EFA-E51A-4F15-A44B-20840111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3678-51F9-4575-B03A-803E8EF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F76F-3E81-4EBF-8255-16719EC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3039-B473-4D7F-B071-42B9A07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E89B-78C7-41A2-B223-BFCBF4EF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854B-E2ED-42DD-8EFF-D7D536BA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ED1-5F36-494B-B569-0F0BFD1289B7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6146-4428-48BB-A01D-07D08CE609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716-02EB-4E1A-A260-03558F8D814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D12-1425-4F26-ADBF-EBC6F35FEE01}" type="slidenum">
              <a:rPr b="1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2897-F9B6-476B-82E2-D56D3C45F751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E47-6B2A-4707-AEA4-FE047D58379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C8BB-88B3-4948-AAF3-3AF8767C03AB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D65-8EDF-48DB-9D1E-1C70717F59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8E4E-9F01-4AA0-AB0A-E7F6E25B981D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FFEA-5F90-4A8C-ABCE-3D174CF38E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8EC-0933-4F58-B376-C17888250730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664-95B7-4070-9A5C-C8AC8BA91D17}" type="slidenum">
              <a:rPr b="1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A8D-989E-41FC-AEE0-8327EC0991C0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55E0-458F-4D9B-B1B7-FC1AFBC0044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F60-C2FF-49F4-94D6-E2CC5C2D0FD7}" type="datetime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11F-F106-4046-B637-6E38E5A648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057400" y="2895120"/>
            <a:ext cx="5029200" cy="30481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200" spc="-1" strike="noStrike">
                <a:solidFill>
                  <a:srgbClr val="050505"/>
                </a:solidFill>
                <a:latin typeface="Arial"/>
                <a:cs typeface="Times New Roman"/>
              </a:rPr>
              <a:t>دکتر غلامعلی دورو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200" spc="-1" strike="noStrike">
                <a:solidFill>
                  <a:srgbClr val="050505"/>
                </a:solidFill>
                <a:latin typeface="Arial"/>
                <a:ea typeface="Times New Roman"/>
              </a:rPr>
              <a:t> </a:t>
            </a:r>
            <a:r>
              <a:rPr b="1" lang="prs-AF" sz="3200" spc="-1" strike="noStrike">
                <a:solidFill>
                  <a:srgbClr val="050505"/>
                </a:solidFill>
                <a:latin typeface="Arial"/>
                <a:cs typeface="Times New Roman"/>
              </a:rPr>
              <a:t>استادیار سم شناسی بالی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200" spc="-1" strike="noStrike">
                <a:solidFill>
                  <a:srgbClr val="050505"/>
                </a:solidFill>
                <a:latin typeface="Arial"/>
                <a:cs typeface="Times New Roman"/>
              </a:rPr>
              <a:t>دانشکده پزشک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200" spc="-1" strike="noStrike">
                <a:solidFill>
                  <a:srgbClr val="000000"/>
                </a:solidFill>
                <a:latin typeface="Arial"/>
                <a:cs typeface="Arial"/>
              </a:rPr>
              <a:t>دانشگاه</a:t>
            </a:r>
            <a:r>
              <a:rPr b="1" lang="prs-AF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علوم پزشکی اصف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4"/>
          <p:cNvSpPr txBox="1"/>
          <p:nvPr/>
        </p:nvSpPr>
        <p:spPr>
          <a:xfrm>
            <a:off x="1295280" y="838080"/>
            <a:ext cx="6477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d193c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d193c"/>
                  </a:gs>
                </a:gsLst>
                <a:lin ang="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533520"/>
            <a:ext cx="8381880" cy="3383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4800" spc="-1" strike="noStrike">
                <a:solidFill>
                  <a:srgbClr val="ff0000"/>
                </a:solidFill>
                <a:latin typeface="Arial"/>
                <a:cs typeface="Arial"/>
              </a:rPr>
              <a:t>مسمومیت با سر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4800" spc="-1" strike="noStrike">
                <a:solidFill>
                  <a:srgbClr val="ff0000"/>
                </a:solidFill>
                <a:latin typeface="Arial"/>
                <a:cs typeface="Arial"/>
              </a:rPr>
              <a:t>پاتوفیزیولوژی ، تشخیص و درم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AA98-229F-4D28-9898-E224A119D135}" type="slidenum">
              <a:rPr b="1" lang="en-US" sz="1400" spc="-1" strike="noStrike">
                <a:solidFill>
                  <a:srgbClr val="3232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0" y="4648320"/>
            <a:ext cx="1714680" cy="1371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3"/>
          <a:stretch/>
        </p:blipFill>
        <p:spPr>
          <a:xfrm>
            <a:off x="7391520" y="441972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DF39-9AEA-42F9-9DD5-C5D0757A28D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C:\Users\kahkeshan\Desktop\مسمومیت با سرب\New folder\422305141_1148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مسمومیت حاد در بزرگسال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ندرتا بدنبال خوردن، استنشاق و یا تزریق مقادیر زیاد سرب رخ می ده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دهای کولیکی شکم، هپاتیت، پانکراتیت، آنمی همولیتیک، انسفالوپاتی در طی چند روز یا چند هفت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CC2-4851-4917-ABA0-E25A0008CAC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مسمومیت مزمن در بزرگسال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اغلب نقاط جهان در اثر استنشاق مزمن سرب رخ می ده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عمولا به علایم مسمومیت شدیدی که در طی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۶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فته اخیر ایجاد و بدنبال در تماس بودن با سرب درطی یک سال یا کمتر باشد مسمومیت حاد گوی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4CE-C4F2-49F4-9F83-F2AA672B36CC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Neuro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urotoxicity of lead involves multiple targets, inclu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rebrovascular endothe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ural cell adhesion molec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urotransmi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second-messenger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ulation of apoptos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elin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هیپوکامپ مس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ول یادگیری و حافظه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zheimer disease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تغییرات در میکرو واسکولار مغزی موجب ادم مغزی و افزای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می شود، که همراه با دیگر عل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م سندرم انسفالوپاتی حاد مشاهده می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نوروپاتی پریفرال  (بدلیل تخریب سلول های شوان، دمیلینیزیشن سگمنتال و تخریب آکسونی ) اثر کلاسیک مسمومیت با سرب در بالغین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اعصاب حسی کمتر از حرکتی درگیر می شو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کاه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در کودکان ( ا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cs typeface="Arial"/>
              </a:rPr>
              <a:t>ت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عد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7E2-8C3B-436E-A955-46D5C058CDE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CT scan of the brain reveals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diffuse cerebral edema 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loss</a:t>
            </a:r>
            <a:r>
              <a:rPr b="0" lang="prs-AF" sz="1600" spc="-1" strike="noStrike" u="sng">
                <a:solidFill>
                  <a:srgbClr val="323232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of gray-white matter 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differentiation on day 1 of hospitalization of a </a:t>
            </a:r>
            <a:r>
              <a:rPr b="0" i="1" lang="en-US" sz="1600" spc="-1" strike="noStrike">
                <a:solidFill>
                  <a:srgbClr val="323232"/>
                </a:solidFill>
                <a:latin typeface="Arial"/>
              </a:rPr>
              <a:t>3 year-old boy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. He had</a:t>
            </a:r>
            <a:r>
              <a:rPr b="0" lang="prs-AF" sz="16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presented with a brief prodrome of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vomiting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 and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altered mental status 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followed by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status</a:t>
            </a:r>
            <a:r>
              <a:rPr b="0" lang="prs-AF" sz="1600" spc="-1" strike="noStrike" u="sng">
                <a:solidFill>
                  <a:srgbClr val="323232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epilepticus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, characteristic of acute lead encephalopathy. His blood lead concentration was 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220 </a:t>
            </a:r>
            <a:r>
              <a:rPr b="0" lang="el-GR" sz="1600" spc="-1" strike="noStrike" u="sng">
                <a:solidFill>
                  <a:srgbClr val="323232"/>
                </a:solidFill>
                <a:uFillTx/>
                <a:latin typeface="Arial"/>
              </a:rPr>
              <a:t>μ</a:t>
            </a:r>
            <a:r>
              <a:rPr b="0" lang="en-US" sz="1600" spc="-1" strike="noStrike" u="sng">
                <a:solidFill>
                  <a:srgbClr val="323232"/>
                </a:solidFill>
                <a:uFillTx/>
                <a:latin typeface="Arial"/>
              </a:rPr>
              <a:t>g/dL</a:t>
            </a: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3ADE-9ED9-4D8E-A2E3-5D4E7869DA1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5410080"/>
          </a:xfrm>
          <a:prstGeom prst="rect">
            <a:avLst/>
          </a:prstGeom>
          <a:ln w="9360">
            <a:solidFill>
              <a:srgbClr val="f07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</a:rPr>
              <a:t>Magnetic resonance image of the brain reveals cortical atrophy and multiple areas of cerebral infarction in the same patient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2282-634C-4279-87D0-606B843D71B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5410080"/>
          </a:xfrm>
          <a:prstGeom prst="rect">
            <a:avLst/>
          </a:prstGeom>
          <a:ln w="9360">
            <a:solidFill>
              <a:srgbClr val="f07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Encephalopath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nicious vomi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at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zarre behav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ss of recently acquired</a:t>
            </a:r>
            <a:r>
              <a:rPr b="0" lang="prs-AF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velopmental 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ax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ord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iz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tered senso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rs-AF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rs-AF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ral edema and increased ICP </a:t>
            </a:r>
            <a:r>
              <a:rPr b="1" lang="prs-AF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prs-AF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in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ve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pilled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culomotor or facial nerve palsy, diminished deep tendon</a:t>
            </a:r>
            <a:r>
              <a:rPr b="0" lang="prs-AF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es, or other evidence of increased I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C177-D28C-496C-A310-3A3C39CFEE4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انسفالوپاتی در اطفال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09120" y="1523520"/>
            <a:ext cx="8153640" cy="49532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ephalopat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 occur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ildren ages</a:t>
            </a:r>
            <a:r>
              <a:rPr b="0" lang="prs-AF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 to 30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s associat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Ls above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g/dL, although it is reported with BLLs as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s 70 μg/dL; and tends to occur more commonly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e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t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d by encephalopathy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5% in the prechelation 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ing to below 5%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advent of effective chelation. The incide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manent neurologic sequel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mental retardation, seizure disorder, blindness, and hemiparesis, is 25% to 30% in patients who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encephalopathic symptoms before the onset of ch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253-D5B7-49CE-AE21-5DE318F56F9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نسفالوپاتی در بزرگسال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&gt;150 μ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/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izures (75% of cases), obtundation, confusion, focal motor disturbances, papilledema,</a:t>
            </a:r>
            <a:r>
              <a:rPr b="1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aches, and 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B0D-C771-4CE1-9D59-53F8ADEB2B8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Hematologic 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هار چندین آنزیم در مسیر بیوسنتز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e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نقص در عملکرد اریتروپویتین ثانویه به آسیب کلیوی همرا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اهش طول عمر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BC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ا  و بروز همولیز بدلیل نقص دیواره سلول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هار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yrimidine-5′-nucleotidase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وجب تخریب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و  بروز منظره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ophilic stippling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ر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7121-08FB-4978-B793-C111AD14E42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533160"/>
            <a:ext cx="5864400" cy="685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600" spc="-1" strike="noStrike">
                <a:solidFill>
                  <a:srgbClr val="0e2c3e"/>
                </a:solidFill>
                <a:latin typeface="Arial"/>
                <a:cs typeface="Arial"/>
              </a:rPr>
              <a:t>منابع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1981080"/>
            <a:ext cx="8232480" cy="46483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4000"/>
          </a:bodyPr>
          <a:p>
            <a:pPr marL="299520" indent="-299520" algn="r" rtl="1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2800" spc="-1" strike="noStrike">
                <a:solidFill>
                  <a:srgbClr val="000000"/>
                </a:solidFill>
                <a:latin typeface="Arial"/>
                <a:cs typeface="Arial"/>
              </a:rPr>
              <a:t>از قدیمی ترین سموم شناخته ش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2800" spc="-1" strike="noStrike">
                <a:solidFill>
                  <a:srgbClr val="000000"/>
                </a:solidFill>
                <a:latin typeface="Arial"/>
                <a:cs typeface="Arial"/>
              </a:rPr>
              <a:t>استفاده در صنایع (باطری سازی، چاپ، نقاشی، رنگ، ساختمان، لوله کش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2800" spc="-1" strike="noStrike">
                <a:solidFill>
                  <a:srgbClr val="000000"/>
                </a:solidFill>
                <a:latin typeface="Arial"/>
                <a:cs typeface="Arial"/>
              </a:rPr>
              <a:t>برخی مشاغ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2800" spc="-1" strike="noStrike">
                <a:solidFill>
                  <a:srgbClr val="000000"/>
                </a:solidFill>
                <a:latin typeface="Arial"/>
                <a:cs typeface="Arial"/>
              </a:rPr>
              <a:t>افزودنی به تریا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rs-AF" sz="2800" spc="-1" strike="noStrike">
                <a:solidFill>
                  <a:srgbClr val="002060"/>
                </a:solidFill>
                <a:latin typeface="Arial"/>
                <a:cs typeface="Arial"/>
              </a:rPr>
              <a:t>رنگدانه های کرومات سرب زرد رنگ و اکسید سرب قرمز رنگ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clipart-pencil-checklist.gif"/>
          <p:cNvPicPr/>
          <p:nvPr/>
        </p:nvPicPr>
        <p:blipFill>
          <a:blip r:embed="rId1"/>
          <a:stretch/>
        </p:blipFill>
        <p:spPr>
          <a:xfrm>
            <a:off x="6515280" y="0"/>
            <a:ext cx="2628720" cy="1295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229C-8084-4ED2-9D9C-B4C081B92EC1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Arial"/>
              </a:rPr>
              <a:t>This peripheral smear of blood examined under high-power microscopy demonstrates the classic basophilic stippling associated with lead poisoning. The patient’s blood lead concentration was over 100 μg/dL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A0F-41C9-471B-AF35-C235F51ABDD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Nephro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نفروپاتی ناشی از سرب موجب سندرمی مشابه فانکونی می شود. 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minoaciduria, glycosuria, phosphaturia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stitial fibro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ارسینوم کلیه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نقرس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aturnine gou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0E0-8245-4491-8D52-C35D181565B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Cardio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همترین تظاهر قلبی مسمومیت با سرب هیپرتانسیون است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میت قلبی مستقیم (ندرتا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association is particularly strong for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ul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 ages 40 to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9 years, with an approximate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.5 to 3.0 mm Hg increase in systolic pressure for every doubling of</a:t>
            </a:r>
            <a:r>
              <a:rPr b="1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LL beginning at 7 </a:t>
            </a:r>
            <a:r>
              <a:rPr b="1" lang="el-GR" sz="2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/d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DD0D-CAC7-4400-9DE0-C06F4405E88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Reproductive 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airment of both male and female reproductive f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ametotoxic eff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romosomal abnormalit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esticular endocrine hypof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2C6-DC59-45E0-ABC0-1CC82A16E861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Endocrine 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اهش عملکرد تیرویید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اهش عملکرد هیپوفیز- فوق کلیو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اهش ترشح هورمون رشد و فاکتور رشد مشابه انسولین در اطفا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C89-8577-40F8-8515-C0285DFC14E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Skeletal 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تولید استخوان جدید  و عملکرد است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بلاست ها و است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کلاست ها مهار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ختلال در رشد استخوان و کوتاهی قد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s of increased metaphyseal density on radiographs of long bones (“lead lines”) in</a:t>
            </a:r>
            <a:r>
              <a:rPr b="0" lang="prs-AF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children with heavy lead exposure represent increased calcium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691-2057-4FE6-8159-14B8DE5F583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</a:rPr>
              <a:t>Radiograph of the wrist and knee reveals increased bands of calcification (“lead lines”)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8A05-D956-4C64-8CB5-0D34D79B96A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Gastrointestinal Toxicit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orex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licky abdominal pa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asmodic contraction of intestinal wall smooth mus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672-6221-4FDA-BB44-08E53E8EF82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nical Manifestations of Lead Poisoning in Children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9FC-5227-45F5-9510-19C1ADD9DBD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740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nical Manifestations of Lead Poisoning in Adults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5E7-30CE-4027-9E12-B6BDE58196B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0CE-0FCF-4E67-A8CF-EE42C6BCBF3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Content Placeholder 4" descr="C:\WINDOWS\Application Data\Microsoft\Media Catalog\sourc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E9CE-D3DF-424A-B2AD-2BD13307A06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Content Placeholder 4" descr="C:\WINDOWS\Application Data\Microsoft\Media Catalog\health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تست های تایید کننده تشخیص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آنمی میکروسیتیک یا همولیتیک، افزایش رتیکولوسیت، سندرم میلودیس پلازی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BS( basophilic stippling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d erythrocyte protoporphyrin (especially &gt;250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/d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bnormal urinaly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diologic findings of dense metaphyseal “lead lines” at wrists or kne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BLL is typically determined by atomic absorption spectrophotometry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B10-4B6A-4927-BD37-EB6B3498B8F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تست ها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T zone test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:تست کیفی سریع ادراری (تغییر رنگ ادراری وابسته به شدت مسمومیت) اگر مثبت شود باید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ا هم انجام دا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ood Lead Leve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ی سی خون سیتراته و بدون هپارین در لوله شفا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F5D-ADAC-43EF-B1A9-8DFE1A1C449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تشخیص های افتراقی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NS infection (bacterial meningitis or herpetic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cephalitis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نجام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بدلیل افزایش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ر انسفالوپاتی خطرناک است و در صورت لزوم قبل از انجام آن باید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نجام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ایع گرفته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rpal tunnel syndrome, Guillain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rré syndrome, sickle cell crisis, acute appendicitis, rena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lic, infectious encephaliti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ildren are often initially considered to have vira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astroenterit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D93-6A60-4772-AC70-9C6324CFAD4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ندیکاسیون های بستری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9000"/>
          </a:bodyPr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علایم انسفالوپات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علایم عصبی / کلیوی یا گوارشی شدید یا ناتوان کنند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مه ی اطفال علامتدا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طح سرب بالای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بیماران با علایم حاد: درد شکم، یبوست و انسداد روده که نیاز به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EG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ار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زنان باردار با مسمومیت شدید ( این زنان باردار نیازمند درمان با شلاتور هستند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B76-0BB0-450A-B7C1-AB071E873C9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درم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88000"/>
          </a:bodyPr>
          <a:p>
            <a:pPr marL="280440" indent="-28044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هم ترین بخش درمان قطع تماس با سرب است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مان با شلاتور و دفع کلیوی باند آنها ، در طی درمان موجب کاهش سرب خون و بهبود مارکرهای خونی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مواردی که سطح خونی بزودی در دسترس نخواهد بود، می توان بیماران با شرح حال مثبت ، که تست های آزمایشگاهی تایید کننده داشته باشند را تحت درمان ایمپریکال با شلاتور قرار دا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PI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، درمان های پروکینتیک ،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BI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، اندوسکوپی و جراحی در موارد بلع اجسام خارجی حاوی سرب توصیه شده ا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888-B424-425F-9DA3-F0E58905014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ندیکاسیون های درمان با شلاتور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3200" spc="-1" strike="noStrike">
                <a:solidFill>
                  <a:srgbClr val="000000"/>
                </a:solidFill>
                <a:latin typeface="Arial"/>
                <a:cs typeface="Arial"/>
              </a:rPr>
              <a:t>بزرگسالان با عل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3200" spc="-1" strike="noStrike">
                <a:solidFill>
                  <a:srgbClr val="000000"/>
                </a:solidFill>
                <a:latin typeface="Arial"/>
                <a:cs typeface="Arial"/>
              </a:rPr>
              <a:t>م واضح(انسفالوپاتی، کولیک شکمی، آرترالژی و یا میالژی  شدید )،نشانه های آسیب ارگانهای هدف (نوروپاتی یا نفروپاتی) و افراد با شرح حال قویا مثبت بدون علامت که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prs-AF" sz="3200" spc="-1" strike="noStrike">
                <a:solidFill>
                  <a:srgbClr val="000000"/>
                </a:solidFill>
                <a:latin typeface="Arial"/>
                <a:ea typeface="Arial"/>
              </a:rPr>
              <a:t> با افزایش زیاد دارند و یا نشانه های بیوشیمیایی مسمومیت را نشان می ده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5D2D-58CA-4308-BC67-AC72D1CC5E6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درم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88000"/>
          </a:bodyPr>
          <a:p>
            <a:pPr marL="280440" indent="-28044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ندیکاسیون های درمان با شلاتور برحسب سن بیمار، علا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 کلینیکی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تعیین می شود.توجه شود که با یک دوره درمان تنها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ز میزان سرب بدن کاسته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همراه با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a2EDTA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تزریقی جهت مسمومیت های شدید (انسفالوپاتی)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ccimer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جهت درمان مسمومیت های خفیف تا متوسط بصورت خوراکی توصیه شده ا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algn="just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nicians suggest that adults with severe lead poisoning may be successfully treated with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a2EDTA alone in doses of 2 to 4 g/d by continuous IV infus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2B2-92D3-481E-AE95-3465B33B496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637-FC0A-4884-8BCF-92AA95BCE42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3505320" y="990720"/>
            <a:ext cx="13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tle 1"/>
          <p:cNvSpPr/>
          <p:nvPr/>
        </p:nvSpPr>
        <p:spPr>
          <a:xfrm flipV="1" rot="10800000">
            <a:off x="4038120" y="3886200"/>
            <a:ext cx="60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809880" y="327672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3657600" y="2895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3657600" y="13716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28F-931F-46C2-B85D-37933F6C676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C:\Users\kahkeshan\Desktop\مسمومیت با سرب\New folder\811114191_122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Arial"/>
              </a:rPr>
              <a:t>Lead in Jewelry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143-6A03-44C6-A923-545A05F6659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lead_jewellery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چه آزمایشاتی چک شوند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eline CT Scan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مسمومیت شدید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Routine serum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emistries, BUN/Cr, LFT, CBC, Ca, U/A, B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مسمومیت شدید تستها روزانه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ر روزهای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۳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چک شو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مسمومیت خفیف تست ها روزانه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ر روزهای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۷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۱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چک شو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BB80-A49C-4B3F-8CA4-28B920D5E4F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D-Penicillamine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86000"/>
          </a:bodyPr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شلاتور سرب (در گذشته در موارد مسمومیت های خفیف تا متوسط )، همچنین جهت مسمومیت با مس، جیوه و آرسنی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وز بالغین: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۴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برکیلوگرم روزانه د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۴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وز منقسم و حداکث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۵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۰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ه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۶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اعت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وز اطفال: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۳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برکیلوگرم روزانه تا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۷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وز و سپس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بار در روز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ارو نیم ساعت قبل از غذا تجویز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مراه با آن روزانه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تا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پیریدوکسین تجویز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آزمایشات لازم پیش از درمان و در ماه اول درمان ه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هفته و سپس هر ماه باید چک شو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just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17D-8761-4E69-9CCC-196A7681BDF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پنی سیلامی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85000"/>
          </a:bodyPr>
          <a:p>
            <a:pPr marL="271080" indent="-271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600" spc="-1" strike="noStrike">
                <a:solidFill>
                  <a:srgbClr val="000000"/>
                </a:solidFill>
                <a:latin typeface="Arial"/>
                <a:cs typeface="Arial"/>
              </a:rPr>
              <a:t>عوارض جانبی: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ین دارو عوارض هماتولوژیک تهدید کننده حیات و عوارض پوستی و کلیوی جدی ولی برگشت پذیر دار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اکنش های آلرژیک، راش، خارش، تب دارویی، هماچوری، پروت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ینوری، هپاتیت، پانکراتیت، بی اشتهایی، تهوع و استفراغ، درد اپی گاستر، اختلال چشای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rs-AF" sz="3600" spc="-1" strike="noStrike">
                <a:solidFill>
                  <a:srgbClr val="000000"/>
                </a:solidFill>
                <a:latin typeface="Arial"/>
                <a:cs typeface="Arial"/>
              </a:rPr>
              <a:t>کنتراندیکاسیون 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آلرژی به پنی سیلی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نارسایی کلی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بیماری مغز استخوان با داروهای ساپرس کننده مغز استخوا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576-ECF4-4B24-912B-43F65C76B12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SUCCIMER (DMSA)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5000"/>
          </a:bodyPr>
          <a:p>
            <a:pPr marL="302760" indent="-3027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شلاتور سرب، جیوه و آرسنی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برخلاف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a2EDTA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فع موادی چون کلسیم، مس، روی و منیزیم را افزایش نمی دهد. و برخلاف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-Penicillamine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جذب گوارشی سرب را بالا نمی بر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وزاژ: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برکیلوگرم ه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۸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اعت تا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وز و سپس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برکیلوگرم ه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۲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اعت تا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۴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و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عوارض: تهوع و استفراغ، اسهال، راش، ا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زینوفیلی، افزایش آنزیم های کبد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C2F-2D7C-4887-BF3E-BC7D90A5A34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نکاتی در دستورات این بیماران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4000"/>
          </a:bodyPr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سرم..... یک لیتر هر شش ساعت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(با در نظر گرفتن وجود یا عدم وجود هیپرتانسیون  جهت تجویز نرمال سالین و احتمال  بروز هیپوناترمی جهت تجویز سرم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به هر لیتر سرم ..... میلی اکی والان بیکربنات سدیم افزوده شود( در صورت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CO3&lt;30 PH&lt;7.50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چک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ادرار هر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ساعت (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H &lt;8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حفظ شود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کپسول کربنات کلسیم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دو عدد روزانه (با فاصله حداقل دو ساعت از تجویز دی پنی سیلامین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F42-593C-4AF3-BE29-88273E0664A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نکات دستوری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4000"/>
          </a:bodyPr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آمپول دیمرکاپرول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g/kg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)میلی گرم عضلانی هر هشت ساعت تا پنج رو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امپول متادون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عضلانی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۸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اعت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کپسول دی پنی سیلامین 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هر شش ساعت خوراکی(حداقل دو ساعت بعد یا یک ساعت قبل از وعده های غذایی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کنترل علایم حیاتی (خصوصا فشار خون 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رژیم غذایی پرپرو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ی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ین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همراه با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ea typeface="Arial"/>
              </a:rPr>
              <a:t> لبنیات و مایعات فراوا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مانیتورینگ قلب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9520" indent="-2995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2F50-3A49-48C9-B5DE-5A481A8043A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503" name="Picture 2" descr="E:\My Pictures\lovelyphoto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جذب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در بالغین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لی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و در اطفال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۴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لی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رب خورده شده جذب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٪۴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لی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۳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کل سرب استنشاق شده و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لی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۷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ربی که به آلو</a:t>
            </a:r>
            <a:r>
              <a:rPr b="0" lang="fa-IR" sz="2900" spc="-1" strike="noStrike">
                <a:solidFill>
                  <a:srgbClr val="000000"/>
                </a:solidFill>
                <a:latin typeface="Arial"/>
                <a:cs typeface="Arial"/>
              </a:rPr>
              <a:t>ئ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ول ها برسد جذب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طفال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تا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۷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برابر بزرگسالان سرب استنشاقی بیشتری جذب می کن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رب ارگانیک (تترا اتیل و تترا متیل سرب که به بنزین افزوده می شوند) جذب پوستی دار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گرسنگی و     سطح کلسیم، روی و آهن در رژیم غذایی باعث     جذب سرب می شو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9EE-10F4-49BB-962F-7AD8609E4A6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Down Arrow 6"/>
          <p:cNvSpPr/>
          <p:nvPr/>
        </p:nvSpPr>
        <p:spPr>
          <a:xfrm>
            <a:off x="6553080" y="5638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Down Arrow 8"/>
          <p:cNvSpPr/>
          <p:nvPr/>
        </p:nvSpPr>
        <p:spPr>
          <a:xfrm rot="10800000">
            <a:off x="8381520" y="609552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دامه جذب سرب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اچمه ها و اجسام خارجی حاوی سرب در بدن خصوصا در اسیدهای ارگانیک مانند هیالورنیک اسید مایع سینوویال و مایع نخاعی جذب می شون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رب براحتی از جفت رد شده و در جنین تا زمان تولد تجمع می یاب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سطح نرمال خونی آن کمتر از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کروگرم بر دسی لیتر (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۰/۴۸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مول بر لیتر) است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B22-C661-4815-B393-3E5BB3E443E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انتشار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٪۹۹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رب خون در درون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BC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با نیمه عم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۳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و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٪۹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کل سرب بدن بزرگسالان و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۷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رب بدن اطفال در استخوان ها با نیمه عم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سا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٪۱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کل سرب بدن در بافت نرم (کلیه، کبد ، مغز استخوان و مغز) با نیمه عمر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۴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رو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تجمع در مغز خصوصا در اطفال 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ppocampus, cerebellum, cerebral cortex, medull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کل سرب بدن کارگران در معرض سرب حداکثر به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۲۰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تا 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۵۰۰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میلی گرم می رس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6D61-C315-4B1F-8C6D-D33F2A5D226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دفع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بدون تغییر از کلیه ها فیلتره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یزان ترشح سرب در کلیه ها وابسته به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و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PF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ست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٪۶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دفع روزانه از کلیه ها  و ٪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۳۵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 از صفرا صورت می گیر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مقادیر اندکی از سرب در شیر مادر ترشح می شود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738-1B4B-4B47-8627-8413FC7370D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4400" spc="-1" strike="noStrike">
                <a:solidFill>
                  <a:srgbClr val="323232"/>
                </a:solidFill>
                <a:latin typeface="Arial"/>
                <a:cs typeface="Arial"/>
              </a:rPr>
              <a:t>پاتوفیزیولوژی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rmAutofit fontScale="90000"/>
          </a:bodyPr>
          <a:p>
            <a:pPr marL="286920" indent="-286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3600" spc="-1" strike="noStrike">
                <a:solidFill>
                  <a:srgbClr val="000000"/>
                </a:solidFill>
                <a:latin typeface="Arial"/>
                <a:cs typeface="Arial"/>
              </a:rPr>
              <a:t>ایجاد اختلال با این مکانیسم 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تصال به گروه های </a:t>
            </a:r>
            <a:r>
              <a:rPr b="0" i="1" lang="prs-AF" sz="3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سولفیدریل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، فسفات و کربوکسیل آنزیم ها (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H, –SH,–NH2</a:t>
            </a:r>
            <a:r>
              <a:rPr b="0" lang="prs-AF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تداخل با کاتیون های کلسیم، روی و آه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ختلال در غشای سلولی و میتوکندریا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ختلال در سنتز ه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ختلال در عملکرد نوروترانسمیترها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فاقد اثر فیزیولوژیک بوده و تجمع آن در بافت ها زیان آور است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6920" indent="-286920" algn="r" rtl="1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rs-AF" sz="2900" spc="-1" strike="noStrike">
                <a:solidFill>
                  <a:srgbClr val="000000"/>
                </a:solidFill>
                <a:latin typeface="Arial"/>
                <a:cs typeface="Arial"/>
              </a:rPr>
              <a:t>اثرات کارسینوژنی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04B7-3973-45FF-B485-5CC4E18A9AC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8:27:24Z</dcterms:created>
  <dc:creator>Maryam</dc:creator>
  <dc:description/>
  <dc:language>en-US</dc:language>
  <cp:lastModifiedBy>Amin Esmaili</cp:lastModifiedBy>
  <dcterms:modified xsi:type="dcterms:W3CDTF">2022-11-28T06:41:00Z</dcterms:modified>
  <cp:revision>639</cp:revision>
  <dc:subject/>
  <dc:title>Slide 1</dc:title>
</cp:coreProperties>
</file>