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0.jpeg" ContentType="image/jpeg"/>
  <Override PartName="/ppt/media/image47.gif" ContentType="image/gif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36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5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46.jpeg" ContentType="image/jpeg"/>
  <Override PartName="/ppt/media/image35.png" ContentType="image/png"/>
  <Override PartName="/ppt/media/image43.jpeg" ContentType="image/jpeg"/>
  <Override PartName="/ppt/media/image1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125-53E4-4FCB-8792-AD0B88EF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78E-ABAA-40A6-A8B8-5E3372D7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E13-DAF5-4649-BB00-82C4817A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972-BACB-44BD-8B1D-B906D39A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8235-4F75-476F-9DC5-712208ED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C4AE-7698-4248-BAE0-A1D26D2C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3FEE-C385-4E5B-ADF3-1E72CA3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BE8-6BF9-49CA-B639-B65CFA5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F207-F1B7-4B24-9D32-6CC6660A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206D-DA49-4B97-A47D-862E64E6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FD6-327E-4433-B2F0-B4289DAA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619-6D57-489A-8131-0E987E27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1DA-3AC4-4242-B397-7FFBACF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6A89-8CC2-470E-AC89-F69437B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F27F-6EE1-494D-B460-FEB0F14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3587-C6CC-4A1A-BBBC-C8867F0B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BA4-EE03-47D5-AE55-FAE0429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C236-04C6-4EF3-82B8-F66127CF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F612-5E14-4EC3-A6C2-ECD28674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2AD7-B222-4DAE-8EEC-2EE9A0B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F1EE-6ECE-464C-90CC-261948D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0470-056A-4348-ABE1-899591A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28E-0E6F-4F7A-9983-A8DCC9DE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97A2-40BD-4D93-B238-134BE45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1A54-7387-460B-BC17-90EEFEE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48F2-6160-4331-A6E8-86F1544A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492E-87D5-432D-8B75-2F4B7D02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5F9E-968D-4FE5-8501-EEAA9E2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CEB6-2220-4ABB-A0B1-9D3CAFAE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A4CF-9406-4896-932C-6ED1CD19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DD7B-3AB5-47A7-B95D-7632E5AC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9E519-F008-4279-B4B1-95D68127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3FBF-85A5-444A-87A6-757ABEF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B51-7A5E-4FBA-BF73-73C29B4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6C07-47AB-431B-AE11-3DDDB5C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7926-7299-422D-A703-8980657A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0F18-3121-4734-9B03-2F41AE1B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F5A5-E826-411B-9D94-36EBCEED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19A0-6082-47A8-8250-AE7C834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C694-83AE-4BFC-B53C-03FFD78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18A1-5C1D-4C6D-BCBC-27B6D59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5918-AA7F-483D-A400-11F2E6D7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B036-8533-452A-96DB-C7E4A771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3C76-72E1-4880-AAB9-A0B0DE3A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109-27B5-4F08-B76F-1069DB4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4BF5-1A27-4755-8D87-DA21AF4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A9F9-5DC8-48F9-8296-FC452539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5196-EC6E-4168-A95C-4136E025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8139-D8DB-4525-99C4-F447A17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F041-057F-4A43-B5C5-9B2614C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40D2-4669-4F3F-89D9-8209C72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EDAD-5DE1-429D-9BDF-09CCC48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A7D61-64F7-4451-8F5B-60CDD00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59C3-214E-4081-AF97-685C854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47F4C-A5F6-403C-B44C-B4D2C904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450-461B-4AFD-9E05-A5E5F45D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C58B-6949-4245-8A17-D09CAD6B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F085-CB9E-4EC4-A93B-99063D0A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5ED9A-62B9-4675-8EA2-4541327F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411C-1DF3-438E-9B44-B3E25906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0F85-E4CE-4AFE-9A6B-78A79571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1068-62E8-46F9-BD4D-48680BB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B313-0593-4204-B281-B0EA39F8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35C4-FC33-4C5C-8905-1F66C99A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84DC-7FDF-4180-ADA3-5D38215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6004B-8AB7-451E-9921-9131DD0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799-1D2B-432C-81A7-73EFF5A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02CF-CE12-4A52-8513-D7D53BE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255E-AEFE-41AA-BA0A-D023F5CB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94DB-AFF3-4E44-8155-4396E578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546CC-2E3B-410F-A394-438E83C6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C2B11-E8BD-44A7-98C5-0976F00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1CA6-5032-44D9-AD72-7E94FFEA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DF30-D380-4240-B027-C9960D75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8B1B-4ACC-48C3-A652-DF7698E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97F9-463F-4BE9-A437-B502B63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EF5D5-A9D8-40D8-A22C-1EBD921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3DF-1294-402F-A09F-B613B3C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D39D9-F8DF-42EF-A1BE-D408A04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3219-9F94-4774-989D-1FCA6AF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773ED-E18F-4A9B-B8BC-4776CAE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7C6A-B773-4439-8807-CFEA0E92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E705-47D7-4ED2-A5FE-86D3DB14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5DB9-E277-42AE-9A52-4B9AD682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55510-EF53-48D0-A079-9040D120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2E45-D6FC-407F-8D80-4E5D07C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3E160-8860-4FB6-8970-7055B23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9F340-D3FE-46A1-9342-F717F79B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8C3-6383-48D2-8537-810EC83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6E57-232C-444D-8824-51D0A0B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C3FE2-827D-4F68-A0DB-4360713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798F-BDDD-433F-934C-F67FC80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CEE3-A28C-4099-BB0E-1B8B6CC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9EEA4-E548-4231-9169-BAE2F02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87649-799C-4F8C-A20E-F71AF356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B6DE-9DBA-4CA0-BFDE-38D40F62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97B-AEC6-4F10-925A-415538B1D84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E84B-612B-432F-9987-6A915445E64C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03E7-C70A-4A98-B256-5962FCAA463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3852-F209-4978-BCC7-26150990D7D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3C0-285D-4D0E-8E1D-FB62BD3E47B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2A65-7B36-4F4D-9B5D-34B398F0BB1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1A77-8818-4E84-A57F-8A43DEF2F07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Bookman Old Styl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1E0-E12D-4932-9EF0-B08EB4F495A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daneshnameh.roshd.ir/mavara/mavara-index.php?page=&#1582;&#1608;&#1606;&#1585;&#1740;&#1586;&#1740;+&#1582;&#1575;&#1585;&#1580;&#1740;" TargetMode="External"/><Relationship Id="rId2" Type="http://schemas.openxmlformats.org/officeDocument/2006/relationships/hyperlink" Target="http://daneshnameh.roshd.ir/mavara/mavara-index.php?page=&#1582;&#1608;&#1606;&#1585;&#1740;&#1586;&#1740;+&#1583;&#1575;&#1582;&#1604;&#1740;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33"/>
          <p:cNvPicPr/>
          <p:nvPr/>
        </p:nvPicPr>
        <p:blipFill>
          <a:blip r:embed="rId1"/>
          <a:srcRect l="5444" t="7948" r="5610" b="6816"/>
          <a:stretch/>
        </p:blipFill>
        <p:spPr>
          <a:xfrm>
            <a:off x="1187280" y="0"/>
            <a:ext cx="6624720" cy="35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68360" y="285768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1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- از دست رفتن گلبول هاي قرمز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و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 كاهش اكسيژن رساني به بافته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2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- كاهش در حجم خون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و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افت 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فشار خو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3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-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افزایش 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سرعت پمپاژ قلب جهت جبران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افت 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فشار خو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4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- كاهش در قدرت ضربان قلب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843280" y="500040"/>
            <a:ext cx="34956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اثرات خونريزي در بد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152280" y="914400"/>
          <a:ext cx="8839440" cy="5211720"/>
        </p:xfrm>
        <a:graphic>
          <a:graphicData uri="http://schemas.openxmlformats.org/drawingml/2006/table">
            <a:tbl>
              <a:tblPr/>
              <a:tblGrid>
                <a:gridCol w="1914480"/>
                <a:gridCol w="2048040"/>
                <a:gridCol w="2895480"/>
                <a:gridCol w="198144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کلاس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4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بیش از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4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کلاس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3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تا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4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%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کلاس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2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تا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3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%(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130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-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120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کلاس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1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(تا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15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% اتلاف خون)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22820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انقباض جبرانی عروق خودش مشکل ساز و باعث تخریب بیشتر خونرسانی به بافتها و اکسیژن رسانی به سلولها می شو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بار زیادی به مکانیسم های جبران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B.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برون ده قلبی و خونرسانی بافت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تهدید حیات بیم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68000"/>
                        <a:buFont typeface="Wingdings 3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انقباض عروق با اندکی اشک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68000"/>
                        <a:buFont typeface="Wingdings 3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انحراف جریان خون به سمت ارگانهای حیاتی و کاهش جریان خون روده 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جبران بوسیله انقباض عرو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فشار ثاب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57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بیمار بی حال، خواب آلود و س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علائم شوک واضح تر و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B.P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همچنان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می یاب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جریان خون به مغز و سایر ارگانهای حیاتی در نهایت منجر به نارسائی ارگان و مرگ می شو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گیجی و بی قراری بیشتر - مضطر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علائم کلاسیک شو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PR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↑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B.p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RR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سری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اندامها سرد و مرطو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گیج و بی قرار - پوست حالت پریده رنگ - خنک و خش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DBP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↑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یا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↓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- فشار نبض باریک می شو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پاسخ های سمپاتیک باعث افزایش ضربان قلب بیشتر از 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100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- نبض ضعی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تحریک سمپاتیک سرعت تنفس را بالا می بر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پر شدگی مویرگی با تاخی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هوشی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B.P</a:t>
                      </a: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ea typeface="B Nazanin"/>
                        </a:rPr>
                        <a:t> در محدود طبیع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نبض در محدوده طبیعی یا کمی افزای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کیفیت نبض قو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Gill Sans MT"/>
                          <a:cs typeface="B Nazanin"/>
                        </a:rPr>
                        <a:t>سرعت تنفس و عمق آن رنگ پوست و دما همه طبیع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58560" y="549360"/>
            <a:ext cx="8785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3300"/>
                </a:solidFill>
                <a:latin typeface="Arial Black"/>
              </a:rPr>
              <a:t>علايم و نشانه ها</a:t>
            </a:r>
            <a:r>
              <a:rPr b="1" lang="fa-IR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رنگ پريدگي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تشنگي ، ضعف، بي حالي، بي قراري و پرخاشگري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تاكي كاردي و ضعيف شدن نبض هاي محيطي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ea typeface="B Nazanin"/>
              </a:rPr>
              <a:t> تنفس سريع و سطحي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تهوع و استفراغ ، افت فشار خون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احساس سبكي سر، سرگيجه و سردي پوست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Nazanin"/>
              </a:rPr>
              <a:t>وجود علايم خاص خونريزي داخلی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3300"/>
                </a:solidFill>
                <a:latin typeface="Gill Sans MT"/>
                <a:cs typeface="B Nazanin"/>
              </a:rPr>
              <a:t>شکم:حساسيت سفتی يا اتساع شك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3300"/>
                </a:solidFill>
                <a:latin typeface="Gill Sans MT"/>
                <a:cs typeface="B Nazanin"/>
              </a:rPr>
              <a:t>معده و نای:استفراغ خونی و سرفه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3300"/>
                </a:solidFill>
                <a:latin typeface="Gill Sans MT"/>
                <a:cs typeface="B Nazanin"/>
              </a:rPr>
              <a:t>خونریزی از مقعد:مدفوع سياه رنگ يا حاوي خون قرمز روشن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ea typeface="B Nazanin"/>
              </a:rPr>
              <a:t> مشاهده خون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WordArt 3"/>
          <p:cNvSpPr txBox="1"/>
          <p:nvPr/>
        </p:nvSpPr>
        <p:spPr>
          <a:xfrm>
            <a:off x="3924360" y="0"/>
            <a:ext cx="140004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خونريز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ـ شناسايي وضعيت مصدوم و شدت از دست رفتن خون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ـ مهار خونريزي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ـ تميز نگه داشتن زخم و پوشاندن آن با گاز استريل جهت به حداقل رساندن خونريزي و ممانعت از بروز عفونت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</a:rPr>
              <a:t>ـ انتقال مناسب مصدوم به بيمارستان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11280" y="0"/>
            <a:ext cx="41148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اهداف كلي در خونريزي ها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3300"/>
                </a:solidFill>
                <a:latin typeface="Gill Sans MT"/>
              </a:rPr>
              <a:t>چه بايد كرد (خونریزی داخلی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را بررسي كني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- منتظر استفراغ باشيد، اگر مصدوم استفراغ كرد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او را در وضعیت بهبودی قرار دهی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- براي درمان شوك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20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تا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سانتي متر پاهاي مصدوم را بالا ببريد و او را گرم نگه داری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- خيلي سريع به دنبال مراقبت هاي پزشكي باش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در صورت امكان به بيمار اكسيژن داده وبه او هيچ چيز نخورانيد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در اولين فرصت ممكن بيمار را به مركز درماني انتقال دهي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Gill Sans MT"/>
                <a:cs typeface="B Jadid"/>
              </a:rPr>
              <a:t>روشهاي مهار خونريزي </a:t>
            </a:r>
            <a:r>
              <a:rPr b="1" lang="fa-IR" sz="2700" spc="-1" strike="noStrike">
                <a:solidFill>
                  <a:srgbClr val="ff0000"/>
                </a:solidFill>
                <a:latin typeface="Gill Sans MT"/>
                <a:cs typeface="B Jadid"/>
              </a:rPr>
              <a:t>خارج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  <a:ea typeface="B Jadi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 فشار مستقيم بر روي محل خونريزي  </a:t>
            </a:r>
            <a:br>
              <a:rPr sz="2800"/>
            </a:b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.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بالا نگه داشتن عضو آسيب ديده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 فشار بر روي نقاط فشار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 استفاده از تورنيكت يا شريان بند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قطع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شریان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، قطع عضو و يا عدم مهار خونريزي با روشهاي ديگر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4500720" y="1214280"/>
            <a:ext cx="4071960" cy="457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4133880" cy="819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928800" y="0"/>
            <a:ext cx="3564000" cy="13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C:\Documents and Settings\Dear-User\My Documents\My Pictures\66.jpg"/>
          <p:cNvPicPr/>
          <p:nvPr/>
        </p:nvPicPr>
        <p:blipFill>
          <a:blip r:embed="rId4"/>
          <a:stretch/>
        </p:blipFill>
        <p:spPr>
          <a:xfrm>
            <a:off x="428760" y="164304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1071720" y="0"/>
            <a:ext cx="7704000" cy="4870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img/daneshnameh_up/c/c9/pooredBLood.JPG"/>
          <p:cNvPicPr/>
          <p:nvPr/>
        </p:nvPicPr>
        <p:blipFill>
          <a:blip r:embed="rId1"/>
          <a:stretch/>
        </p:blipFill>
        <p:spPr>
          <a:xfrm>
            <a:off x="395280" y="0"/>
            <a:ext cx="7705800" cy="63802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2  Titr"/>
              </a:rPr>
              <a:t>کمک های اولیه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2  Titr"/>
              </a:rPr>
              <a:t>در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2  Titr"/>
              </a:rPr>
              <a:t>خونریزی ها وشوك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2  Titr"/>
              </a:rPr>
              <a:t>تهیه شده توسط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2  Titr"/>
              </a:rPr>
              <a:t>مرکز آموزش بهورزی شبکه بهداشت و درمان خوانسا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59840" cy="1141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img/daneshnameh_up/f/f1/7-35.jpg"/>
          <p:cNvPicPr/>
          <p:nvPr/>
        </p:nvPicPr>
        <p:blipFill>
          <a:blip r:embed="rId2"/>
          <a:stretch/>
        </p:blipFill>
        <p:spPr>
          <a:xfrm>
            <a:off x="3059280" y="1413000"/>
            <a:ext cx="336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7892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سرعت عمل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داشته باشيد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خونسردي خود را حفظ كنيد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علايم حياتي را كنترل كنيد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مصدوم را به پشت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در وضعیت راحت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بخوابانيد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خونريزي را كنترل كني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مصدوم را گرم نگه داريد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اندام زخمي را بي حركت كنيد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لباس مصدوم را شل كنيد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در صورت بروز شوك، پاهاي مصدوم را بالا نگه داريد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3880" indent="-51444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به غیر از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خونريزي سر و گرد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573120" y="212760"/>
            <a:ext cx="822960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جهت بررسي وضعيت جريان خون اعضاء از لمس نبض و گرمي هر اندام و همچنين معاينه پر شدن مويرگي ناخن ه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  <a:ea typeface="B Nazani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Gill Sans MT"/>
                <a:ea typeface="B Nazanin"/>
              </a:rPr>
              <a:t>Capillary Nail Test - Blanch Test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) استفاده كني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از كندن و تميز كردن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لخته خون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خودداري كني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هرگز اشيائي مانند چاقو، تكه هاي شيشه و... را از زخم خارج نكنيد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در اين شرايط، از يك دستمال و يا باند حلقه شده به نام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  <a:ea typeface="B Nazanin"/>
              </a:rPr>
              <a:t> تــامپون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استفاده كني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Gill Sans MT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مصدوم را به مركز درماني انتقال دهي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طبق آمار به طور تقريبي يك نفر از هر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نفر دست كم يكبار سابقه خونريزي شديد از بيني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دارن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شايعترين محل خونريزي در اطفال و بالغين جوان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( </a:t>
            </a:r>
            <a:r>
              <a:rPr b="0" lang="ar-SA" sz="2800" spc="-1" strike="noStrike">
                <a:solidFill>
                  <a:srgbClr val="ff3300"/>
                </a:solidFill>
                <a:latin typeface="Gill Sans MT"/>
                <a:cs typeface="2  Elham"/>
              </a:rPr>
              <a:t>ناحيه كيسلباخ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Elham"/>
              </a:rPr>
              <a:t>kisselbakh</a:t>
            </a:r>
            <a:r>
              <a:rPr b="0" lang="ar-SA" sz="2800" spc="-1" strike="noStrike">
                <a:solidFill>
                  <a:srgbClr val="ff3300"/>
                </a:solidFill>
                <a:latin typeface="Gill Sans MT"/>
                <a:ea typeface="2  Elham"/>
              </a:rPr>
              <a:t> يا ليتل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Elham"/>
              </a:rPr>
              <a:t>little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  <a:ea typeface="2  Elham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خونریزی خلفی بینی در افراد مسن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Gill Sans MT"/>
              </a:rPr>
              <a:t>شايعترين علت خونريزي بيني ضربه يا تروما است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عوامل موضعي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عوامل سيستميك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بد شكلي‌هاي ساختماني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درمان كل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حفظ خونسردي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قرار دادن مصدوم در حالت نشسته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فشارقسمت جلوی بینی با دهان باز بمدت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دقیق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پنبه يا دستمال در بيني نگذار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ی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د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قرار دادن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كمپرس‌هاي سرد پشت گردن و همچنين پشت بيني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پايين آوردن فشار خو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قطع داروهاي ضد انعقاد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ستفاده از قطره كلرورسديم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بعد از قطع خونریز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- اجتناب از دستكاري داخل بيني و استفاده از پماد مناسب بر روي تيغه بيني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درمان موضع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كوتر كردن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utery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امپوناد قدامي و خلفي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5"/>
          <p:cNvSpPr txBox="1"/>
          <p:nvPr/>
        </p:nvSpPr>
        <p:spPr>
          <a:xfrm>
            <a:off x="2514600" y="3200400"/>
            <a:ext cx="4800600" cy="84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hock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3300"/>
                </a:solidFill>
                <a:latin typeface="Gill Sans MT"/>
              </a:rPr>
              <a:t>شوك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Gill Sans MT"/>
                <a:cs typeface="2  Titr"/>
              </a:rPr>
              <a:t>شوک یا هیپوپرفیوژن، خون رسانی ناکافی به بافتها می باشد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Gill Sans MT"/>
                <a:ea typeface="2  Titr"/>
              </a:rPr>
              <a:t> شوک، عدم توانایی سیستم گردش خون در تامین نیاز های متابولیک بافت ها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Gill Sans MT"/>
                <a:ea typeface="2  Titr"/>
              </a:rPr>
              <a:t> بدن و دفع مواد زاید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4" descr="12-1-1"/>
          <p:cNvPicPr/>
          <p:nvPr/>
        </p:nvPicPr>
        <p:blipFill>
          <a:blip r:embed="rId1"/>
          <a:stretch/>
        </p:blipFill>
        <p:spPr>
          <a:xfrm>
            <a:off x="324000" y="692280"/>
            <a:ext cx="2057400" cy="5040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NSH01"/>
          <p:cNvPicPr/>
          <p:nvPr/>
        </p:nvPicPr>
        <p:blipFill>
          <a:blip r:embed="rId2"/>
          <a:stretch/>
        </p:blipFill>
        <p:spPr>
          <a:xfrm>
            <a:off x="4140360" y="270828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just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66ff"/>
                </a:solidFill>
                <a:latin typeface="Gill Sans MT"/>
                <a:cs typeface="2  Titr"/>
              </a:rPr>
              <a:t>شوک با شرایط زیر ایجاد می شود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1</a:t>
            </a: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- قلب نتواند عمل پمپاژ را به خوبی انجام دهد. 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  <a:ea typeface="2  Titr"/>
              </a:rPr>
              <a:t>(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شوک کاردیوژنیک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2</a:t>
            </a: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- حجم خون از دست برود. 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  <a:ea typeface="2  Titr"/>
              </a:rPr>
              <a:t>(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هموراژی وهیپوولمیک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3</a:t>
            </a:r>
            <a:r>
              <a:rPr b="0" lang="fa-IR" sz="2400" spc="-1" strike="noStrike">
                <a:solidFill>
                  <a:srgbClr val="0066ff"/>
                </a:solidFill>
                <a:latin typeface="Gill Sans MT"/>
                <a:ea typeface="2  Titr"/>
              </a:rPr>
              <a:t>- عروق خونی متسع شود. </a:t>
            </a: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(وازوژنیک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الف- شوک ناشی از غش یا سنکو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ب- شوک آنافیلاکتیک وعفون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ج- نخاع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WordArt 4"/>
          <p:cNvSpPr txBox="1"/>
          <p:nvPr/>
        </p:nvSpPr>
        <p:spPr>
          <a:xfrm>
            <a:off x="4067280" y="620640"/>
            <a:ext cx="237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علل شو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2438280" cy="11458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ff3300"/>
                </a:solidFill>
                <a:latin typeface="Gill Sans MT"/>
                <a:cs typeface="2  Titr"/>
              </a:rPr>
              <a:t>شدت شوک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0066ff"/>
                </a:solidFill>
                <a:latin typeface="Gill Sans MT"/>
                <a:ea typeface="2  Titr"/>
              </a:rPr>
              <a:t>1</a:t>
            </a:r>
            <a:r>
              <a:rPr b="1" lang="fa-IR" sz="2300" spc="-1" strike="noStrike">
                <a:solidFill>
                  <a:srgbClr val="ff3300"/>
                </a:solidFill>
                <a:latin typeface="Gill Sans MT"/>
                <a:ea typeface="2  Titr"/>
              </a:rPr>
              <a:t>- شوک جبران شده: </a:t>
            </a:r>
            <a:r>
              <a:rPr b="1" lang="fa-IR" sz="2300" spc="-1" strike="noStrike">
                <a:solidFill>
                  <a:srgbClr val="0066ff"/>
                </a:solidFill>
                <a:latin typeface="Gill Sans MT"/>
                <a:cs typeface="2  Titr"/>
              </a:rPr>
              <a:t>بدن حس کرده و می خواهد آن را جبران کند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0066ff"/>
                </a:solidFill>
                <a:latin typeface="Gill Sans MT"/>
                <a:ea typeface="2  Titr"/>
              </a:rPr>
              <a:t>2</a:t>
            </a:r>
            <a:r>
              <a:rPr b="1" lang="fa-IR" sz="2300" spc="-1" strike="noStrike">
                <a:solidFill>
                  <a:srgbClr val="ff3300"/>
                </a:solidFill>
                <a:latin typeface="Gill Sans MT"/>
                <a:ea typeface="2  Titr"/>
              </a:rPr>
              <a:t>- شوک جبران نشده:</a:t>
            </a:r>
            <a:r>
              <a:rPr b="1" lang="fa-IR" sz="2300" spc="-1" strike="noStrike">
                <a:solidFill>
                  <a:srgbClr val="0066ff"/>
                </a:solidFill>
                <a:latin typeface="Gill Sans MT"/>
                <a:ea typeface="2  Titr"/>
              </a:rPr>
              <a:t> بدن قادر به جبران حجم اندک خون یا کاهش خونرسانی نیست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300" spc="-1" strike="noStrike">
                <a:solidFill>
                  <a:srgbClr val="0066ff"/>
                </a:solidFill>
                <a:latin typeface="Gill Sans MT"/>
                <a:ea typeface="2  Titr"/>
              </a:rPr>
              <a:t>3</a:t>
            </a:r>
            <a:r>
              <a:rPr b="1" lang="fa-IR" sz="2300" spc="-1" strike="noStrike">
                <a:solidFill>
                  <a:srgbClr val="ff3300"/>
                </a:solidFill>
                <a:latin typeface="Gill Sans MT"/>
                <a:ea typeface="2  Titr"/>
              </a:rPr>
              <a:t>- شوک غیر قابل بازگشت: </a:t>
            </a:r>
            <a:r>
              <a:rPr b="1" lang="fa-IR" sz="2300" spc="-1" strike="noStrike">
                <a:solidFill>
                  <a:srgbClr val="0066ff"/>
                </a:solidFill>
                <a:latin typeface="Gill Sans MT"/>
                <a:cs typeface="2  Titr"/>
              </a:rPr>
              <a:t>ضایعات سلولی بویژه در کبد و کلیه فوت مصدوم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4" descr="CNHBCC03"/>
          <p:cNvPicPr/>
          <p:nvPr/>
        </p:nvPicPr>
        <p:blipFill>
          <a:blip r:embed="rId2"/>
          <a:stretch/>
        </p:blipFill>
        <p:spPr>
          <a:xfrm>
            <a:off x="2771640" y="4149720"/>
            <a:ext cx="388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فراگیران بتوانند انواع خونریزی و علل آن را توضیح ده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2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- فراگیران بتوانند علائم و نشانه های خونریزی را بیان کن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3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– فراگیران بتوانند روشهای مهار خونریزی را تشریح کن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4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- فراگیران بتوانند شوک و انواع آن را تعریف کن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5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- فراگیران بتوانندعلائم و نشانه های شوک را به تفکیک توضیح ده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1015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6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- فراگیران بتوانند اقدامات اولیه در انواع شوک را تشریح کنن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414520" y="476280"/>
            <a:ext cx="4187880" cy="11444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66ff"/>
                </a:solidFill>
                <a:latin typeface="Gill Sans MT"/>
                <a:cs typeface="2  Titr"/>
              </a:rPr>
              <a:t>مرحله اول: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افزایش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p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↑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(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↑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HR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)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، 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-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RR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↑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 اضطراب و تر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66ff"/>
                </a:solidFill>
                <a:latin typeface="Gill Sans MT"/>
                <a:cs typeface="2  Titr"/>
              </a:rPr>
              <a:t>مرحله دوم: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رنگ پریدگی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.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نبض سریع وضعیف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.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تنفس مشکل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.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ضعف وتشنگی و گاهی تهو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66ff"/>
                </a:solidFill>
                <a:latin typeface="Gill Sans MT"/>
                <a:cs typeface="2  Titr"/>
              </a:rPr>
              <a:t>مرحله سوم :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cs typeface="2  Titr"/>
              </a:rPr>
              <a:t>کاهش سطح هوشیاری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↓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B.p</a:t>
            </a:r>
            <a:r>
              <a:rPr b="0" lang="en-US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  <a:ea typeface="2  Titr"/>
              </a:rPr>
              <a:t>  نبض وتنفس ضعی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Line 4"/>
          <p:cNvSpPr/>
          <p:nvPr/>
        </p:nvSpPr>
        <p:spPr>
          <a:xfrm flipH="1">
            <a:off x="4876920" y="2819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143480" cy="4714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2"/>
          <a:stretch/>
        </p:blipFill>
        <p:spPr>
          <a:xfrm>
            <a:off x="5429160" y="428760"/>
            <a:ext cx="2905200" cy="828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"/>
          <p:cNvPicPr/>
          <p:nvPr/>
        </p:nvPicPr>
        <p:blipFill>
          <a:blip r:embed="rId3"/>
          <a:stretch/>
        </p:blipFill>
        <p:spPr>
          <a:xfrm>
            <a:off x="1000080" y="285840"/>
            <a:ext cx="4429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78920" y="184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شایعترین :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شوک هیپوولمیک </a:t>
            </a:r>
            <a:r>
              <a:rPr b="0" lang="ar-SA" sz="2000" spc="-1" strike="noStrike">
                <a:solidFill>
                  <a:srgbClr val="ff3300"/>
                </a:solidFill>
                <a:latin typeface="Gill Sans MT"/>
              </a:rPr>
              <a:t>(</a:t>
            </a:r>
            <a:r>
              <a:rPr b="0" lang="en-US" sz="2000" spc="-1" strike="noStrike">
                <a:solidFill>
                  <a:srgbClr val="ff3300"/>
                </a:solidFill>
                <a:latin typeface="Gill Sans MT"/>
              </a:rPr>
              <a:t>Hypovolemic</a:t>
            </a:r>
            <a:r>
              <a:rPr b="0" lang="ar-SA" sz="2000" spc="-1" strike="noStrike">
                <a:solidFill>
                  <a:srgbClr val="ff3300"/>
                </a:solidFill>
                <a:latin typeface="Gill Sans MT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یا شوک ناشی از کاهش حجم خون است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60%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وزن بدن را مايعات تشكيل مي دهد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10%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اين حجم با مكانيسم هاي جبراني، جبران مي شود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25-20%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كاهش يابد،  شوك هيپوولميك رخ مي دهد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e2d700"/>
                </a:solidFill>
                <a:latin typeface="Gill Sans MT"/>
              </a:rPr>
              <a:t>(</a:t>
            </a: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Gill Sans MT"/>
                <a:hlinkClick r:id="rId1"/>
              </a:rPr>
              <a:t>خونریزیهای خارجی و داخلی</a:t>
            </a:r>
            <a:r>
              <a:rPr b="0" i="1" lang="fa-IR" sz="2400" spc="-1" strike="noStrike">
                <a:solidFill>
                  <a:srgbClr val="e2d7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پلاسما ( سوختگیهای وسیع و ... 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در اکثر موارد </a:t>
            </a:r>
            <a:r>
              <a:rPr b="0" i="1" lang="fa-IR" sz="2400" spc="-1" strike="noStrike">
                <a:solidFill>
                  <a:srgbClr val="e2d700"/>
                </a:solidFill>
                <a:latin typeface="Gill Sans MT"/>
              </a:rPr>
              <a:t>علت</a:t>
            </a: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</a:t>
            </a:r>
            <a:r>
              <a:rPr b="0" lang="ar-SA" sz="2400" spc="-1" strike="noStrike" u="sng">
                <a:solidFill>
                  <a:srgbClr val="e2d700"/>
                </a:solidFill>
                <a:uFillTx/>
                <a:latin typeface="Gill Sans MT"/>
                <a:hlinkClick r:id="rId2"/>
              </a:rPr>
              <a:t>خونریزی</a:t>
            </a: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است </a:t>
            </a:r>
            <a:r>
              <a:rPr b="0" i="1" lang="fa-IR" sz="2400" spc="-1" strike="noStrike">
                <a:solidFill>
                  <a:srgbClr val="e2d700"/>
                </a:solidFill>
                <a:latin typeface="Gill Sans MT"/>
              </a:rPr>
              <a:t>.(</a:t>
            </a: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شوک هموراژیک </a:t>
            </a:r>
            <a:r>
              <a:rPr b="0" i="1" lang="fa-IR" sz="2400" spc="-1" strike="noStrike">
                <a:solidFill>
                  <a:srgbClr val="e2d700"/>
                </a:solidFill>
                <a:latin typeface="Gill Sans MT"/>
              </a:rPr>
              <a:t>)</a:t>
            </a:r>
            <a:r>
              <a:rPr b="0" i="1" lang="ar-SA" sz="2400" spc="-1" strike="noStrike">
                <a:solidFill>
                  <a:srgbClr val="e2d7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a-I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WordArt 3"/>
          <p:cNvSpPr txBox="1"/>
          <p:nvPr/>
        </p:nvSpPr>
        <p:spPr>
          <a:xfrm>
            <a:off x="5076720" y="404640"/>
            <a:ext cx="2800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 </a:t>
            </a: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شوك هيپوولميك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3300"/>
                </a:solidFill>
                <a:latin typeface="Gill Sans MT"/>
              </a:rPr>
              <a:t>خونریزی خارجی و داخل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3300"/>
                </a:solidFill>
                <a:latin typeface="Gill Sans MT"/>
              </a:rPr>
              <a:t>کنترل خونریزی خارجی با فشار مستقیم و..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خوابانیدن مصدوم وبالاتر قراردادن پاها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مصدوم راحفظ کنی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شخص را گرم نگه داریم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مطمئن شوید مصدوم چیزی نخورد و نیاشام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دادن آرامش به مصدوم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دادن اکسیژن به محض دسترس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کنترل علائم حیاتی هر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دقیق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فراهم کردن انتقال مصدوم 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به مراکز درمانی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3300"/>
                </a:solidFill>
                <a:latin typeface="Gill Sans MT"/>
              </a:rPr>
              <a:t>جايگزين كردن مايع و خون: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بر قرارکردن دو خط وریدی  سرم رينگر لاكتات و محلول نرمال سالين (سوختگی ها و..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145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در صورتي كه شوك ناشي از خونريزي باشد از فراورده هاي خون  همينطور كلوئيدها استفاده می شو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CNREAD02"/>
          <p:cNvPicPr/>
          <p:nvPr/>
        </p:nvPicPr>
        <p:blipFill>
          <a:blip r:embed="rId2"/>
          <a:stretch/>
        </p:blipFill>
        <p:spPr>
          <a:xfrm>
            <a:off x="539640" y="177336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59920"/>
            <a:ext cx="8785440" cy="547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3300"/>
                </a:solidFill>
                <a:latin typeface="Gill Sans MT"/>
              </a:rPr>
              <a:t>2</a:t>
            </a:r>
            <a:r>
              <a:rPr b="1" lang="fa-IR" sz="2700" spc="-1" strike="noStrike">
                <a:solidFill>
                  <a:srgbClr val="ff3300"/>
                </a:solidFill>
                <a:latin typeface="Gill Sans MT"/>
              </a:rPr>
              <a:t>-  شوك ناشي از تغيير قطر عروق(وازوژنيك)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سرخرگها و سیاهرگهای بدن ، می‌توانند در پاسخ به تاثیرات هورمونی (شیمیایی) و عصبی قطر خود را تغییر دهند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3300"/>
                </a:solidFill>
                <a:latin typeface="Gill Sans MT"/>
              </a:rPr>
              <a:t>شوك عصبي (نوروژنيك)  :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بر اثر آسيب هاي نخاعي، ضربه محكم به ستون فقرات يا سر و ايجاد درد و درك آن توسط سيستم عصبي و نهايتاً گشاد شدن ناگهاني عروق و سقوط شديد فشار خون، ايجاد مي شو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3300"/>
                </a:solidFill>
                <a:latin typeface="Gill Sans MT"/>
              </a:rPr>
              <a:t>شوك رواني (سايكوژنيك):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به علت اختلال موقت و گذراي خون رساني به مغز براي چند لحظه ايجاد مي شو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 خبر ناگهاني، خستگي مفرط، ايستادن طولاني و..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علايم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ديدن نقاط نوراني (سياهي و تاريكي چشم ها) سرگيجه-بيهوشي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8" name="Picture 4" descr="CNFRCH02"/>
          <p:cNvPicPr/>
          <p:nvPr/>
        </p:nvPicPr>
        <p:blipFill>
          <a:blip r:embed="rId1"/>
          <a:stretch/>
        </p:blipFill>
        <p:spPr>
          <a:xfrm>
            <a:off x="4500720" y="46530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45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00"/>
                </a:solidFill>
                <a:latin typeface="Gill Sans MT"/>
              </a:rPr>
              <a:t>كمك هاي اوليه در شوک عصبی: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شخص را از زمين خوردن محافظت كني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زير پاي او را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تا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سانتي متر بالا آورده و بگذاريد اكسيژن به راحتي به او برسد واز شلوغی اطراف مصدوم جلوگیری کنی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امكان دارد اين بي هوشي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5</a:t>
            </a: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دقيقه طول بكشد اگر بيشتر از اين زمان بود حتماً ارزيابي اوليه را انجام دهيد و به مراكز درماني انتقال دهي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3300"/>
                </a:solidFill>
                <a:latin typeface="Gill Sans MT"/>
              </a:rPr>
              <a:t>نبايد به صورت مصدوم سيلي بزنيد و تا هوشياري كامل مايعات به وي نمي دهيم و به صورتش آب نمي پاشي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Gill Sans MT"/>
              </a:rPr>
              <a:t> وظيفه اين دستگاه انتقال مواد غذائي واكسيژن به سلولهاي بدن وهمچنين انتقال مواد دفعي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Gill Sans MT"/>
              </a:rPr>
              <a:t>ودي اكسيد كربن سلولها به اندامهاي دفعي مي باشد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قلب  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  رگها   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Gill Sans MT"/>
              </a:rPr>
              <a:t>  خون</a:t>
            </a:r>
            <a:r>
              <a:rPr b="1" lang="ar-SA" sz="2400" spc="-1" strike="noStrike">
                <a:solidFill>
                  <a:srgbClr val="ff3300"/>
                </a:solidFill>
                <a:latin typeface="Gill Sans M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3" descr="heart-1"/>
          <p:cNvPicPr/>
          <p:nvPr/>
        </p:nvPicPr>
        <p:blipFill>
          <a:blip r:embed="rId2"/>
          <a:stretch/>
        </p:blipFill>
        <p:spPr>
          <a:xfrm>
            <a:off x="1835280" y="2468520"/>
            <a:ext cx="3671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شايع ترين و مهم ترين شوك وازوژنيك است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مرگ و مير در شوك عفوني پيشرفته 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</a:rPr>
              <a:t>(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</a:rPr>
              <a:t>50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</a:rPr>
              <a:t>%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 به دليل كاهش شديد </a:t>
            </a:r>
            <a:r>
              <a:rPr b="0" lang="fa-IR" sz="2800" spc="-1" strike="noStrike">
                <a:solidFill>
                  <a:srgbClr val="ff3300"/>
                </a:solidFill>
                <a:latin typeface="Gill Sans MT"/>
              </a:rPr>
              <a:t>فشار خون و نارسايي چند عض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اتفاق مي افت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9900"/>
                </a:solidFill>
                <a:latin typeface="Gill Sans MT"/>
              </a:rPr>
              <a:t>كمك هاي اوليه: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ارزيابي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C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را انجام دهی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عامل شوك را مشخص کنی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مصدوم را به مراكز درماني انتقال دهي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179280" y="260280"/>
            <a:ext cx="896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3300"/>
                </a:solidFill>
                <a:latin typeface="Gill Sans MT"/>
              </a:rPr>
              <a:t>آنافيلاكتیک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 واكنش بسيار شديد به مواد خوراكي يا تزريقي در عرض چند دقيقه و گاه چند ثانيه را شوک  آنافيلاكتیک گويند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3300"/>
                </a:solidFill>
                <a:latin typeface="Gill Sans MT"/>
              </a:rPr>
              <a:t>علل شناخته شده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داروها(پني سيلين و داروهاي مشابه، آسپرين، سولفوناميدها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غذاها و چاشني ها(صدف، آجيل، تخم مرغ،و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گزش حشرات(زنبور عسل،و...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گرده گياها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رنگ هاي راديوگرافي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0560" y="18900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1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سطح هوشیاری: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سر گیجه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بیقراری غش وبیهوشی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2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تنفس: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تنگي نفس و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خس‌خس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و فشردگي قفسه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سین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3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نبض: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تند و ضعیف و یا کاملاً نامحسو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4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فشار خون :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 ابتدا بالا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سپس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کاهش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می 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یابد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5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صورت: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زبان و صورت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مت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ورم ، لبها کبود شده اطراف زبان و دهان بی‌رنگ می‌شوند.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 و با</a:t>
            </a: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احساس تنگي نفس، سفتي و ورم گلو و عطسه، و سرفه همراه است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6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استفراغ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: </a:t>
            </a:r>
            <a:r>
              <a:rPr b="0" lang="fa-IR" sz="2400" spc="-1" strike="noStrike">
                <a:solidFill>
                  <a:srgbClr val="000000"/>
                </a:solidFill>
                <a:latin typeface="Gill Sans MT"/>
              </a:rPr>
              <a:t>تهوع دل درد و یا اسها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7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</a:rPr>
              <a:t>-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تورم مچ پا و مچ دست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3780000" y="260280"/>
            <a:ext cx="327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علائم شوک حساسیتی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0" y="17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3300"/>
                </a:solidFill>
                <a:latin typeface="Gill Sans MT"/>
              </a:rPr>
              <a:t>درمان شوک </a:t>
            </a:r>
            <a:r>
              <a:rPr b="0" lang="fa-IR" sz="2700" spc="-1" strike="noStrike">
                <a:solidFill>
                  <a:srgbClr val="ff3300"/>
                </a:solidFill>
                <a:latin typeface="Gill Sans MT"/>
              </a:rPr>
              <a:t>آنافیلاکتیک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قبل از هر چیز 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</a:rPr>
              <a:t>عامل حساس</a:t>
            </a:r>
            <a:r>
              <a:rPr b="0" lang="fa-IR" sz="2700" spc="-1" strike="noStrike">
                <a:solidFill>
                  <a:srgbClr val="ff3300"/>
                </a:solidFill>
                <a:latin typeface="Gill Sans MT"/>
              </a:rPr>
              <a:t>ی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</a:rPr>
              <a:t>ت‌زا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باید شناخته شده و تماس با آن قطع شود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اقدامات اولیه شامل 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PR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ودادن 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اکسیژن (با غلظت بالا)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اقدام به درمان شوک نمایی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مصدوم را فوراً به مراکز پزشکی برسانید اگر مصدوم بیهوش نیست، او را به حالت طاق باز و یا به پهلو بخوابانید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در صورت آگاهی از ماده آلرژی‌زا و یا علت حساسیت (مثلاً نیش حشرات و غیره ) به کادر پزشکی نیز اطلاع دهید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6" name="Picture 4" descr="CNFRSF04"/>
          <p:cNvPicPr/>
          <p:nvPr/>
        </p:nvPicPr>
        <p:blipFill>
          <a:blip r:embed="rId1"/>
          <a:stretch/>
        </p:blipFill>
        <p:spPr>
          <a:xfrm>
            <a:off x="324000" y="414972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5056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از مصدوم بپرسید که آیا به ماده خاصی حساسیت دارد یا خی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- تزریق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آمپول اپی نفرین که حدود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۰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۰۱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g/kg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و حداکثر تا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۰.۳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میلیگرم به صورت زیر جلدی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کلرفنیرامین </a:t>
            </a: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ورید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داروهای گشاد کننده راههای هوایی مثل آمینوفیلی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داروهای تعدیل کننده سیستم ایمنی مثل هیدرو کورتیزون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</a:rPr>
              <a:t>تزریق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سرم رینگرلاکتات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79280" y="549000"/>
            <a:ext cx="896472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fa-IR" sz="3200" spc="-1" strike="noStrike">
                <a:solidFill>
                  <a:srgbClr val="ff3300"/>
                </a:solidFill>
                <a:latin typeface="Gill Sans MT"/>
              </a:rPr>
              <a:t>3</a:t>
            </a:r>
            <a:r>
              <a:rPr b="1" lang="fa-IR" sz="3200" spc="-1" strike="noStrike">
                <a:solidFill>
                  <a:srgbClr val="ff3300"/>
                </a:solidFill>
                <a:latin typeface="Gill Sans MT"/>
              </a:rPr>
              <a:t>- شوك كارديوژني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شوک قلبی معمولاً در اثر صدمه به قلب ، 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Gill Sans MT"/>
              </a:rPr>
              <a:t>حمله قلبی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و سایر بیماریهای قلبی ایجاد می‌شود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خوابانیدن مصدوم اگر نفس کشیدن مشکل باشد در حالت نشسته قرار دهی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اقدامات عمومی در شوک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BC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مصدوم را برقرارکنید و در صورت لزوم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PR</a:t>
            </a: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انجام دهی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Gill Sans MT"/>
              </a:rPr>
              <a:t>رفع علت شوک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3300"/>
                </a:solidFill>
                <a:latin typeface="Gill Sans MT"/>
              </a:rPr>
              <a:t>کنترل </a:t>
            </a:r>
            <a:r>
              <a:rPr b="0" lang="ar-SA" sz="2000" spc="-1" strike="noStrike">
                <a:solidFill>
                  <a:srgbClr val="ff3300"/>
                </a:solidFill>
                <a:latin typeface="Gill Sans MT"/>
              </a:rPr>
              <a:t>فشار خون بالا </a:t>
            </a:r>
            <a:r>
              <a:rPr b="0" lang="fa-IR" sz="2000" spc="-1" strike="noStrike">
                <a:solidFill>
                  <a:srgbClr val="ff3300"/>
                </a:solidFill>
                <a:latin typeface="Gill Sans MT"/>
              </a:rPr>
              <a:t>و </a:t>
            </a:r>
            <a:r>
              <a:rPr b="0" lang="ar-SA" sz="2000" spc="-1" strike="noStrike">
                <a:solidFill>
                  <a:srgbClr val="ff3300"/>
                </a:solidFill>
                <a:latin typeface="Gill Sans MT"/>
              </a:rPr>
              <a:t>فشار خون پایین </a:t>
            </a: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ar-SA" sz="2000" spc="-1" strike="noStrike">
                <a:solidFill>
                  <a:srgbClr val="ff3300"/>
                </a:solidFill>
                <a:latin typeface="Gill Sans MT"/>
              </a:rPr>
              <a:t>نکته:استفاده از بعضی از داروها </a:t>
            </a:r>
            <a:r>
              <a:rPr b="1" lang="fa-IR" sz="2000" spc="-1" strike="noStrike">
                <a:solidFill>
                  <a:srgbClr val="ff3300"/>
                </a:solidFill>
                <a:latin typeface="Gill Sans MT"/>
              </a:rPr>
              <a:t>مثل آدرنالین</a:t>
            </a:r>
            <a:r>
              <a:rPr b="1" lang="ar-SA" sz="2000" spc="-1" strike="noStrike">
                <a:solidFill>
                  <a:srgbClr val="ff3300"/>
                </a:solidFill>
                <a:latin typeface="Gill Sans MT"/>
              </a:rPr>
              <a:t> باید با گذراندن دوره ان صورت گیرد در غیر اینصورت امدادگر مجاز نمی باشد</a:t>
            </a:r>
            <a:r>
              <a:rPr b="1" lang="fa-IR" sz="2000" spc="-1" strike="noStrike">
                <a:solidFill>
                  <a:srgbClr val="ff33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3" descr="HeartBeat[1]"/>
          <p:cNvPicPr/>
          <p:nvPr/>
        </p:nvPicPr>
        <p:blipFill>
          <a:blip r:embed="rId1"/>
          <a:stretch/>
        </p:blipFill>
        <p:spPr>
          <a:xfrm>
            <a:off x="179280" y="2781360"/>
            <a:ext cx="26640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0680"/>
            <a:ext cx="822960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r" rtl="1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2  Titr"/>
              </a:rPr>
              <a:t>منابع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451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کتاب امدادگر اورژانس – مرکز مدیریت حوادث و فوریت های پزشک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4516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کمک های اولیه (مجموعه کتب آموزش بهورزی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85840" y="278604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ff3300"/>
                </a:solidFill>
                <a:latin typeface="Gill Sans MT"/>
              </a:rPr>
              <a:t>خونريزي يعني خارج شدن خون از درون عروق خوني كه در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ff3300"/>
                </a:solidFill>
                <a:latin typeface="Gill Sans MT"/>
              </a:rPr>
              <a:t>نتيجه ي جراحت و بريدگي اتفاق مي افت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WordArt 6"/>
          <p:cNvSpPr txBox="1"/>
          <p:nvPr/>
        </p:nvSpPr>
        <p:spPr>
          <a:xfrm>
            <a:off x="4714920" y="1428840"/>
            <a:ext cx="261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EE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Gill Sans MT"/>
              </a:rPr>
              <a:t> انواع خونریزیها بر اساس رگ آسیب دیده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3300"/>
                </a:solidFill>
                <a:latin typeface="Gill Sans MT"/>
              </a:rPr>
              <a:t>     خونريزي مويرگي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3300"/>
                </a:solidFill>
                <a:latin typeface="Gill Sans MT"/>
              </a:rPr>
              <a:t>خونريزي وريدي</a:t>
            </a:r>
            <a:r>
              <a:rPr b="0" lang="fa-IR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3300"/>
                </a:solidFill>
                <a:latin typeface="Gill Sans MT"/>
              </a:rPr>
              <a:t>     خونريزي شرياني</a:t>
            </a:r>
            <a:r>
              <a:rPr b="0" lang="fa-IR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Dear-User\My Documents\My Pictures\انواع خونريزي.jpg"/>
          <p:cNvPicPr/>
          <p:nvPr/>
        </p:nvPicPr>
        <p:blipFill>
          <a:blip r:embed="rId1"/>
          <a:stretch/>
        </p:blipFill>
        <p:spPr>
          <a:xfrm>
            <a:off x="596880" y="1063800"/>
            <a:ext cx="795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0" y="171360"/>
            <a:ext cx="8686800" cy="12495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  <a:ea typeface="B Nazanin"/>
              </a:rPr>
              <a:t>1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  <a:ea typeface="B Nazanin"/>
              </a:rPr>
              <a:t>) خونريزي داخلي: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خون از درون عروق خارج شده، </a:t>
            </a:r>
            <a:r>
              <a:rPr b="0" lang="fa-IR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و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درون حفرات بدن مثل شكم، قفسه سينه، جمجمه و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…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مي ريزد با چشم نمي توان ديد و تشخيص آن مشكل است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ff3300"/>
                </a:solidFill>
                <a:latin typeface="Gill Sans MT"/>
                <a:ea typeface="B Nazanin"/>
              </a:rPr>
              <a:t> 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  <a:ea typeface="B Nazanin"/>
              </a:rPr>
              <a:t>2</a:t>
            </a:r>
            <a:r>
              <a:rPr b="0" lang="ar-SA" sz="2700" spc="-1" strike="noStrike">
                <a:solidFill>
                  <a:srgbClr val="ff3300"/>
                </a:solidFill>
                <a:latin typeface="Gill Sans MT"/>
                <a:ea typeface="B Nazanin"/>
              </a:rPr>
              <a:t>) خونريزي خارجي:</a:t>
            </a:r>
            <a:r>
              <a:rPr b="0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خون از بدن خارج شده و بيرون مي ريزد و غالبا نتيجه ي بريدگي، جراحت جنگي و شكستگيهاي باز استخوان ها ايجاد مي شود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3300"/>
                </a:solidFill>
                <a:latin typeface="Gill Sans MT"/>
              </a:rPr>
              <a:t>خونريزي خارجي </a:t>
            </a:r>
            <a:r>
              <a:rPr b="1" lang="fa-IR" sz="2700" spc="-1" strike="noStrike">
                <a:solidFill>
                  <a:srgbClr val="ff3300"/>
                </a:solidFill>
                <a:latin typeface="Gill Sans MT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آسيبهاي ناشي از تصادفات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ضربه ها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يدگي با آلات برند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صدمات جنگي در اثر گلوله و تركش و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…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3300"/>
                </a:solidFill>
                <a:latin typeface="Gill Sans MT"/>
              </a:rPr>
              <a:t>خونريزي داخلي </a:t>
            </a:r>
            <a:r>
              <a:rPr b="0" lang="fa-IR" sz="2700" spc="-1" strike="noStrike">
                <a:solidFill>
                  <a:srgbClr val="ff3300"/>
                </a:solidFill>
                <a:latin typeface="Gill Sans MT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آسيب و ضربه در اثر تصادفات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ضربه ها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cs typeface="B Nazanin"/>
              </a:rPr>
              <a:t>وارد شدن گلوله به درون احشاء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 algn="r" rtl="1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 برخي بيماريهاي خاص مثل </a:t>
            </a:r>
            <a:r>
              <a:rPr b="1" lang="fa-IR" sz="2700" spc="-1" strike="noStrike">
                <a:solidFill>
                  <a:srgbClr val="000000"/>
                </a:solidFill>
                <a:latin typeface="Gill Sans MT"/>
                <a:ea typeface="B Nazani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B Nazanin"/>
              </a:rPr>
              <a:t>خونريزي گوارشي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-228600" algn="r" rtl="1"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B Nazanin"/>
              </a:rPr>
              <a:t>اختلالات انعقادي اكتسابي و ارثي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3" marL="1143000" indent="0" algn="r" rtl="1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1:56:13Z</dcterms:created>
  <dc:creator>javadi</dc:creator>
  <dc:description/>
  <cp:keywords>فوریت های پزشکی، خونریزی و شوک</cp:keywords>
  <dc:language>en-US</dc:language>
  <cp:lastModifiedBy>Windows User</cp:lastModifiedBy>
  <dcterms:modified xsi:type="dcterms:W3CDTF">2023-08-17T04:36:22Z</dcterms:modified>
  <cp:revision>274</cp:revision>
  <dc:subject>خونریزی و شوک</dc:subject>
  <dc:title>کمک های اولیه  در خونریزی و شوک</dc:title>
</cp:coreProperties>
</file>