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dt" idx="10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 type="ftr" idx="11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 type="sldNum" idx="11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850-EAF3-4321-A83F-5B9726601026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2F4-E0D4-40D2-BA4B-473536AD0B78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E52-6FB7-4F1A-84CF-F1EFC484AAA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AB36-21A4-4DCE-A5BF-99804AD0DEB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427-5E66-4B37-8879-23CC6DE245D0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F6B-F2F2-4B1B-96DF-D2134DC11FD8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96E2-6E57-4D51-A231-90B26DED6E38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3A6C-D639-4EFE-8791-504B6F1DD3F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what do you make of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B4B2-443F-486F-8F62-80CA69CD77F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9FE3-6C69-4363-94D7-E8DC99D80AEF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898A-483A-4F64-89D7-ACAC37BBBB7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A00-66C2-4C33-B5B3-25F7821980D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206-8FCB-4153-A193-7F96D0EA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AED-74F7-4D61-9D3F-51B7747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7427B-627B-4F6D-8D7F-4C6E7A58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DB0C-DD37-434B-B51A-1FB32E08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1B7FC-483F-4CDE-9118-2E9D61E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BCE7C-E31B-4823-8D82-ACD1149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CC09D-8C18-406A-B5D7-1E0F237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C39CB-8955-4105-B880-80FBC75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721A5-4294-4160-A8BF-7634732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77B49-5683-42D6-86E6-2D22B416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72017-CFBF-4D19-91EF-6F96B9AA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76A89-615F-4BFC-A370-F856B927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083-C8A6-400D-AC0D-D580E4E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22847-F4FE-4A07-8761-FA6CF386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58F1B-11E5-4E8E-97DA-80299F8F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5200-181F-4D62-A19D-9C3352E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03788-DBBE-4FE0-B6F2-F9D4B42F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72DC-5F9A-4F69-ACA7-6CE72872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27EFD-721E-43D6-9105-0E5B7B1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5D2CC-79CE-437F-881E-B6DA5BB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B3487-355B-4FB4-8778-B73A0D6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44E39-DE9C-484C-95E5-BB47CEE2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7E7C4-92A8-41BF-9390-09025E26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1CC-D185-4C0A-9E5A-3D94D98E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BCC92-EB09-4EFB-A9E3-B7ABAF1F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6B9A83-97E4-4841-9D4F-7DB90101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E819F6-B058-4E6A-95BA-AAE4A0A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BEDF3-6367-4740-9585-D488E90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123A5B-3B04-4E87-A447-3901CE1E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4C729-2FCB-46D3-A512-7550085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0C58E1-3298-4098-BADE-7F7023F3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05B046-B370-42BB-A0E3-9D31EEB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5AF273-5CA0-4216-B885-0BC90EF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76A707-99A8-455A-A39B-28F12B9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F14C-4AD0-4408-BEB8-F423E1F8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BD9728-A0DC-46DE-A106-FC1A7A2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8ED20C-702A-4730-897D-4ADF0CBC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114437-A205-44F1-9F29-7ED254A5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872F5-653C-41E4-822D-664E29C6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0CA39-1CCC-45E5-B372-474E9E6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31941-91FB-41D2-AF62-C3464D94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71981-BD03-4605-AFC6-082D805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51CBC-84BF-429E-8F05-E0F5400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A11B6-CE48-44AC-9DFC-C6751F9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49F76-5FEB-4D50-87EA-108BDFC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22B-E315-4D1A-BD07-2A1DDBA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7CD58-8C38-4733-BA27-FD264E0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468D0-4076-4F8B-B238-F86E5D2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F8C5D-1052-4C4C-9C32-A54DBF1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47F48-CD6E-4CA8-B671-6B77A934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56CDE-2F70-4E2E-B6E2-EDB8D0A1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23896-2521-4B6A-BB89-24FD48E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7C58C-8D8D-4AC9-9687-38226100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EE2CE-BDC2-4A95-9FC0-157771C1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E1B39-860E-4584-B630-4342B7AA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4AF0B-7E02-4A5E-98A3-6CB6CEE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F064-8169-412C-A83E-1CAB2C8F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04C5D-F0F8-422E-8F23-C6F06803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722E3-F679-4AB1-BA4A-CDC2979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AE716-35EC-4B0E-953D-8E86DF9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2EA40-4662-4A4A-9189-BB6F48F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5FB95-E7C1-49C5-9D9D-020B327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508E6-16EA-497F-9B1C-505BB4BA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8BED8-B98B-4CE0-945E-B0B09525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900396-E73F-44F0-9FE9-A19D2E02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94550D-126D-47B5-BE9B-C5A1246D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5D0DD1-49CB-4FE9-87E3-D6D30174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B89-AA6B-40FD-8EDC-076AF67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998629-D0F1-4B8C-ABB1-99FBCB4A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FF4AF8-01EF-42F0-BAF2-23A7AE4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21E56B-8A63-460E-8365-8B783790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5985EF-3545-4EA4-9F6A-3DBB8E5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13DB96-8CDB-44B6-AFC1-C4F1A6D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BC0FDB-8A58-48CD-B537-3EEB8F9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52A3AB-69CC-49A3-862E-EF4F04A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D36AFE-69ED-418B-AEA1-213A1AE2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604011-7498-4D8A-A00D-952A56B0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36309-2264-4DCF-BFE3-C6AE054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CB7-01E1-40A3-9860-1F320BA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ED547-2A9E-4130-BDD0-942BE6BB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86753-825C-4A0E-AF29-6E1F722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E0A23-3202-4ACD-8F5D-533BF877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86B33-9D33-4405-8BD1-99B108B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74BBF-8191-4CC9-9E60-1901AF8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85E73-3B83-4C8C-A696-2DFA4FA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30569-6B81-414E-ACFB-39A1CAF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C5FDC-3BF0-4A2A-874C-DBBB7D6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EABD2-DC9D-416A-99C5-0C91CCBB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9D1CC-C94A-4907-93E7-135BEA4E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502D-7714-4EB2-A2BC-D1B2D99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60189-526E-4C0C-AC05-1801A24D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DED77-A065-400D-A8C8-7066F0BF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0B409-AC02-45A6-9E4F-3B085DF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1E61B-3D9E-41F9-A8B1-E70BBAB4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86D55-E7E7-4C45-B28C-BE434F0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34B2E-9766-451D-99EF-B0A5A803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EAF0F-561C-4FE8-BB3B-8A67948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066EF-572C-4E3A-984F-69978572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588B2-BE84-4B75-9DBA-3EEF164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2C7A5-7582-4B38-81B9-EE96981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44F-1FC8-45EF-B2DB-6BF3FD9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A45D1-4093-43FA-A5FD-B7F6358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A4103-7BA3-46C4-A800-B80FA1BB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5A8531-E192-465E-B068-60F1A7CE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2D2BE-B7D5-403F-8E55-68FFC3A3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40C32-BB44-4176-87EF-EA7FFAA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A191F-23B1-4D2C-B818-F9857154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019C8-B32F-4074-8BD9-F216FD6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991C5E-E870-4FB7-9B5A-277FFC06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E8A96-3899-4A92-B1A3-6CB4363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D4476-3344-4573-8F07-E5A8AF9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208-3116-4268-8765-42DC8AE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593-EEDE-4BA3-8740-3FB60F8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4CAB8-4620-4F5A-AD83-CB25F59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E46E8-A6D3-40A1-AE8F-7664672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558D9-5CCF-4BFD-B701-8ECF632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B6E60-3C8C-4070-881E-6C550908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CE48B-AD6D-4F99-B959-BAFA197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56278-52E9-418C-99DB-AD752AEC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90CD5-84F8-47C2-898C-DADE0B5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555B3-79E4-469E-BE0A-484209C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BC9CE-781C-490F-BB83-FB8B441D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31B48-8CAE-4215-8C3B-7B29D5E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558-28A2-4968-A3FD-7D618D4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51D8E-7EDE-429F-B5D7-831C4CE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C0135-A92A-462A-9CA9-CE84B02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6D673-8E13-401D-A4A5-C4D0529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822B4-F486-4996-B276-B6136B5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4CDF6-A0E6-4C3E-9EF9-5540710A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DDD7E-9C8D-46EB-98E0-62C61515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3E266-993D-4D1D-9319-B652B4F9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EB593-691F-4E47-A1E0-0020750E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938A5-E1A2-4973-8C83-6BEF4B8F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14ACAA-17D9-4755-AA77-7E47CA6F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2868-10C8-4BF3-964A-7D028C6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4311C-2A15-4AE1-97ED-60E52AE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71D56-376E-4BEE-B23A-F55B83F5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5D744E-52FB-4F39-B7F0-509BB890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E7EE6-1181-4AC0-A85A-1FCCCFC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A2EA8-9AE3-479D-97C9-69F53DA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719084-8471-489A-849B-D783501E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E4DF9-122F-48BE-95ED-3A0E834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84449-EC2F-4706-8D78-981DCEDB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4F761-7243-467C-A321-6A2B4144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7451A-0852-4EEA-ABCF-13C5D572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143-A031-474F-83C2-AFA15634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E5039-07F7-43FF-8204-EA43DAB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40390-58B5-4176-8639-32F7BF9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43DE1-F5A0-41D4-BB83-6E11304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8E6BD-26F0-4B57-82C5-BF8BA31E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57E7A-6352-4C6C-AEE9-2CBAE7CB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8CDAA-AD96-42DB-BAA5-E6FCB33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96779-5044-433D-85A3-C14494F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CF239-0943-4814-A9C6-446A839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B155B-4BF1-4663-9E19-64C28EB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49976-3523-4D84-BEC7-5D520FD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A325-6259-4BA6-BBC8-F981F9B8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7EA74-2E82-44A3-971A-B072524B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D56FA-4297-4D70-9574-E7DE7140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7A3AF-6C13-4178-8815-2A526BA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5CEAF-1FE2-43DC-9107-CB61F691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F63805-8872-4ADD-A4C8-C3BA08D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B9823-FB11-4357-94D7-608A25A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B114E-374F-4745-A1E1-A4D08958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51482C-F5E5-49C5-9A84-EC13645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09CCD-088F-4014-BF19-EC66334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003F3-C5B7-4A1C-B599-F6C78B9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5589-98C9-41E3-ABD3-1EF07CE7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7CCAD9-E9C1-49A0-AC12-E5BE81D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55A78E-FF89-4B34-BD93-0E5BAE84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C7BF9D-21EE-4DD1-99A0-241782C4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393426-F2DB-4F78-83C8-CEB35294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EA76327-5E6F-4D4E-858F-3EFB727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D8F88D-C444-4F7A-84AC-DC2A4E76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F5F1FC-9307-4CCC-BA7F-0793C9B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B84A5B-0315-4CB8-B934-543B405A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E3FA2A-D1E8-44A7-9BBA-EB3F752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E09E9A-AE1C-4971-8F45-CCC0542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B1E3-2AD7-4CC2-922C-7EDB7495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D7262DC-AF5B-4614-B382-EBEA99B9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E14BCB-5768-4925-AAF2-7265D6D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1BEBE0-A63B-4EB6-9592-4E08934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E32EB2-3114-4850-9D93-473796D7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765516-638E-41BC-8388-C18E3674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FFFBFA-78C4-4EEA-B576-FD126513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FF8E5DE-FE62-478C-AEF6-80B6055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75AB4EA-4472-4356-BF9D-192C753A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C3E2F88-9D5D-46EF-B15E-1D947D36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4CD97C-C3D5-41CB-A8F5-3D55E5A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B01D-A343-40C7-AB95-6850A866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1BCF73-52F9-4346-990D-AAF335D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17ABF9-3D7E-4111-9013-83B8C69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C71EF7-853C-4DE3-AAEB-35D74F2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BA6603-BDD4-4493-B1D3-C981583E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64F581-5C5D-4A62-9208-B127E60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2D80242-3237-4EBE-87C3-6857F001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AE29F9-4384-4B98-A737-7B9AD5DD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9270BC-A980-4464-A84C-0FE6AE06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F6A6E0-80D4-4029-9C27-949B2D6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8D584-8286-41C0-BAF9-A3E39DC0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BD42-985D-4633-88D6-B2A37C2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EC589-9F56-4053-AE71-794A8D3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E86A30-D3A9-4A0E-834E-32E5A2F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C723EF-C637-4200-A4BD-63260AE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035996-1BD5-4625-B391-5765348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7EEDD7-DFB0-4F2F-84D2-1422214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EFB14F-7474-476A-AE19-8F0F771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CB8517-C818-400B-8B87-E46630EA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82A06-A78E-4F77-8D45-340160A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4DFB0B-E95F-47B8-BBBC-D072121C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4AD0D0-520F-44B9-AD1E-0AF9F651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0083-ACA2-4224-8C02-432BEA9E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DBCE42D-D89E-47CD-A1DC-DD17949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3C22A4-2405-4FF1-BE0E-4AD88C01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CD8A531-B0F0-4133-B595-B169C43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F1F8572-9AC0-4A0C-8118-E5C8978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599622-BA5B-4600-A44F-01C3B30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8FF619-6B34-4F68-BBE6-3B59594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2A7E63D-38F8-46E0-8A0B-CC9342A6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971E9E0-DFA1-49BE-9014-3533C91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206AC67-08A4-4542-B4E0-644999DE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F16BD5-AF2C-4F2A-860A-3A97ED54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1F4-7637-4EB0-A4B5-FE0886F4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6CF9-7B03-449E-860A-FA4C437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75FBC65-BEB6-450F-9AA8-EDDED493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F493B4-64E9-488F-9986-8DD96887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D0168B-0CB7-4498-9B3D-5F41043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9F8134-5660-47CE-88EC-E515515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121D72-A04F-4D5E-9F81-0F482FF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036587-00D5-4BB4-B9A0-FF54B04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EB14F9-2B08-415A-9227-5F57B7B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1DD475-E59C-4CEC-A739-1861357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568821-7001-4FF5-99E2-6019FA0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408356-8EEF-4C79-B92F-AC81682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1515-6EA9-4529-995F-43F2FF6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E912CC-AA50-4674-AF47-53F8B2DD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05A235-9806-4357-9BAA-2CE2EEC2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92A27C-E549-4D21-B68B-4B1AED72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4E68AA-7EEC-40B8-996B-4D598EC9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AE1695-443E-498B-BFBA-C81B84D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23807-20FF-4799-BC7D-AA3411B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B5E868-C482-4661-AC4D-1A69312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AE47EC-2F0F-4F65-B3C8-D7689581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5A6C03-5B03-4552-92D2-9388569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B7F98F-1246-4228-BE2C-628030F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8F5E-A934-4A7C-93D8-6C4F02A1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B9A913-9B6D-4BC1-A263-C507146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F0EE90-A535-4539-B3BE-C230825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73344A-EA5A-4236-A4B8-34426157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6FCC1B-D06B-436F-B7ED-32236350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EF8EEC-88D3-4CAB-A235-23280AE9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A7A204-5468-4A88-BCF3-78FE45FB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ADEA55-B74F-4310-BE02-052B003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24B92D-F6CE-496F-86E0-14E223DA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B5586E-48A2-4D26-8836-EF2E776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69D0AF-475E-4F72-9684-FFFADB9A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EDCF-07F2-43A5-8D65-75FE659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BED89C-F89D-4F7F-801E-EC59D638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452136-F3DD-42E9-8F64-A98CB49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AD27E7-8B2B-4391-9DCC-3F63262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F2546E-1A16-4E52-82C0-9F0F40C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F68EF4-14B1-4DFD-9B05-A27711C4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CA3F7A-584E-4A31-B436-191C4A2C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6D7A9F-1797-46DE-B482-6B287E65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0E73B4-519F-4601-9591-2510B96D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688E65-6AB0-48F5-B79F-7D0A301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1F7595-9E19-4B78-A672-488C006A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91AF-6819-4509-8961-5171E07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EDCDB4-6EB6-45AB-9A73-C8B5D16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E34FD5-C121-453E-93C7-69746082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07B558-6887-447A-995D-97B6B46E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19FB28-D601-4362-8134-DEA3D5A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F6D7CD-45B5-4557-A3D6-C704C43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60CB9E-1F51-408A-B7AA-C2956E0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EC4717-FE3A-4092-BFF3-81CEAE6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D455E1-43D5-4E69-A895-C7AD5BDF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8549AA-E809-437C-AABD-7B73FA60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8CED66-F982-472D-8C5A-87719F2B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78EE-19E9-4455-9630-5117047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B75F45-6BF9-4FFA-97B0-8D462BE6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215321-922A-46F9-B8C0-FB37DE3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4A7FAD-A94D-4E2A-B8CB-645B1E6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4DB54D-A6AE-4B88-B7AF-7334AE3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8F0B0C-5DD5-4F38-8061-818FA50F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950C2D-6A0A-49ED-87DB-79A479D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1BC0DD-DF21-4473-BB61-65F5225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90A033-EB62-449F-B44B-84AE9E91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EC33EA-F4EA-4EEA-B1D6-DA960C9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0EC2B-7817-433D-BC79-D54736F5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337A-A15A-41D3-B357-29E693EA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E8A82-29D8-4C67-928E-AAB1819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596D5E-9F14-4762-82A9-B78E5ED7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7716B3-A440-4407-9465-401BF577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7DB6AF-4D11-47FE-914F-DD65376E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D2A42C-015D-4FD9-9D34-29E84581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BE5132-2592-42EE-B40A-51949E7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8B6A97-86A7-4A9A-A6EA-B0F3562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F355B1-4DFD-4E77-BE39-D92EC9A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3F088D-5019-4EED-A479-3BB0623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3E72A6-94E3-4562-9A2C-4400C6DD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EDA9-C0B1-43BD-832F-15EE2FB9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ACB3EC-BD22-4A96-9521-7F3C7AD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25377F-061A-479E-84B1-7730BB29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53C745-45AF-4B35-AEB2-64790313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43DD33-0A7E-4156-88B9-E46255DD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102FAD-44C7-4C49-8797-6A839393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C01894-BDEA-4934-97B9-3DB3640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BD8FC2-1524-44B2-BA8C-DB655FFC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6B364-128A-4D2B-8578-29BFA5C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5AB5BD-E592-4ABD-8DDC-63CB2E6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725538-F6A8-40EF-9927-82760A1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F72D-5AD9-40EE-A387-F038621C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188471-B15B-4A67-A70F-4EF71B14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4EF18B-F033-43EF-B6E5-74F7688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9E9ACA-2E4E-44A8-8153-9C24439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F9FE40-F30F-4027-954E-58FE81A8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1AE1F-02A4-4A70-99E3-89188E52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CF56104-7E2D-4BED-9AA8-7A44B53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7A61490-8506-412E-A78A-ABD01278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0E2A2CB-1E9B-4199-90B8-4721D96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071372C-8F91-4EA3-8046-3E4FDDBC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DCEC4D5-1A42-499A-8CAD-47584A0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7755-54A6-44F2-B4C3-931BC3F5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98845A-5A05-420C-92B7-AF13AF5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A8B1DB8-7BDC-4F15-BACC-D77CC08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A9021E2-6DEF-4228-B908-60625A0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314E5A6-87D2-4543-9A11-6CD253F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4F15B66-5A37-48BD-AF88-0A16CF7F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EEE1215-D094-4BEC-9BC5-672EA133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AB959E0-247A-49C8-96BE-BC75BD49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0DFF1AF-6069-420E-9BBB-DAEBE2FC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9FDC39F-B1C0-4B6A-A07E-DAE0A8D4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40D82B5-A8B9-4E70-B7C7-419C45D3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71E-292B-4240-A1B5-2FCAB4C3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46BEC-0F07-4A09-8209-AC23E019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C94E01C-E8DE-4731-B304-4CA51F2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016AF15-1218-427D-9DCB-EBB67B92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AA1B77F-84F7-4DE8-8FA6-4D133E1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B9317AC-5AEF-49FE-98AC-A517737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A7AAD94-C80C-40EB-9D60-203E87E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4DE2DF8-0208-44E1-BF81-6A8C25F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C9F6972-776A-440D-BA36-3D02BC2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67D9942-40D9-4E7E-9003-19BEC5A2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21755C1-38D3-472B-8A09-0545C3D8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0267F2-CD53-41B1-BEA5-6511B3A2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23DF-B593-43B7-9235-51E38A1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008B6A-7CEA-4817-BB4F-BB373025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35C100-4CE6-4DD1-BD43-A6A20E3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B82E5D-57EE-4762-8D40-E8B0A4F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E8C357-9DA4-4778-B86F-F425B82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4B8F2F-688C-4471-8CAB-31F8056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2B35DB-45D2-440A-9F1C-9A161EF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DE33A0-4629-409E-949F-17C8E73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CEA89A-44AA-46AC-B987-BF15C63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6D8F10-7400-46AF-BC9B-5CE2F326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41B33C-A813-47B5-A77C-853066E2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3E30-28D5-4DE3-8689-B53D0EB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BA93FF-DBA6-4D54-8035-4C166C60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5E47E84-4F68-4255-8671-A815C670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1BDC3DF-2F62-4208-A71D-9077740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6CEE48E-0150-418B-97B5-0890301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47634D-AF01-4ADC-9C8A-052FE825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E68D9BE-8A3B-45E2-A0F6-E7BE464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46B6E0B-A6D9-4BD7-B0FD-83E4956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F1B790D-0F1D-4149-8E54-9F3DE1B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04DF00-6ED0-49CD-80BE-2B9821E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5E11C57-F1DC-491A-BCDB-CB64E5D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A7FC-01D1-43C6-88D7-683C89B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0E6EC05-61F9-44C5-8F0F-B68F7D6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8163EE0-12C6-4748-8505-4EAEFB7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225108B-9EE8-41C3-BE37-07DEA1F4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997D-E27E-4E98-A408-DD5F914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535B-41D2-4672-AAB5-15C44CB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3C6A-882F-4223-9A9C-C039C1B6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CA8B-DF0D-4963-A5A8-D467D8B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F8A6-62A7-485B-8295-ED346481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1F0C-1251-4A58-A2B3-6FAFB31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B2E-DC0F-4E69-8392-18A2AEA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4836-7C49-4592-884F-528A921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E488-B6BB-415A-90EE-796E3C05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2DA9-24B4-4178-A112-F7D974D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DD22-D2C3-49C6-AA65-97A158B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7021-E38B-4B92-8F23-9D6DB76D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E251F-8007-4982-B768-D0E059B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BCEC-A924-4F17-9A3F-9CDBCE6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0EA6-DC7F-4A6E-9F95-85634BC0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09B1-459B-47BE-9708-5B42A74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75A5-7A9E-483B-9B7A-B7B0A34F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B74-2946-4BE9-8B9F-BABDFE0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29AF9-329F-48BF-B49D-7ABDB08C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3625-541F-4192-91E4-3C673B53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E708-9530-4CF0-A904-294F645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417B-563D-4BF2-846D-139A5C2A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EF639-6395-4238-ADDF-D24A093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4FFE-A726-4AA3-A3AD-86C3D7D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185FE-D47F-4CEC-9CF3-4D4A6B2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ADF0F-C7F3-468A-96D6-C38DFB0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236A8-C056-4841-B50D-B44C210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21F0-799D-4A1D-8A7B-50558D0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652-EDD8-4BD1-90A6-4BA8108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4DFD6-A02C-441B-ACCD-FFBE92D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0CB4-8BD7-49CF-9025-5863DC58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DE3A-E30C-463C-BEEC-0D98809A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46E8-1E43-483E-8F2A-603DC93B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A993-45BF-4071-97A1-D41996F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AD1D-642E-46A9-9C11-D87C839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007F2-C3AD-4A90-AD17-285EC15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30F9-2955-41F1-BC90-1ADA917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8BB20-CCAA-46A2-A3A8-82F83EB7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3143-6219-4186-9681-A96CEE2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544-B915-4503-A9BB-79D3DBF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1420-7EF8-49A4-B572-76D3631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6AAA-806D-431C-844C-0F2D8EF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C86E-B816-4A07-9E63-7B358865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0A478-825D-4ADE-9C9F-CBCBE99D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CB56E-7838-42CE-AB1E-3B6B277D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949C2-6E92-4C27-A64F-C027B305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AE3A5-8B59-4A77-BE38-99D87861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D578-6A50-4058-9E39-2931337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9415-54FE-4BE9-BFE2-0C21242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B7A96-58EE-40AD-8B4A-D6F17B1E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0F1-01C2-49F7-9545-AAF21E6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72C19-9B4F-48FD-A2BF-8E3F9487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0007-C967-4F3F-A0EB-5A24623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466DC-56DC-48F2-94A0-FF9C503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0B07-3DC9-4531-88DC-2DBFAF3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7D40-FBEA-402F-8850-65E7905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976A-4C61-4134-9660-D5137A2C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1E25-A115-4647-9EBC-C794111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2B44-202E-456A-B700-0F7A4E92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E5B0E-CE4A-448B-BFC8-776E4B2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FBE9-870F-4DD9-BB65-9C4BCBDC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7617-0580-4254-8D63-99E2F320782B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64A-8CBC-4F87-9189-B1198B1887DD}" type="slidenum">
              <a:rPr b="0" lang="nb-NO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20C-1611-4FDB-849C-A25E6A454749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FCC-799D-440C-812B-5BC5AC6B1C07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DF4-4195-4A96-B687-14BE6FFAA8E4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64BF-506B-4D2E-82A9-8351A500023C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1CA-C0A4-4E79-A0D9-EE0C71CB6C77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8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024-8D0E-43F5-8FBF-9B116C3DC5C3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4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2104-FBD0-45B7-8B96-A1C728DA2A92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5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F622-1692-4DBD-9D49-7867B0D76128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BFB-5E7D-40C9-951F-58EC6FA544F1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547-F205-495C-8B3D-34F83B3287AE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1A2-AD6D-4F97-9622-BF08B6B4C25D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6A01-69F7-4EAA-95E8-B2B8AC41D8E8}" type="slidenum">
              <a:rPr b="0" lang="nb-NO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6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207-DED6-4221-A1C7-5AAE89CF87F2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dt" idx="6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6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Num" idx="6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A98-C932-4424-ABC3-39186CA214B6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dt" idx="6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6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7D8D-F141-478C-B647-F18CA117BB7B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Num" idx="7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D70-11DC-4C92-B100-B9803B9AA2D5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dt" idx="7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7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E69F-D58D-40D0-AE2A-7B5081256918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7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B8F-07C7-46E9-A4AB-E414413E5FB0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ftr" idx="8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dt" idx="8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8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E99-5031-4537-9F84-FF8B8DF85043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8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8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8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1CB-E340-4716-AA6E-EBCFD9770EFF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0E9-BA07-4E2B-9F87-CB0D2D77EC51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8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8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9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7CD-1D9E-40FC-B14E-3C8F94FE673E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9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9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9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D8D-79A9-4E0F-BE69-CC4C1AF1A7E7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9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9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9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7ECC-E622-4CA7-9306-DDCD0C19069E}" type="slidenum">
              <a:rPr b="0" lang="nb-NO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9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B3D6-B0AB-4626-B37B-2F92FFF1542F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dt" idx="9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ftr" idx="9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10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DED-D173-4C7A-B3F0-85D0352B45EE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dt" idx="10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ftr" idx="10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0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0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0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0CDE-7B67-4F5B-A459-3CEDFE96460E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sldNum" idx="10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58F7-6432-4B16-8DA4-5DD37FE57F5F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dt" idx="10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ftr" idx="10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318-1757-43AC-B054-ACEFFACA8C4E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488-8ADD-40EE-A4A4-7D7F3A6A15B9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74D-65E0-41AB-B62E-B5FF916DE6C0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ACD-05E8-4BA1-B04E-4236A5DBEA05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DFD-6A1B-40E0-BD4F-AAE9FC4BB44B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EDCB-B920-44AF-81FC-D8CE1B0DA868}" type="slidenum">
              <a:rPr b="0" lang="nb-NO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B Titr"/>
              </a:rPr>
              <a:t>مراحل ارزیابی یک اپیدمی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41" name="Picture 2" descr=""/>
          <p:cNvPicPr/>
          <p:nvPr/>
        </p:nvPicPr>
        <p:blipFill>
          <a:blip r:embed="rId1"/>
          <a:stretch/>
        </p:blipFill>
        <p:spPr>
          <a:xfrm>
            <a:off x="90360" y="1152360"/>
            <a:ext cx="896328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ff0000"/>
                </a:solidFill>
                <a:latin typeface="Georgia"/>
                <a:cs typeface="B Titr"/>
              </a:rPr>
              <a:t>همه گيري پيشرونده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685800" y="171468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40000"/>
              </a:lnSpc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در جامعه اي ايجاد مي‌شود كه افراد آن جامعه نسبت به بيماري مورد نظر ايمن نيستن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در چنين جامعه اي آنقدر بيماران، افراد سالم را مبتلا مي‌كنند كه شمار افراد مستعد، خاتمه يافته و آن ها نيز ايمن گردن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دوره اپيدمي‌خيلي طولان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نتقال يا از شخص به شخص يا از ناقلين بندپا و يا به وسيله مخازن حيواني صورت مي‌گير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4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 txBox="1"/>
          <p:nvPr/>
        </p:nvSpPr>
        <p:spPr>
          <a:xfrm>
            <a:off x="324000" y="162864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چند مثال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همه گيري هپاتيت </a:t>
            </a:r>
            <a:r>
              <a:rPr b="1" lang="en-US" sz="2400" spc="-1" strike="noStrike">
                <a:solidFill>
                  <a:srgbClr val="646b86"/>
                </a:solidFill>
                <a:latin typeface="Georgia"/>
                <a:ea typeface="B Nazanin"/>
              </a:rPr>
              <a:t>A</a:t>
            </a:r>
            <a:r>
              <a:rPr b="1" lang="ar-SA" sz="24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همه گيري فلج اطفال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همه گيري آنفلوآنزا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3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تعیین نوع سندرم و علایم و نشانه های اولی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نظام مراقبت سندرمیک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بیماریهای آندمیک منطق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تفاقات و مراسمات خاص در منطق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فرهنگ عمومی منطق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4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تعریف مورد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B Titr"/>
              </a:rPr>
              <a:t>Case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) و مشخص کردن متغیرهای لازم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تعریف مورد باید بر اساس طغیان مورد نظر باشد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جهت جمع آوری داده و جلوگیری از بایاس لازم است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باید شامل علایم بالینی، زمان و مکان باشد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طبقه بندی بر اساس نوع تعریف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مورد مظنون</a:t>
            </a:r>
            <a:r>
              <a:rPr b="1" lang="en-CA" sz="22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(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SUSPECTED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)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بر اساس يافته هاي باليني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مورد محتمل</a:t>
            </a:r>
            <a:r>
              <a:rPr b="1" lang="en-CA" sz="22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(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PROBABLE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)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ea typeface="B Nazanin"/>
              </a:rPr>
              <a:t> بر اساس داده هاي باليني و پاراكلينيكيِ غير اختصاصي نظير بسياري از تست هاي سرولوژيك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مورد قطعي</a:t>
            </a:r>
            <a:r>
              <a:rPr b="1" lang="en-CA" sz="2200" spc="-1" strike="noStrike">
                <a:solidFill>
                  <a:srgbClr val="646b86"/>
                </a:solidFill>
                <a:latin typeface="Georgia"/>
                <a:ea typeface="B Nazanin"/>
              </a:rPr>
              <a:t> 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(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CONFIRMED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  <a:ea typeface="B Nazanin"/>
              </a:rPr>
              <a:t>) 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بر اساس يافته هاي باليني و آزمايشگاهي و داده</a:t>
            </a:r>
            <a:r>
              <a:rPr b="1" lang="fa-IR" sz="2200" spc="-1" strike="noStrike">
                <a:solidFill>
                  <a:srgbClr val="646b86"/>
                </a:solidFill>
                <a:latin typeface="Georgia"/>
                <a:ea typeface="B Nazanin"/>
              </a:rPr>
              <a:t> های </a:t>
            </a:r>
            <a:r>
              <a:rPr b="1" lang="ar-SA" sz="2200" spc="-1" strike="noStrike">
                <a:solidFill>
                  <a:srgbClr val="646b86"/>
                </a:solidFill>
                <a:latin typeface="Georgia"/>
                <a:cs typeface="B Nazanin"/>
              </a:rPr>
              <a:t>پاراكلينيكيِ قطعي نظير كشت نمونه هــــاي مناسب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r" rtl="1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Georgia"/>
                <a:cs typeface="B Titr"/>
              </a:rPr>
              <a:t>تعریف مورد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شاید لازم باشد در ابتدای اپیدمی، تعریف مورد را وسیعتر درنظر بگیریم تا درک درستی از بیماری پیدا کنیم (حساسیت بیشتر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برای بررسی ارتباط بیماری با مواجهه خاص، بهتر است تعریف مورد را دقیقتر و بسته تر در نظر بگیریم (ویژگی بیشتر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5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تعیین نوع مطالعه برای ارزیابی اپیدم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000000"/>
                </a:solidFill>
                <a:latin typeface="Georgia"/>
                <a:cs typeface="B Nazanin"/>
              </a:rPr>
              <a:t>مطالعه مورد شاهد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000000"/>
                </a:solidFill>
                <a:latin typeface="Georgia"/>
                <a:cs typeface="B Nazanin"/>
              </a:rPr>
              <a:t>مطالعه کوهورت (همگروهی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853" name=""/>
          <p:cNvGraphicFramePr/>
          <p:nvPr/>
        </p:nvGraphicFramePr>
        <p:xfrm>
          <a:off x="539640" y="2708280"/>
          <a:ext cx="8115480" cy="3571920"/>
        </p:xfrm>
        <a:graphic>
          <a:graphicData uri="http://schemas.openxmlformats.org/drawingml/2006/table">
            <a:tbl>
              <a:tblPr/>
              <a:tblGrid>
                <a:gridCol w="2087640"/>
                <a:gridCol w="546120"/>
                <a:gridCol w="2506680"/>
                <a:gridCol w="1508040"/>
                <a:gridCol w="1467000"/>
              </a:tblGrid>
              <a:tr h="438120"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گذشت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ح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آيند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نوع مطالع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جهت مطالع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 gridSpan="3">
                  <a:txBody>
                    <a:bodyPr lIns="40680" rIns="40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کوهور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مواجهه ← پيا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400">
                <a:tc gridSpan="3">
                  <a:txBody>
                    <a:bodyPr lIns="40680" rIns="40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کوهورت تاريخ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مواجهه ← پيا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3">
                  <a:txBody>
                    <a:bodyPr lIns="40680" rIns="40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مورد- شاه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پيامد ← مواجه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40680" rIns="40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B Titr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مقطع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B Titr"/>
                        </a:rPr>
                        <a:t>بدون جه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4" name="Line 3"/>
          <p:cNvSpPr/>
          <p:nvPr/>
        </p:nvSpPr>
        <p:spPr>
          <a:xfrm>
            <a:off x="2971800" y="3573360"/>
            <a:ext cx="2428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2"/>
          <p:cNvSpPr/>
          <p:nvPr/>
        </p:nvSpPr>
        <p:spPr>
          <a:xfrm>
            <a:off x="2114640" y="4430880"/>
            <a:ext cx="3357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1"/>
          <p:cNvSpPr/>
          <p:nvPr/>
        </p:nvSpPr>
        <p:spPr>
          <a:xfrm flipH="1">
            <a:off x="900000" y="5288040"/>
            <a:ext cx="18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Georgia"/>
                <a:cs typeface="B Titr"/>
              </a:rPr>
              <a:t>مطالعه مورد- شاهد (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  <a:ea typeface="B Titr"/>
              </a:rPr>
              <a:t>Case-Control</a:t>
            </a:r>
            <a:r>
              <a:rPr b="1" lang="fa-IR" sz="3200" spc="-1" strike="noStrike">
                <a:solidFill>
                  <a:srgbClr val="ff0000"/>
                </a:solidFill>
                <a:latin typeface="Georgia"/>
                <a:ea typeface="B Titr"/>
              </a:rPr>
              <a:t>)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8" name="Rounded Rectangle 4"/>
          <p:cNvSpPr/>
          <p:nvPr/>
        </p:nvSpPr>
        <p:spPr>
          <a:xfrm>
            <a:off x="6804000" y="1916280"/>
            <a:ext cx="1871640" cy="11523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eorgia"/>
                <a:cs typeface="B Titr"/>
              </a:rPr>
              <a:t>بیم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ounded Rectangle 5"/>
          <p:cNvSpPr/>
          <p:nvPr/>
        </p:nvSpPr>
        <p:spPr>
          <a:xfrm>
            <a:off x="6804000" y="3645000"/>
            <a:ext cx="1871640" cy="11523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eorgia"/>
                <a:cs typeface="B Titr"/>
              </a:rPr>
              <a:t>شاه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0" name="Straight Arrow Connector 7"/>
          <p:cNvCxnSpPr/>
          <p:nvPr/>
        </p:nvCxnSpPr>
        <p:spPr>
          <a:xfrm flipH="1">
            <a:off x="3779640" y="2491920"/>
            <a:ext cx="3024720" cy="108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1861" name="Straight Arrow Connector 8"/>
          <p:cNvCxnSpPr/>
          <p:nvPr/>
        </p:nvCxnSpPr>
        <p:spPr>
          <a:xfrm flipH="1">
            <a:off x="3779640" y="4220640"/>
            <a:ext cx="3024720" cy="1080"/>
          </a:xfrm>
          <a:prstGeom prst="straightConnector1">
            <a:avLst/>
          </a:prstGeom>
          <a:ln w="381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1862" name="Oval 12"/>
          <p:cNvSpPr/>
          <p:nvPr/>
        </p:nvSpPr>
        <p:spPr>
          <a:xfrm>
            <a:off x="684360" y="1989000"/>
            <a:ext cx="3024000" cy="1008360"/>
          </a:xfrm>
          <a:prstGeom prst="ellipse">
            <a:avLst/>
          </a:prstGeom>
          <a:solidFill>
            <a:srgbClr val="8fb08c"/>
          </a:solidFill>
          <a:ln w="11520">
            <a:solidFill>
              <a:srgbClr val="6880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eorgia"/>
                <a:cs typeface="B Titr"/>
              </a:rPr>
              <a:t>وضعیت مواجه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13"/>
          <p:cNvSpPr/>
          <p:nvPr/>
        </p:nvSpPr>
        <p:spPr>
          <a:xfrm>
            <a:off x="684360" y="3716280"/>
            <a:ext cx="3024000" cy="1008000"/>
          </a:xfrm>
          <a:prstGeom prst="ellipse">
            <a:avLst/>
          </a:prstGeom>
          <a:solidFill>
            <a:srgbClr val="8fb08c"/>
          </a:solidFill>
          <a:ln w="11520">
            <a:solidFill>
              <a:srgbClr val="6880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eorgia"/>
                <a:cs typeface="B Titr"/>
              </a:rPr>
              <a:t>وضعیت مواجه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301320" y="58104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6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نمونه گیری های محیطی، جمع آوری و توصیف و تحلیل داده های بیماران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عیین نوع نمونه های محیطی و بالینی (زمان نمونه گیری) مورد نیاز بر اساس نوع سندرم و تشخیصهای احتمال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هیه فرمهای اطلاعاتی عمومی و اختصاص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ea typeface="B Nazanin"/>
              </a:rPr>
              <a:t> انجام مصاحبه و تکمیل فرمها و پرسشنامه ها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eorgia"/>
                <a:cs typeface="B Nazanin"/>
              </a:rPr>
              <a:t>توصیف داده ها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میانگین ها و میانه ها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 algn="r" rtl="1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فراوانی ها و درصد ها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 algn="r" rtl="1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توزیع پراکندگی روی نقشه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 algn="r" rtl="1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646b86"/>
                </a:solidFill>
                <a:latin typeface="Georgia"/>
                <a:cs typeface="B Nazanin"/>
              </a:rPr>
              <a:t>منحنی اپیدمی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 algn="r" rtl="1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7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ایجاد فرضیه و تست آن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بعد از جمع آوري و تجزيه و تحليل داده ها، فرضيات (هيپوتزهاي) خود را تنظيم مي‌كنيم. معمولا در تدوين فرضيّه به دنبال موارد زير هستيم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عامل اتيولوژي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  <a:ea typeface="B Nazanin"/>
              </a:rPr>
              <a:t>Index Case</a:t>
            </a:r>
            <a:r>
              <a:rPr b="1" lang="fa-IR" sz="2400" spc="-1" strike="noStrike">
                <a:solidFill>
                  <a:srgbClr val="646b86"/>
                </a:solidFill>
                <a:latin typeface="Georgia"/>
                <a:ea typeface="B Nazani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نبع و مخزن احتمالي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لگو و راه هاي احتمالي انتشار و انتقال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عوامل محيطي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دوره كمون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دت بيماري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just" rtl="1"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زمينه هاي بروز بيماري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TextBox 1"/>
          <p:cNvSpPr/>
          <p:nvPr/>
        </p:nvSpPr>
        <p:spPr>
          <a:xfrm>
            <a:off x="539640" y="260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Arial"/>
                <a:cs typeface="B Titr"/>
              </a:rPr>
              <a:t>مراحل ارزیابی یک اپیدم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Box 2"/>
          <p:cNvSpPr/>
          <p:nvPr/>
        </p:nvSpPr>
        <p:spPr>
          <a:xfrm>
            <a:off x="250920" y="1197000"/>
            <a:ext cx="856908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آمادگی برای برخورد با طغیا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تایید وقوع رویداد بعنوان یک اپیدمی و رسم منحنی اپیدم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تعیین نوع سندرم و علایم و نشانه های اولی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تعریف مورد (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  <a:ea typeface="B Nazanin"/>
              </a:rPr>
              <a:t>CASE</a:t>
            </a:r>
            <a:r>
              <a:rPr b="1" lang="fa-IR" sz="2000" spc="-1" strike="noStrike">
                <a:solidFill>
                  <a:srgbClr val="646b86"/>
                </a:solidFill>
                <a:latin typeface="Georgia"/>
                <a:ea typeface="B Nazanin"/>
              </a:rPr>
              <a:t>) و مشخص کردن متغیرهای لاز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تعیین نوع مطالعه برای ارزیاب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900" spc="-1" strike="noStrike">
                <a:solidFill>
                  <a:srgbClr val="646b86"/>
                </a:solidFill>
                <a:latin typeface="Georgia"/>
                <a:cs typeface="B Nazanin"/>
              </a:rPr>
              <a:t>نمونه گیری های محیطی، جمع آوری و توصیف و تحلیل داده های بیمارا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ایجاد فرضیه و تست 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اقدام برای حذف منبع و مخزن/مخاز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تهیه گزارش و درسهای آموخ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buClr>
                <a:srgbClr val="646b8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اصلاح فرایندهای مختل منجر به طغی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6429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0000"/>
                </a:solidFill>
                <a:latin typeface="Georgia"/>
                <a:ea typeface="B Titr"/>
              </a:rPr>
              <a:t>8</a:t>
            </a:r>
            <a:r>
              <a:rPr b="1" lang="fa-IR" sz="2700" spc="-1" strike="noStrike">
                <a:solidFill>
                  <a:srgbClr val="ff0000"/>
                </a:solidFill>
                <a:latin typeface="Georgia"/>
                <a:ea typeface="B Titr"/>
              </a:rPr>
              <a:t>-اقدام برای حذف منبع و مخزن/مخازن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9" name="TextBox 1"/>
          <p:cNvSpPr/>
          <p:nvPr/>
        </p:nvSpPr>
        <p:spPr>
          <a:xfrm>
            <a:off x="1403280" y="213372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just" rtl="1">
              <a:lnSpc>
                <a:spcPct val="150000"/>
              </a:lnSpc>
              <a:buClr>
                <a:srgbClr val="646b8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بارزه با منبع و مخ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 rtl="1">
              <a:lnSpc>
                <a:spcPct val="150000"/>
              </a:lnSpc>
              <a:buClr>
                <a:srgbClr val="646b8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قطع زنجيره انتق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 rtl="1">
              <a:lnSpc>
                <a:spcPct val="150000"/>
              </a:lnSpc>
              <a:buClr>
                <a:srgbClr val="646b8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حفظ افراد س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6E30-FBE9-4F56-A6CC-ED386DAA9D9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250920" y="148428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eorgia"/>
                <a:ea typeface="B Nazanin"/>
              </a:rPr>
              <a:t> ا</a:t>
            </a:r>
            <a:r>
              <a:rPr b="1" lang="ar-SA" sz="2400" spc="-1" strike="noStrike">
                <a:solidFill>
                  <a:srgbClr val="000000"/>
                </a:solidFill>
                <a:latin typeface="Georgia"/>
                <a:cs typeface="B Nazanin"/>
              </a:rPr>
              <a:t>قدامات مربوط به حفظ</a:t>
            </a:r>
            <a:r>
              <a:rPr b="1" lang="fa-IR" sz="2400" spc="-1" strike="noStrike">
                <a:solidFill>
                  <a:srgbClr val="000000"/>
                </a:solidFill>
                <a:latin typeface="Georgia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Georgia"/>
                <a:cs typeface="B Nazanin"/>
              </a:rPr>
              <a:t>افراد مستعد عبارتند از:</a:t>
            </a:r>
            <a:r>
              <a:rPr b="1" lang="fa-IR" sz="2400" spc="-1" strike="noStrike">
                <a:solidFill>
                  <a:srgbClr val="000000"/>
                </a:solidFill>
                <a:latin typeface="Georgia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آموزش، حفاظت فردي، واكسيناسيون، پيشگيري دارويي، بهسازي محيط، محدود نمودن حركت جمعيت (در صورت امكان و لزوم) و بهبود وضع تغذيه. پس از بررسي همه گيري، براي مبارزه با آن ممكن است مواردي از اقدامات فوق را به كار ببري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eorgia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Georgia"/>
                <a:cs typeface="B Nazanin"/>
              </a:rPr>
              <a:t>چه موقع همه</a:t>
            </a:r>
            <a:r>
              <a:rPr b="1" lang="fa-IR" sz="2400" spc="-1" strike="noStrike">
                <a:solidFill>
                  <a:srgbClr val="000000"/>
                </a:solidFill>
                <a:latin typeface="Georgia"/>
                <a:ea typeface="B Nazanin"/>
              </a:rPr>
              <a:t>‌</a:t>
            </a:r>
            <a:r>
              <a:rPr b="1" lang="ar-SA" sz="2400" spc="-1" strike="noStrike">
                <a:solidFill>
                  <a:srgbClr val="000000"/>
                </a:solidFill>
                <a:latin typeface="Georgia"/>
                <a:cs typeface="B Nazanin"/>
              </a:rPr>
              <a:t>گيري را خاتمه يافته تلقي كنيم؟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وقتي دو دوره كمون از بيماري بگذرد و مورد ديگري اتفاق نيفت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9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تهیه گزارش و درسهای آموخت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گزارش شامل موارد زیر باشد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قدمه(زمینه و اهداف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واد و روش ها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یافته ها(نتایج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بحث و نتیجه گیر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درس آموخته ها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10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اصلاح فرایندهای مختل منجر به طغیان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همترین اقدام بعد از کنترل یک اپیدمی، درس گرفتن از اپیدمی است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صلاح فرایندهای مختل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صلاح ساختا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فرصت برای آموزش و آمادگی بیشتر برای آیند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فرصت برای ایجاد هماهنگی بیشستر درون و بین بخش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1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آمادگی برای برخورد با طغیانها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291600" y="2060280"/>
            <a:ext cx="850428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شکیل تیمهای واکنش سریع، ارزیابی سریع و ارزیابی اپیدمی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آموزش تیمهای مورد نظ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جهیز تیمهای مورد نظر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شکیل شبکه آزمایشگاهی مورد نیا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نجام مانور و .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2</a:t>
            </a:r>
            <a:r>
              <a:rPr b="1" lang="fa-IR" sz="2800" spc="-1" strike="noStrike">
                <a:solidFill>
                  <a:srgbClr val="ff0000"/>
                </a:solidFill>
                <a:latin typeface="Arial"/>
                <a:ea typeface="B Titr"/>
              </a:rPr>
              <a:t>- تایید وقوع رویداد بعنوان یک اپیدمی و رسم منحنی اپیدم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298080" y="1989000"/>
            <a:ext cx="850428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شخیص آزمایشگا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فزایش یک سندرم یا علایم/نشانه های خا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499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646b86"/>
                </a:solidFill>
                <a:latin typeface="Georgia"/>
                <a:cs typeface="B Nazanin"/>
              </a:rPr>
              <a:t>بررسی روندهای سالهای اخیر، گزارشات سایر استانها یا کشورها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Content Placeholder 3" descr="Screen Clipping"/>
          <p:cNvPicPr/>
          <p:nvPr/>
        </p:nvPicPr>
        <p:blipFill>
          <a:blip r:embed="rId1"/>
          <a:srcRect l="3406" t="1622" r="2274" b="4224"/>
          <a:stretch/>
        </p:blipFill>
        <p:spPr>
          <a:xfrm>
            <a:off x="395280" y="333360"/>
            <a:ext cx="8137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0000"/>
                </a:solidFill>
                <a:latin typeface="Georgia"/>
                <a:cs typeface="B Titr"/>
              </a:rPr>
              <a:t>ويژگي هاي همه گيري تك منبعي لحظه اي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B Titr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4" name=""/>
          <p:cNvSpPr txBox="1"/>
          <p:nvPr/>
        </p:nvSpPr>
        <p:spPr>
          <a:xfrm>
            <a:off x="468000" y="177336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ز يك محل و منبع شروع مي‌شو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بروز ناگهاني دارد و موارد بيماري بطور همزمان بروز مي‌كنن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تعداد موارد سريعا افزايش و كاهش مي‌ياب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نحني همه گيري يك موج داشته و امواج ثانوي ندارد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طول مدت همه گيري به اندازه يك دوره كمون بيماري مربوطه است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4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 txBox="1"/>
          <p:nvPr/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چند مثال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سموميت هاي غذايي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بتلاء به هپاتيت از مصرف يك نوع نوشابه در يك جشن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همه گيري ناشي از عفونت كامپيلوباكتريايي با منشاء شيرآلوده در يك مدرسه شبانه روزي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نشت گاز در بوپال هندوستان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7" name="Picture 2" descr=""/>
          <p:cNvPicPr/>
          <p:nvPr/>
        </p:nvPicPr>
        <p:blipFill>
          <a:blip r:embed="rId1"/>
          <a:stretch/>
        </p:blipFill>
        <p:spPr>
          <a:xfrm>
            <a:off x="71280" y="785880"/>
            <a:ext cx="87156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ff0000"/>
                </a:solidFill>
                <a:latin typeface="Georgia"/>
                <a:cs typeface="B Titr"/>
              </a:rPr>
              <a:t>همه گيري تك منبعي مداو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428760" y="1743120"/>
            <a:ext cx="812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حدود به يك محل نيست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شروع تدريجي و بروز غيرهمزمان موارد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نحني همه گيري داراي پیکهای ثانوي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طول مدت همه گيري بيش از يك دوره كمون بيماري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مانند: </a:t>
            </a: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آلودگي يك چاه آب</a:t>
            </a:r>
            <a:r>
              <a:rPr b="1" lang="fa-IR" sz="2400" spc="-1" strike="noStrike">
                <a:solidFill>
                  <a:srgbClr val="646b86"/>
                </a:solidFill>
                <a:latin typeface="Georgia"/>
                <a:cs typeface="B Nazanin"/>
              </a:rPr>
              <a:t>، </a:t>
            </a:r>
            <a:r>
              <a:rPr b="1" lang="ar-SA" sz="2400" spc="-1" strike="noStrike">
                <a:solidFill>
                  <a:srgbClr val="646b86"/>
                </a:solidFill>
                <a:latin typeface="Georgia"/>
                <a:cs typeface="B Nazanin"/>
              </a:rPr>
              <a:t>انتقال بيماري از يك فرد ناقل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4:08:39Z</dcterms:created>
  <dc:creator>PRAA</dc:creator>
  <dc:description/>
  <dc:language>en-US</dc:language>
  <cp:lastModifiedBy>A.R.I</cp:lastModifiedBy>
  <cp:lastPrinted>2002-11-28T09:45:08Z</cp:lastPrinted>
  <dcterms:modified xsi:type="dcterms:W3CDTF">2023-07-20T06:35:59Z</dcterms:modified>
  <cp:revision>292</cp:revision>
  <dc:subject/>
  <dc:title>Smittevernet i EU, inkludert et europeisk overvåkingssen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5NN7CDR5NKU2-415-45</vt:lpwstr>
  </property>
  <property fmtid="{D5CDD505-2E9C-101B-9397-08002B2CF9AE}" pid="3" name="_dlc_DocIdItemGuid">
    <vt:lpwstr>8993295e-d80d-4382-bc4f-fd29113f0a73</vt:lpwstr>
  </property>
  <property fmtid="{D5CDD505-2E9C-101B-9397-08002B2CF9AE}" pid="4" name="_dlc_DocIdUrl">
    <vt:lpwstr>http://www.health.gov.ir/mfdc/wbd/_layouts/DocIdRedir.aspx?ID=5NN7CDR5NKU2-415-45, 5NN7CDR5NKU2-415-45</vt:lpwstr>
  </property>
</Properties>
</file>