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580-2864-40A5-820B-3B14454B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DF9-4390-487E-BC29-A0B27536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A22ED-903E-4406-BAB6-2BA8914E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5FF05-F596-4E92-AB81-91A3DCF4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1FB92-D4DF-4716-AA78-D8E7A4C8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D7083-58A8-4F8E-A6D0-F7201A87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74DEF-5DA6-4548-B127-90CE43D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EF406-DFFF-4BD8-843B-30D6A0E6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BC5ED-5214-4C53-8B8D-2C51F73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2976A-89F4-4461-ABB9-9BE51D86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AD90F-90FA-4838-8046-80468CCB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8B3E5-0B11-4007-9ED2-D36F2C53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0B5-8651-4807-B696-959F1F54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59386-D4BF-466F-AC25-3CAFDA1F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1DF33-CE04-456B-8E0E-847873F8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EA7F8-8058-4135-9D0C-02FEA190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E257F-E208-44FB-B24F-A05A3F0C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A5B33-691B-4B94-8AAC-A464DED3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C21CB-088D-4C90-949A-F4E73F91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E245B-86CF-4777-B2CC-743DBA4B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43577-379F-4EE4-92D3-C5042181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1F471-0C7A-4B6A-84FC-AAF6A820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C951D-383F-4B4B-8FC3-1FECD97A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64C-72FD-48F2-8B40-1555BD26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CE0DB-BD52-4AE9-9623-307E66CF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223E7-5AE6-4ECB-953B-4632E436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D84E7-7ED1-42B8-87FC-55243D44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F5B4B-F30C-48FF-9144-83C9ADE7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F6A73-26D1-4297-B3C6-38CBEEFA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ACDB4-B569-4418-87E6-7508EE78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BFD26-A11D-4FE8-A640-AA2E7855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C80CB-9DD2-476B-BEE8-D78BBA7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6D906-C882-4603-A201-DCED0208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DED52-4164-42B9-9B4B-C41583B9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03AC-AEFF-4F26-9EBF-87A9AA44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4A179-A1AD-4F16-A18D-91CEE1F9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319AA-CB3B-41C2-8445-08A17E37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B97EB-C1D4-4EC8-87D4-A981667D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98B0D-645D-46E1-91E5-EF637883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87382-AC12-47F2-B8DB-6F2F7F01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95F02-761F-4997-BF2B-A8E9A00D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646BB-B2CD-4C43-AFA7-DE4B93FD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A78B0-4B08-4B1C-8C64-7E32EB18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A488A-8711-4788-A249-49550BDF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172A2-0AB2-4585-BFEA-E14AD58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24FF-AC5C-4E1A-9CA0-7859FAF5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C8DD7-458B-4D31-8347-EE129B9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17F6E-0B08-4E7A-B59A-EAB0F4F0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1D3B6-D367-4393-BB2A-2F2FE3F7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E74C5-2662-4725-9530-8ED23B69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3671F-C988-4460-9DAE-EF716A78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B7062-2A9F-4E60-82CD-8AAF97E7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3DD82-12A1-4EBA-B4DF-EC8AE28E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41BFB-C683-4007-B578-35D5C0CB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E6C4D-93F4-4BF8-8542-4A66216F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B9517-0F84-4BC1-A41C-BE948F4D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0A3A-6111-47AA-86FA-E0572BDE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FFF97-AD25-4A2C-A03F-98E9B3D2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F8BB5-AE6A-4C16-83EE-B1C8F540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6750C-4E9C-4D9A-B5A8-4ADAFF33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ACD6A-96B5-4FDC-BCC8-B5FAA0F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5E7B2-62A8-479E-9E57-3E6ADFA9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32F85-B1EE-4613-A5B5-0F30A7B1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D5CF1-F23C-425B-B353-21CD73B9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750D6-2B8E-4A6A-9B4B-B7B1D4DC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E054D-940B-4046-A159-13667894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3E6FA-6F4C-4893-A856-48AE5435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E68D-63CE-4DA5-B691-C9A41DBF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4C718-5E31-4D9C-AB39-2E4F7623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C1F91-E7F2-4544-9D83-A6A61CFA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8CC59-1D34-4FF8-9A7F-5D1A0428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C8D50-1FBF-4145-BB85-D2E1514C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6ACDC-9C6B-4803-8F84-C9E64891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AC2B8-1727-42C3-9FB5-229F1BB9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8F28C-68CE-49F7-8898-F809A49C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2FD63-716D-4DE9-9938-C3E20C90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0B868-301E-4AC7-8749-6D9D0EE1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415B-03D9-432A-A9F2-220E3AA9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B572-DB20-497B-979B-DE9DE1F6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6895-D704-4C1B-A886-6B4D4BE4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C2C-F545-4EDB-B75C-3AE1C779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9799-C852-464E-9BFD-FA128463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1E3B-9C79-43FC-98CB-F4B67F0D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7CC3-1D7A-4789-AD92-1C6C0E76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3410-384C-4106-9439-7E1CCD3D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C9F1-5320-4EE1-AC76-6FC8EB5C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8479-190E-47AF-A895-A9C419FF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52E1-F372-4E68-A543-F6718F8E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4946-3A50-4A47-A45F-8BC8C5BA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78B91-0464-487D-B0F4-F9CA5536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BD81-99A9-472B-A4C7-772DB6E3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2C6-647D-4692-9BC3-3BFFF93B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4990-56C9-4401-8ED8-B1F90733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7F75-8B2C-4611-9394-CCDAE909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12F9-9A0D-4AE3-AB90-81961B07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A343-6B50-4324-85DB-30800F0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2A06-F2F4-45C9-8919-093D1EE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5236-C1FA-4EAB-86C2-3F9B751A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3CC7-58D6-4D16-9469-18676FB3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5B408-FB85-4E85-B1F8-BF1BA5C9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14A83-324E-4155-AFDE-57A88E1A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02E8-E5BC-45EF-AD95-50084CFC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969-5F9D-4AFC-AF09-90187E9D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BBA5-5A33-438C-B980-38A8B77A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C34EF-EF1F-4311-88A8-21068561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8556-2092-4B7F-B545-6F99A0E9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E248-E76B-4D58-B2C0-9B5BD5B1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32DB-2CAF-4D1F-BA57-441E0B4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624C0-14EC-4250-8323-968FADD9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0097E-4A31-4697-9E8A-ED22C69E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DE8A3-CC98-4481-A187-0AFE8117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1A2E3-C6F6-41ED-AE39-F5495474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B9EE7-ADC6-4A26-89D9-1B0BAD90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BA2-C691-4B9D-9F73-9D73ECE2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36B0E-B244-4A67-9ADA-4B52B834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EB4D0-A4D7-4980-8D28-45BF5B58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7976F-1018-4D01-8888-402FB551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15C1F-3832-4671-9BE8-EA4E1C26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AC0AE-37DB-45AE-A40A-F9AA7C8A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BF58-F979-41FF-A5DA-63010691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D3881-3EB9-46A9-8B03-35A4C8FA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FB55-E0FB-4CAD-8595-E13564E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7CBB-B091-42F4-B8B5-BD945470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B25B1-BAC0-43D0-BC54-AD9F4DCA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B11-093A-496A-8AA7-DFDDDAC9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E9FBE-0A78-45EC-8FC2-C4168AD9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FC23-8F6D-48C1-AFA1-AEC1EEE7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79E60-AFE8-4B4A-B07F-EDA2641B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111F5-2D44-4B1E-AEAF-7BA92312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AF18B-A555-4320-B776-F016FFE9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34947-E840-4EE0-80BB-9209D988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B50C0-F62C-4E98-8C59-598394BA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1335A-2449-429A-9518-F13738E5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F26B-6A44-4C80-A63F-5B8B7B9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AC258-BE39-4480-8EFE-2FBA6DB3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2EE-BA73-4FAB-86CD-3FD4C534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2F81B-A9A8-432A-9903-F1BDB625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B5054-0C80-4820-BCB0-66C45C2F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FA271-FE67-4E23-AE45-F0AE4D62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A242C-58E7-419C-88EF-15DF378C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E7285-E133-455A-8529-4401A6C3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6505A-9300-4901-BAE5-195015D7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1B8A8-7E11-4F2A-BD1D-AA2D480E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2535-8630-489F-A81E-452927B0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985C3-AB6C-4374-984B-57D207BE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21854-1A4A-4A48-8BEE-1BE13FC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617-17F2-400F-A564-0A78F9E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3682E-E5C6-43CF-85A5-EF2E59D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6F801-272E-4297-BFE7-E16A5C66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53A12-6F29-441A-B0AB-E128FD2B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7FD93-68A3-48E4-BBBD-32B74645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C5D5-A090-4D55-9718-875EE659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F26D9-D4C2-41AE-968F-279CC6B4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0410-3270-40FE-B54C-E04A7E80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2268E-6DBD-4B1A-9680-ED29AD50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27BBD-0ED3-4E66-A3D5-A60FEFA6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D630F-8DE6-4309-930A-6887C037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CE4-67F4-4A1E-A297-37E39E68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6A560-82CE-408C-A016-7128CC7C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76FED-226F-4FB9-BD19-9792549C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D310A-DB6C-4D12-87D9-0B9FDC0A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4C74D-4A27-4AF1-BF60-832413F9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0EBD4-09B2-48AC-9E87-B27E882E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4E0C0-2B0A-4122-AFBA-393959E3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2B331-A619-4F2A-B093-6CC90210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7574F-8388-44E6-BEC9-68EFD8C9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03902-6DD3-4B7F-BDCB-01A4967D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B8D78-1ED8-42C3-B340-7F949AC2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7DEE-ACB8-4EB1-AAA2-65B44DA7DD31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B589-BC61-406D-B94E-FA018FEF528B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D975-FE77-4C86-9F7A-D67880A69C70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2F6E-7ED2-4E7B-9D27-ABFA2750880D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E92C-D4A6-42EB-86FA-EF8BBEE6AD96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06EA-E247-45FB-9FE3-635F45EAF77B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007C-A22D-4A0D-95B0-55E7084E8298}" type="slidenum">
              <a:rPr b="0" lang="ar-SA" sz="1200" spc="-1" strike="noStrike">
                <a:solidFill>
                  <a:srgbClr val="d1eaee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2850-5C95-42B0-9E94-4AD0939D9100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EC77-F264-4364-AFF0-4C1E5D18AEEE}" type="slidenum">
              <a:rPr b="0" lang="ar-SA" sz="1200" spc="-1" strike="noStrike">
                <a:solidFill>
                  <a:srgbClr val="d1eaee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89E8-6E5B-4B69-A325-852798BFA4C4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AB74-57A5-4007-A676-3C4357A48047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E255-0FF9-4A03-8D76-3D819FA90B54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324B-5E1B-47FE-8F1D-0907D3F3EF41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EFEC-6A2C-4186-865D-6C98199EA7CE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20"/>
          <p:cNvSpPr txBox="1"/>
          <p:nvPr/>
        </p:nvSpPr>
        <p:spPr>
          <a:xfrm>
            <a:off x="-468360" y="2276640"/>
            <a:ext cx="88092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+mn-cs"/>
              </a:rPr>
              <a:t>بسم الله الرحمن الرحیم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cc66"/>
                </a:solidFill>
                <a:latin typeface="Calibri"/>
                <a:cs typeface="B Titr"/>
              </a:rPr>
              <a:t>دوره کمون بيماری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onstantia"/>
                <a:cs typeface="B Nazanin"/>
              </a:rPr>
              <a:t>بستگي به راه ورود دارد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(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cs typeface="B Nazanin"/>
              </a:rPr>
              <a:t>گزش كنه: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1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cs typeface="B Nazanin"/>
              </a:rPr>
              <a:t>تا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3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 روز وحداكثر 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(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cs typeface="B Nazanin"/>
              </a:rPr>
              <a:t>تماس با بافتها و خون آلوده 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5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 تا 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6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 روز و حداكثر 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13</a:t>
            </a:r>
            <a:r>
              <a:rPr b="0" lang="fa-IR" sz="4400" spc="-1" strike="noStrike">
                <a:solidFill>
                  <a:srgbClr val="000000"/>
                </a:solidFill>
                <a:latin typeface="Constantia"/>
                <a:ea typeface="B Nazanin"/>
              </a:rPr>
              <a:t> روز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cc66"/>
                </a:solidFill>
                <a:latin typeface="Calibri"/>
                <a:cs typeface="B Titr"/>
              </a:rPr>
              <a:t>علائم بيماری در انسا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23640" y="2000160"/>
            <a:ext cx="8569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onstantia"/>
                <a:ea typeface="B Nazanin"/>
              </a:rPr>
              <a:t> تب ناگهانی، بدن درد، کوفتگی، ضعف، سردرد، درد شدید عضلات، بی اشتهایی، درد پشت حدقه چشم، ترس از نور، تهوع، استفراغ، گلودرد،  دل درد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onstantia"/>
                <a:ea typeface="B Nazanin"/>
              </a:rPr>
              <a:t> تغييرات خلقی مثل بيقراری و افسردگ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onstantia"/>
                <a:ea typeface="B Nazanin"/>
              </a:rPr>
              <a:t> علائم خونريزی از روز</a:t>
            </a:r>
            <a:r>
              <a:rPr b="0" lang="fa-IR" sz="4000" spc="-1" strike="noStrike">
                <a:solidFill>
                  <a:srgbClr val="ff3300"/>
                </a:solidFill>
                <a:latin typeface="Constantia"/>
                <a:ea typeface="B Nazanin"/>
              </a:rPr>
              <a:t> </a:t>
            </a:r>
            <a:r>
              <a:rPr b="0" lang="fa-IR" sz="4000" spc="-1" strike="noStrike" u="sng">
                <a:solidFill>
                  <a:srgbClr val="ff3300"/>
                </a:solidFill>
                <a:uFillTx/>
                <a:latin typeface="Constantia"/>
                <a:ea typeface="B Nazanin"/>
              </a:rPr>
              <a:t>3</a:t>
            </a:r>
            <a:r>
              <a:rPr b="0" lang="fa-IR" sz="4000" spc="-1" strike="noStrike" u="sng">
                <a:solidFill>
                  <a:srgbClr val="ff3300"/>
                </a:solidFill>
                <a:uFillTx/>
                <a:latin typeface="Constantia"/>
                <a:cs typeface="B Nazanin"/>
              </a:rPr>
              <a:t>تا </a:t>
            </a:r>
            <a:r>
              <a:rPr b="0" lang="fa-IR" sz="4000" spc="-1" strike="noStrike" u="sng">
                <a:solidFill>
                  <a:srgbClr val="ff3300"/>
                </a:solidFill>
                <a:uFillTx/>
                <a:latin typeface="Constantia"/>
                <a:ea typeface="B Nazanin"/>
              </a:rPr>
              <a:t>6</a:t>
            </a:r>
            <a:r>
              <a:rPr b="0" lang="fa-IR" sz="4000" spc="-1" strike="noStrike">
                <a:solidFill>
                  <a:srgbClr val="000000"/>
                </a:solidFill>
                <a:latin typeface="Constantia"/>
                <a:ea typeface="B Nazanin"/>
              </a:rPr>
              <a:t> شروع ميشود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ghg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7" descr=""/>
          <p:cNvPicPr/>
          <p:nvPr/>
        </p:nvPicPr>
        <p:blipFill>
          <a:blip r:embed="rId1"/>
          <a:stretch/>
        </p:blipFill>
        <p:spPr>
          <a:xfrm>
            <a:off x="0" y="765000"/>
            <a:ext cx="4608360" cy="431964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4500360" y="765000"/>
            <a:ext cx="4392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901"/>
              </a:spcBef>
              <a:buClr>
                <a:srgbClr val="ffcc6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Nazanin"/>
              </a:rPr>
              <a:t>خونريزی در مخاط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901"/>
              </a:spcBef>
              <a:buClr>
                <a:srgbClr val="ffcc6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Nazanin"/>
              </a:rPr>
              <a:t>خونريزی از اعضای مختلف بدن مثل بينی، لثه، مجاری ادراری، روده، رحم و..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e2d700"/>
                </a:solidFill>
                <a:latin typeface="Calibri"/>
                <a:cs typeface="Tahoma"/>
              </a:rPr>
              <a:t>پیشگیری بیماری در انسا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جدا نگاه داشتن جايگاه دام از محل زندگ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خودداری از له کردن کنه با دست يا روی بدن دا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خودداری از تماس بدن با ترشحات و خون دا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خودداری از کشتار دام در محلهای غير مجا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تهيه گوشت مورد نياز از محلهای مطمئن و تحت نظارت دامپزشک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نگهداری گوشت تازه به مدت 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24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 ساعت در يخچال وسپس استفاده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رعايت اصول ايمنی درموقع تماس باگوشت تازه،جگر،احشائ دا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e2d700"/>
                </a:solidFill>
                <a:latin typeface="Calibri"/>
                <a:cs typeface="Tahoma"/>
              </a:rPr>
              <a:t>پیشگیری از بیماری در انسان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Tahoma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Mitra"/>
              </a:rPr>
              <a:t>روشهای حفاظت شخصی در تماس با ترشحات و خون حيوان (پوشيدن دستکش ، لباس بلند ، چکمه ، ماسک و عينک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Mitra"/>
              </a:rPr>
              <a:t>روشهای حفاظت شخصی از گزش کنه و حشرات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Mitra"/>
              </a:rPr>
              <a:t>خودداری از رفت و آمد در محلهای کشتار غير مجا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Mitra"/>
              </a:rPr>
              <a:t>اجتناب از خوردن جگر خام ونيم پخته ، نگهداری جگر ، قلب ، کليه به مدت </a:t>
            </a:r>
            <a:r>
              <a:rPr b="0" lang="fa-IR" sz="3600" spc="-1" strike="noStrike">
                <a:solidFill>
                  <a:srgbClr val="000000"/>
                </a:solidFill>
                <a:latin typeface="Constantia"/>
                <a:ea typeface="B Mitra"/>
              </a:rPr>
              <a:t>48</a:t>
            </a:r>
            <a:r>
              <a:rPr b="0" lang="fa-IR" sz="3600" spc="-1" strike="noStrike">
                <a:solidFill>
                  <a:srgbClr val="000000"/>
                </a:solidFill>
                <a:latin typeface="Constantia"/>
                <a:ea typeface="B Mitra"/>
              </a:rPr>
              <a:t> ساعت در يخچال و سپس استفاده از آن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Mitra"/>
              </a:rPr>
              <a:t>آموزش افراد در معرض خطرواطلاع رسانی عموم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500" spc="-1" strike="noStrike">
                <a:solidFill>
                  <a:srgbClr val="04617b"/>
                </a:solidFill>
                <a:latin typeface="Calibri"/>
                <a:ea typeface="Tahoma"/>
              </a:rPr>
              <a:t> </a:t>
            </a:r>
            <a:r>
              <a:rPr b="0" lang="fa-IR" sz="2900" spc="-1" strike="noStrike">
                <a:solidFill>
                  <a:srgbClr val="04617b"/>
                </a:solidFill>
                <a:latin typeface="Calibri"/>
                <a:cs typeface="Tahoma"/>
              </a:rPr>
              <a:t>انتقال از طریق کشتار غیر مجاز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8" name="Picture 6" descr="DSC00501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457200" y="285840"/>
            <a:ext cx="82296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onstantia"/>
                <a:cs typeface="Majalla UI"/>
              </a:rPr>
              <a:t>در انتها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يماري يك بيماري خونريزي دهنده تب دار حاد است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فونت پس از گزش كنه  الوده (هيالوما) يا له كردن در انسان ايجاد  مي شود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ين بيماري در حيوانات اهلي هيچ گونه علايم مشخصي ندارد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خطر انتقال در طي مراح ذبح و تماس با لاشه،خون،بزاق،ادرار،مدفوع و استفراغ حيوان آلوده وجود دارد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يمار در طي مدتي كه در بيمارستان بستري است به شدت براي ديگران آلوده كننده است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فرادي كه بيشتر در معرض خطر اند:دامداران،كشاورزان،دامپزشكان،كاركنان بهداشتي درماني،كارگران كشتارگاهه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ه مدت </a:t>
            </a:r>
            <a:r>
              <a:rPr b="0" lang="fa-IR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4</a:t>
            </a:r>
            <a:r>
              <a:rPr b="0" lang="fa-IR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اعت لاشه دام در يخچال نگهداري شود وبا پوشيدن دستكش قطعه قطعه شود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WordArt 7"/>
          <p:cNvSpPr txBox="1"/>
          <p:nvPr/>
        </p:nvSpPr>
        <p:spPr>
          <a:xfrm>
            <a:off x="2124000" y="765000"/>
            <a:ext cx="5143680" cy="382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تب خونریزی دهنده </a:t>
            </a:r>
            <a:endParaRPr b="1" i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کریمه کنگو </a:t>
            </a:r>
            <a:endParaRPr b="1" i="1" lang="en-US" sz="7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697" name="WordArt 9"/>
          <p:cNvSpPr txBox="1"/>
          <p:nvPr/>
        </p:nvSpPr>
        <p:spPr>
          <a:xfrm>
            <a:off x="3780000" y="5300640"/>
            <a:ext cx="1904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CCHF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748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cc66"/>
                </a:solidFill>
                <a:latin typeface="Calibri"/>
                <a:cs typeface="B Titr"/>
              </a:rPr>
              <a:t>تـاريخچه </a:t>
            </a:r>
            <a:r>
              <a:rPr b="0" lang="fa-IR" sz="5400" spc="-1" strike="noStrike">
                <a:solidFill>
                  <a:srgbClr val="e2d700"/>
                </a:solidFill>
                <a:latin typeface="Calibri"/>
                <a:cs typeface="B Titr"/>
              </a:rPr>
              <a:t>بيـماری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اولين بار درسال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1944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- 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1945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ابتلای 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200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 نفر در شبه جزيره کريمه در اوکراین(اتحاد جماهير شوروی سابق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1956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 کشف علائم مشابه در کشور کنگو (زئي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B Mitra"/>
              </a:rPr>
              <a:t>Zair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) در قاره آفريقا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درايران،اولين بار در سال 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1978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 در مطالعه بر روی کنه های جدا شده از دام ها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Mitra"/>
              </a:rPr>
              <a:t>امروزه در اکثر کشور های همسايه ايران مثل عراق، پاکستان،افغانستان،ترکيه،کشورهای عربی و...بيماری شايع می باشد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Mitra"/>
              </a:rPr>
              <a:t> درايران طی چند سال اخيردراستانهای خوزستان،بوشهر،چهارمحال بختياری، سيستان و بلوچستان،آذربايجان غربی،يزد،کرمان،تهران،اصفهان و فارس گزارش شده است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500" spc="-1" strike="noStrike">
                <a:solidFill>
                  <a:srgbClr val="ffcc66"/>
                </a:solidFill>
                <a:latin typeface="Calibri"/>
                <a:cs typeface="B Titr"/>
              </a:rPr>
              <a:t>انتقال به دام                                 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00720" y="1628640"/>
            <a:ext cx="4176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onstantia"/>
                <a:cs typeface="B Nazanin"/>
              </a:rPr>
              <a:t>انتقال از طريق گزش کنه ای از گونه </a:t>
            </a:r>
            <a:r>
              <a:rPr b="0" lang="fa-IR" sz="3000" spc="-1" strike="noStrike" u="sng">
                <a:solidFill>
                  <a:srgbClr val="ffcc66"/>
                </a:solidFill>
                <a:uFillTx/>
                <a:latin typeface="Constantia"/>
                <a:cs typeface="B Nazanin"/>
              </a:rPr>
              <a:t>هيالوما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 u="sng">
                <a:solidFill>
                  <a:srgbClr val="ffcc66"/>
                </a:solidFill>
                <a:uFillTx/>
                <a:latin typeface="Constantia"/>
                <a:cs typeface="B Nazanin"/>
              </a:rPr>
              <a:t>انتقال ازطريق تماس باخون  يا ترشحات مبتلايان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3" name="Picture 10" descr=""/>
          <p:cNvPicPr/>
          <p:nvPr/>
        </p:nvPicPr>
        <p:blipFill>
          <a:blip r:embed="rId1"/>
          <a:stretch/>
        </p:blipFill>
        <p:spPr>
          <a:xfrm>
            <a:off x="0" y="1928880"/>
            <a:ext cx="45007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Tahoma"/>
              </a:rPr>
              <a:t>انتقال به انسا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0" y="1904760"/>
            <a:ext cx="8686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Tahoma"/>
              </a:rPr>
              <a:t>انتقال از طریق گزش کنه آلود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Tahoma"/>
              </a:rPr>
              <a:t>ازطریق  له کردن کن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Tahoma"/>
              </a:rPr>
              <a:t>تماس مستقیم با لاشه گوشت ،خون،ترشحات وبافتهای آلود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Tahoma"/>
              </a:rPr>
              <a:t>تماس باترشحات ،خون،استفراغ،ادرار،بزا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Tahoma"/>
              </a:rPr>
              <a:t>مخزن بیمار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onstantia"/>
                <a:cs typeface="Tahoma"/>
              </a:rPr>
              <a:t>مهرداران کوچک:موش،خرگوش،سنجاب،جوجه تیغی و گاو و گوسفند و ....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onstantia"/>
                <a:cs typeface="Tahoma"/>
              </a:rPr>
              <a:t>دامهایی که دارای عامل بیماری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ahoma"/>
              </a:rPr>
              <a:t>cchf</a:t>
            </a:r>
            <a:r>
              <a:rPr b="1" lang="fa-IR" sz="2800" spc="-1" strike="noStrike">
                <a:solidFill>
                  <a:srgbClr val="000000"/>
                </a:solidFill>
                <a:latin typeface="Constantia"/>
                <a:ea typeface="Tahoma"/>
              </a:rPr>
              <a:t> هستند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99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Tahoma"/>
              </a:rPr>
              <a:t>چرخه بیمار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09" name="Picture 4" descr="untitledgjhgj"/>
          <p:cNvPicPr/>
          <p:nvPr/>
        </p:nvPicPr>
        <p:blipFill>
          <a:blip r:embed="rId1"/>
          <a:stretch/>
        </p:blipFill>
        <p:spPr>
          <a:xfrm>
            <a:off x="2171880" y="268128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gfd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ffcc66"/>
                </a:solidFill>
                <a:latin typeface="Calibri"/>
                <a:cs typeface="B Titr"/>
              </a:rPr>
              <a:t>گروههای در معرض خطر     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-560880" algn="r" rtl="1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onstantia"/>
                <a:cs typeface="B Nazanin"/>
              </a:rPr>
              <a:t>همه افراد جامعه احتمال ابتلا به بیماری را دارند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60880" indent="-560880" algn="r" rtl="1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onstantia"/>
                <a:cs typeface="B Nazanin"/>
              </a:rPr>
              <a:t>گروه پر خطر شامل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491040" algn="r" rtl="1">
              <a:spcBef>
                <a:spcPts val="901"/>
              </a:spcBef>
              <a:buClr>
                <a:srgbClr val="ffcc6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Nazanin"/>
              </a:rPr>
              <a:t>دامداران ،چوبداران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491040" algn="r" rtl="1">
              <a:spcBef>
                <a:spcPts val="901"/>
              </a:spcBef>
              <a:buClr>
                <a:srgbClr val="ffcc6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Nazanin"/>
              </a:rPr>
              <a:t>دامپزشکان وکارکنان دامپزشک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491040" algn="r" rtl="1">
              <a:spcBef>
                <a:spcPts val="901"/>
              </a:spcBef>
              <a:buClr>
                <a:srgbClr val="ffcc6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ea typeface="B Nazanin"/>
              </a:rPr>
              <a:t> سلاخان ، قصابان وکارکنان کشتارگاه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491040" algn="r" rtl="1">
              <a:spcBef>
                <a:spcPts val="901"/>
              </a:spcBef>
              <a:buClr>
                <a:srgbClr val="ffcc6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Nazanin"/>
              </a:rPr>
              <a:t>پزشکان ،پرستاران،بهیاران وکارکنان بیمارستان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491040" algn="r" rtl="1">
              <a:spcBef>
                <a:spcPts val="901"/>
              </a:spcBef>
              <a:buClr>
                <a:srgbClr val="ffcc6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onstantia"/>
                <a:cs typeface="B Nazanin"/>
              </a:rPr>
              <a:t>کارکنان رستورانها وکبابی ها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7T08:19:43Z</dcterms:created>
  <dc:creator>Dr-Kiani</dc:creator>
  <dc:description/>
  <dc:language>en-US</dc:language>
  <cp:lastModifiedBy>A.R.I</cp:lastModifiedBy>
  <dcterms:modified xsi:type="dcterms:W3CDTF">2023-07-20T06:31:17Z</dcterms:modified>
  <cp:revision>50</cp:revision>
  <dc:subject>تب هموراژیک کریمه کنگو</dc:subject>
  <dc:title>CCHF</dc:title>
</cp:coreProperties>
</file>